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8E3C-C9DC-44E6-A904-F36454144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380B-761B-45F8-8B33-3D885F7D7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016-BC09-41C5-BD0A-41742A31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3D9-709E-4F41-B6C8-A69CD440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01E-01C0-405E-BE18-8C33D9D0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C93-B60D-40B2-8389-6C405018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E44-2B4E-4A3B-B04F-8E8EF898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1A2-A64F-491C-9DAF-CDB84B30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6D3B-9D23-4051-9232-18FDDF06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35BD-6DD3-4CD8-B983-A8470C5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EDF-E9C3-4A87-B914-0954B804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A3D5-D33E-4BD2-B71A-0D72347B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B2D-C71F-43B5-BB9D-F0F01FA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30A-8370-416F-B91C-55DBDA2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A8F0-9455-45FD-A0EE-82B8964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0A1-6907-4162-BD77-633C240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EB4A-05A1-4E4D-B3D2-76668E80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A0B2-7BCF-43D3-8C9C-333C07DA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B7A4-7A98-42FD-979D-0771A6D2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CBC-8E6E-40E3-A479-6AFDFFD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E6C-5EDF-4E40-A668-3CBF75F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40F-3520-4952-BC3D-B726CDB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CDB-9CDA-4D00-B0E7-C06DEEA4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8C0-6C5D-436C-A875-7145EF8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070-BB69-48DE-9412-616AD6A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ED8-40B7-4FDD-9D0B-93F44066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B41-EE38-43D2-9A83-6A540CEAFD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0B3-EBED-4508-BEBD-49D389146C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705-14DC-4542-9BE1-7CDCB14929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What values will the following Do While loops output to the list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gt;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lt;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*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Write a Do…Loop Until that loops counting backwards from 10 to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571-C660-4836-BBDF-192968056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repeti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3 main types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 While…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…Loop Un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ain difference between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A LO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loop is a section of code that may be repeatedly executed. The loop contains a Boolean condition that will determine when it term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Bool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oolean is a data type; a Boolean value can only be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7D68-2248-429D-AE48-5776BECBB0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ypes of Loo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Next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a specified nu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imes.  So if we wanted to do a task 1000 times, this kind of loop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le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until a certain condition is met, that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may be met on the first attempt or on the thousandth, w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y don’t know! For example we might want to delete all in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a video club so long as there are any left to del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the code once then continues until a certain condition is me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 a student may study one or more modules and e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needs a start date.  Since a student must have at least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we are guaranteed to do at least one item of processing, b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know how many modules a student is studying so the loo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end only when all modules are proces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255-B4CD-4970-B528-5D047F9C0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DO WHILE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While &lt;&lt;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these – repeated program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828-86C6-4629-9CEB-6C2460584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7ff"/>
                </a:solidFill>
                <a:latin typeface="Arial"/>
              </a:rPr>
              <a:t>What is wrong with the following?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Do…Loop Unt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ment(s) = body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p Until &lt;&lt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ifferences between the two loop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5054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5467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3:44:04Z</dcterms:modified>
  <cp:revision>45</cp:revision>
  <dc:subject/>
  <dc:title>Computer Platforms Week 1</dc:title>
</cp:coreProperties>
</file>