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F67-6380-4761-9B3B-669D301435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53E-3558-444B-A099-90B826C49F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9CC-F983-4177-9B33-99325DCA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597-0031-42D9-9434-0D66D7D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CD4-2C17-4EFC-8825-FF967CFA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139-419C-49CE-8F4B-12D3E2E5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2651-FFEC-4444-BE24-9C6C375E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932-80E0-468F-A5C0-3807FED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AB9C-F8C7-4F60-B840-3EECC6DB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22CD-00CD-42F9-A88A-63F5914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05A-31E9-4138-A6CD-CA2AC3B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8D8D-96A1-421A-9FCA-1AFDF00E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48E-43BD-4124-A828-CC4179E2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8B7-FF72-4F20-B711-71805090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D458-69B5-42CA-9A9A-E3A2F93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8E1C-145E-4790-B759-80624977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9ED4-FFFE-42FB-B08E-136CCD2B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3F66-FAB7-4124-94A2-9DDC12D4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D2BB-9246-4169-9BC1-D26BF340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2B9-B7F3-4198-9B30-1BFC4175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A39-5955-4FA2-A2C3-9B22CBE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491-9BCD-4293-AA29-E4DE3F1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DED-AE1E-427D-BC9C-007DB56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B60-D885-430B-8A60-C23A48E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1E1-ECB3-4542-AEA2-6191BE7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C4C-87DF-4B5E-A77A-C106157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53A-CBBF-4B07-84EE-FD780A165C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C25E-89A2-47D2-9237-7EEE7104E2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E7E0-724B-4680-8C62-9B5C166EC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What values will the following Do While loops output to the list bo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gt;=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While Counter &lt;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er = Counter *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stMyList.Items.Add(Coun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Write a Do…Loop Until that loops counting backwards from 10 to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485A-80A0-47D0-A255-39D838ABF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principles of repetition in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the 3 main types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 While…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and use of the Do…Loop Unt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ain difference between th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A LOO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Lo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loop is a section of code that may be repeatedly executed. The loop contains a Boolean condition that will determine when it termin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hat is a Boole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oolean is a data type; a Boolean value can only be true or fal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61E3-36DA-4AC9-BB43-24CABD7DA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ypes of Loop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Next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a specified numb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times.  So if we wanted to do a task 1000 times, this kind of loop i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le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a section of code until a certain condition is met, that is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ition may be met on the first attempt or on the thousandth, w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y don’t know! For example we might want to delete all inac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 of a video club so long as there are any left to del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Lo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i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ats the code once then continues until a certain condition is met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example a student may study one or more modules and eac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needs a start date.  Since a student must have at least o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ule we are guaranteed to do at least one item of processing, b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know how many modules a student is studying so the loo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end only when all modules are process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0496-25CA-40A2-802F-FE226979E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DO WHILE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While &lt;&lt;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 these – repeated program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-----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E26-22CE-4616-81AF-FB2678BF2D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7ff"/>
                </a:solidFill>
                <a:latin typeface="Arial"/>
              </a:rPr>
              <a:t>What is wrong with the following?</a:t>
            </a:r>
            <a:endParaRPr b="0" lang="en-US" sz="3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ter = Counter -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bout thi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Do…Loop Unti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ment(s) = body of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--------------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p Until &lt;&lt;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dition&gt;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ifferences between the two loop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5054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54673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3:44:04Z</dcterms:modified>
  <cp:revision>45</cp:revision>
  <dc:subject/>
  <dc:title>Computer Platforms Week 1</dc:title>
</cp:coreProperties>
</file>