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0F1F-8886-43DE-B5F8-D5C1CF3A37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AB18-4402-47C2-BCFA-B4F6D6422A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C331-320F-4A12-8C4F-5081958F6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06CE-4DB4-49C8-A9ED-859DE928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FF47-5AE7-4B2D-A113-E1517EC0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507A-0EAB-4615-A408-E099BEC2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FBDC-FF54-4ABD-BC42-5B82167FB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15FA-BF65-46B3-A846-CDBA9DDC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7F23-980C-4299-9009-ECA5DF48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B863-2D11-4AE9-AAF1-4159EE3F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9291-C041-468B-B94C-FBB154E1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1ED6-7BC7-4D46-B197-FCF7C4D4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7022-FBC8-48EA-A1DF-93B24417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5719-2721-4964-B2C7-41ECC4FF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A7A4-6FEC-4490-8A7F-06B812B0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A9DE-9E81-4514-8B38-CC2B9170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2EC8-ECAD-4E58-9664-4160FDCE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60D7-0528-4224-887A-0690CF088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0A17-72E7-4991-A295-70581CAD1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35FF-8A5A-41A6-8EB6-DD27DAA1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F55E-729F-4170-9300-6B5BDA17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F7EC-6117-40AD-A9E2-18B3A757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89D2-9D70-4FFF-ACC5-24BD929B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04E8-A800-468B-A207-D12A83D8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2184-BAF3-413C-B282-96A1AE7A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E95A-28B9-41E3-9DB1-1F905054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690E-06BE-4CD3-954C-5B93A9727D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8C63-A8A8-49C1-979A-66E98B627B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33E9-2EB0-42DE-B2EA-4D190A3253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Arial"/>
              </a:rPr>
              <a:t>Principles of Software Design and Development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51000" y="3908160"/>
            <a:ext cx="6642000" cy="17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OPS / REPIT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. What values will the following Do While loops output to the list bo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unter =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 While Counter &gt;=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unter = Counter -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stMyList.Items.Add(Coun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unter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 While Counter &lt; 1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unter = Counter *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stMyList.Items.Add(Coun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Write a Do…Loop Until that loops counting backwards from 10 to 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0CA9-94EA-4131-B05A-7BDE4E2E97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the principles of repetition in program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ine the 3 main types of l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at the format and use of the Do While…L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at the format and use of the Do…Loop Unt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main difference between the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539640" y="62064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IS A LOOP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84280"/>
            <a:ext cx="784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hat is a Loop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ogram loop is a section of code that may be repeatedly executed. The loop contains a Boolean condition that will determine when it termina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hat is a Boolea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Boolean is a data type; a Boolean value can only be true or fal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6EF6-312D-4CFC-9BF2-DE55ABCCED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Types of Loop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pe 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Next Lo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i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eats a section of code a specified numb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times.  So if we wanted to do a task 1000 times, this kind of loop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pe 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le Lo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i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eats a section of code until a certain condition is met, that is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dition may be met on the first attempt or on the thousandth, w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y don’t know! For example we might want to delete all inacti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ers of a video club so long as there are any left to dele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pe 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 Lo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i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eats the code once then continues until a certain condition is met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 a student may study one or more modules and eac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ule needs a start date.  Since a student must have at least on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ule we are guaranteed to do at least one item of processing, bu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don’t know how many modules a student is studying so the loo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 end only when all modules are process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E90F-9864-44F6-B274-08D822C520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The DO WHILE Loo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 While &lt;&lt;condition&gt;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 these – repeated program stat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----------------------------------------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or example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ounter = 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 While Counter &lt; 1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ounter = Counter + 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0DAF-0EF8-4BF7-8D86-1BA565970F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7e7ff"/>
                </a:solidFill>
                <a:latin typeface="Arial"/>
              </a:rPr>
              <a:t>What is wrong with the following?</a:t>
            </a:r>
            <a:endParaRPr b="0" lang="en-US" sz="3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unter =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o While Counter &lt;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unter = Counter -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at about this one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er =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While Counter &lt;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Do…Loop Unti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483920"/>
            <a:ext cx="854064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ement(s) = body of l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----------------------------------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op Until &lt;&lt;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ondition&gt;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unter 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unter = Counter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op Until Counter &gt;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Differences between the two loops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1835280" y="1844640"/>
            <a:ext cx="550548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"/>
          <p:cNvPicPr/>
          <p:nvPr/>
        </p:nvPicPr>
        <p:blipFill>
          <a:blip r:embed="rId3"/>
          <a:stretch/>
        </p:blipFill>
        <p:spPr>
          <a:xfrm>
            <a:off x="1835280" y="4076640"/>
            <a:ext cx="54673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david.bell</cp:lastModifiedBy>
  <dcterms:modified xsi:type="dcterms:W3CDTF">2010-02-22T13:44:04Z</dcterms:modified>
  <cp:revision>45</cp:revision>
  <dc:subject/>
  <dc:title>Computer Platforms Week 1</dc:title>
</cp:coreProperties>
</file>