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275B-2AC0-473D-8189-8C0A31F9ED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0F0C-CB4C-40FA-8B81-576CBF5EA8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FB12-A307-43AF-B543-500022D87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5476-0E29-4CE3-AFB3-676DF0CE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FA2D-833B-4E50-9376-5ABF7D4E5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E3AF-820A-49A5-9C93-FFADC4443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ED93-D348-4454-9668-4E61DD02F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2A6D-54E5-4634-94EE-BD19BA50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11C5-EDFA-4B40-9E7A-A3D232A2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5D45-6E58-4EF6-8106-043FC5CB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0301-CD04-4DEE-94A5-530C6914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A1271-5D23-4B45-99E1-B2E0B0DD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4C990-001B-4D18-A9BC-E5C4D9F9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B8DF-8A97-4899-940D-70BF9CB7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B8FD-60FB-4DEF-A287-EA0B19F3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68D0-C102-4FB4-A211-A3D07423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CEA04-F3D1-45EA-AF09-3CF74CDD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EC9E-9A7F-42B6-A375-AA1C4FE27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6B816-2AC7-4277-AA9F-C800A1859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DC42-1902-4395-B267-2F3251A8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8501-0564-447D-A61A-F27D5934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0CF8-CC3C-4AC8-BE9D-E68E4FAA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5D4D-1D80-4F21-A741-CD7BEB5E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12A6-9CF5-43BC-AA8A-F0E19FFA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F9E1-B2FB-42B2-921B-AAE8F963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E0F6-DC2C-48A2-9ED7-BC445136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50E9-79D2-42FF-BCAE-92F1A2E910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C359-10B0-4CAF-8789-86B6981944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D7D6-1C2E-4829-93DD-DB8FD15F3D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7ff"/>
                </a:solidFill>
                <a:latin typeface="Arial"/>
              </a:rPr>
              <a:t>Principles of Software Design and Development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51000" y="3908160"/>
            <a:ext cx="6642000" cy="17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OPS / REPIT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. What values will the following Do While loops output to the list bo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m Counter As Inte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unter =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 While Counter &gt;=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unter = Counter -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stMyList.Items.Add(Coun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o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m Counter as Inte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unter 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 While Counter &lt; 1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unter = Counter *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stMyList.Items.Add(Coun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o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 Write a Do…Loop Until that loops counting backwards from 10 to 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96F5-E713-4F32-B9DB-CC82B71D5C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the principles of repetition in program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ine the 3 main types of lo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 at the format and use of the Do While…Lo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 at the format and use of the Do…Loop Unt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main difference between the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539640" y="62064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IS A LOOP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484280"/>
            <a:ext cx="784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hat is a Loop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rogram loop is a section of code that may be repeatedly executed. The loop contains a Boolean condition that will determine when it termina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hat is a Boolea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Boolean is a data type; a Boolean value can only be true or fal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8D0C-C7EE-4978-9844-442CC5F388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Types of Loop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ype 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Next Lo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gi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peats a section of code a specified numb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times.  So if we wanted to do a task 1000 times, this kind of loop i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ype 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le Lo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gi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peats a section of code until a certain condition is met, that is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dition may be met on the first attempt or on the thousandth, w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y don’t know! For example we might want to delete all inacti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bers of a video club so long as there are any left to dele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ype 3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 Lo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gi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peats the code once then continues until a certain condition is met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xample a student may study one or more modules and eac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ule needs a start date.  Since a student must have at least on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ule we are guaranteed to do at least one item of processing, bu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don’t know how many modules a student is studying so the loo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ll end only when all modules are process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BE73-48F6-4ADF-B4E5-D0D9ABE0B7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The DO WHILE Loo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o While &lt;&lt;condition&gt;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o these – repeated program stat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----------------------------------------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o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For example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im Counter as Integ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Counter = 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 While Counter &lt; 1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Counter = Counter + 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Loo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3606-979B-4A55-B2FC-F344D1B4B7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7e7ff"/>
                </a:solidFill>
                <a:latin typeface="Arial"/>
              </a:rPr>
              <a:t>What is wrong with the following?</a:t>
            </a:r>
            <a:endParaRPr b="0" lang="en-US" sz="3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m Counter as Inte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unter =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o While Counter &lt;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unter = Counter -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o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hat about this one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m Counter as Inte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nter =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While Counter &lt;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e Do…Loop Unti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483920"/>
            <a:ext cx="854064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tement(s) = body of lo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----------------------------------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op Until &lt;&lt;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ondition&gt;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 Counter as Inte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unter =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unter = Counter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op Until Counter &gt;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Differences between the two loops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2"/>
          <a:stretch/>
        </p:blipFill>
        <p:spPr>
          <a:xfrm>
            <a:off x="1835280" y="1844640"/>
            <a:ext cx="550548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"/>
          <p:cNvPicPr/>
          <p:nvPr/>
        </p:nvPicPr>
        <p:blipFill>
          <a:blip r:embed="rId3"/>
          <a:stretch/>
        </p:blipFill>
        <p:spPr>
          <a:xfrm>
            <a:off x="1835280" y="4076640"/>
            <a:ext cx="54673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david.bell</cp:lastModifiedBy>
  <dcterms:modified xsi:type="dcterms:W3CDTF">2010-02-22T13:44:04Z</dcterms:modified>
  <cp:revision>45</cp:revision>
  <dc:subject/>
  <dc:title>Computer Platforms Week 1</dc:title>
</cp:coreProperties>
</file>