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3A1-18CE-4733-B0E3-B4FB7041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804-3188-4238-8BAF-394294E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D58-4D76-4827-AFED-C89E3998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D92-1169-43EE-A183-202ABA4A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B1D4-CB14-4EB0-AE2B-EDD81258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C944-DFA5-47AD-885C-7A1C2457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DCA3-07FA-4C3C-9EAB-4B3FE266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7D3E-75C9-4FC9-A13A-B7B2481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062D-008D-4ED5-9C83-25EB8115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1FFE-EB55-4D4F-8F4D-D361F6A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25CD-9BF0-4299-B7A9-59E799F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759-19AB-4EF2-860F-C8DFE0A8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37DD-8325-4E16-9010-3C8E07B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4FE5-9B08-473E-897E-F09964B0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877D-402C-4F22-B79D-7069A9D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1213-BA5E-47D3-B129-A6EF5B36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8990-0A37-428F-A619-AC3D19C3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3DE-A58D-4343-ADFF-73DA789C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778-E1DA-4EAF-8D51-358CB39F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7CC-9272-4D24-8519-4C3A866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D33-4536-430C-BAAB-90BF56EB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B2D-1D44-4DCA-B1F3-ADA16A68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A4B-5018-439C-BCD5-F2530AD6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674-2186-4C16-8150-393417C9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D36A-3550-4D3B-9F52-06402E5DB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C537-D7EC-41D6-B634-141AF2C8E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icrosoft.com/library/media/1033/midsizebusiness/images/sam/sap.jpg&amp;imgrefurl=http://www.microsoft.com/midsizebusiness/sam/software-licensing-compliance.mspx&amp;h=24&amp;w=257&amp;sz=8&amp;hl=en&amp;start=38&amp;usg=__MEW6ZcTmOCAlURctN4SPu3Oer84=&amp;tbnid=LCB74gvKiMvVwM:&amp;tbnh=10&amp;tbnw=112&amp;prev=/images%3Fq%3Dsoftware%2Bacquisition%2Bpolicy%26start%3D2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artoonstock.com/lowres/jmo2036l.jpg&amp;imgrefurl=http://www.cartoonstock.com/directory/r/requirements.asp&amp;h=325&amp;w=400&amp;sz=29&amp;hl=en&amp;start=40&amp;usg=__uQgPQvK6NB4Pq42pE9Rlh373i4I=&amp;tbnid=vjssP-6twta_fM:&amp;tbnh=101&amp;tbnw=124&amp;prev=/images%3Fq%3Dhiring%2Bpolicy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rownboxsoftware.com/Images/audit01_s.gif&amp;imgrefurl=http://brownboxsoftware.com/Compliance/SOx.aspx&amp;h=300&amp;w=312&amp;sz=4&amp;hl=en&amp;start=10&amp;usg=__LASFv_1nnSqJN7kMw-9nelkqVik=&amp;tbnid=2rInUole-jePiM:&amp;tbnh=113&amp;tbnw=117&amp;prev=/images%3Fq%3Dseparation%2Bof%2Bduties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reenberg-art.com/.Illustrations/.Humorous/qq1sgYellingAtKids.jpg&amp;imgrefurl=http://areluctantmom.blogspot.com/2007/07/disciplinary-dilemma.html&amp;h=456&amp;w=580&amp;sz=77&amp;hl=en&amp;start=3&amp;usg=__obT4QPucz0XRQ_z5bMxzGb6cLCw=&amp;tbnid=pnVPX48vcegW7M:&amp;tbnh=105&amp;tbnw=134&amp;prev=/images%3Fq%3Ddisciplinar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cef.com/uploads/pics/berlin_2007_training.JPG&amp;imgrefurl=http://www.icef.com/training.html&amp;h=363&amp;w=725&amp;sz=64&amp;hl=en&amp;start=164&amp;usg=__mc6U-G4C76p1UJVtLzcSX2eigj8=&amp;tbnid=5jepuM3hVIjX5M:&amp;tbnh=70&amp;tbnw=140&amp;prev=/images%3Fq%3Dtraining%26start%3D16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rryhnetka.com/wordpress/wp-content/1%2520OCTOBER%25202006/e-m-over.jpg&amp;imgrefurl=http://mattonmarketing.blogspot.com/2008_02_01_archive.html&amp;h=415&amp;w=414&amp;sz=82&amp;hl=en&amp;start=59&amp;usg=__F7ZrNgBUvmXgrDYwMy3PtJCk1wo=&amp;tbnid=lAITlqqeu96X1M:&amp;tbnh=125&amp;tbnw=125&amp;prev=/images%3Fq%3Demail%2Busage%2Bpolicy%26start%3D4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yber-sierra.com/workshops/images/s-eat.gif&amp;imgrefurl=http://ulmercenter.wordpress.com/2006/11/03/surfing-on-the-clock-may-come-back-to-haunt-you/&amp;h=225&amp;w=235&amp;sz=5&amp;hl=en&amp;start=20&amp;usg=__i3ogQVLJ_dvJFf9FwIQ4BfedQ8k=&amp;tbnid=WkwPk2CRDQI5TM:&amp;tbnh=104&amp;tbnw=109&amp;prev=/images%3Fq%3Dinternet%2Busage%2Bpolicy%26gbv%3D2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CONTRACT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S OF CON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ftware Acquisition &amp; Installation 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p personal &amp; unlicensed software being installed on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 duplication of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event compatibility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event transmission of worms, viruses &amp; troj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628640"/>
            <a:ext cx="3960720" cy="5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r Area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rage space for a large number of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fine what users cannot store –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rage space will vary according to employee’s r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g software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unt Management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twork 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tain level of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t &amp; updated pass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-sharing – personal det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09564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ity 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s of Conduct &amp; Usage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 through the College IT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ine the example 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k at Professional bodies websites and check for policies / 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would you change or add to the college policy to make usage more secu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to examine a few more policies normally associated with Human Resources and look at how they can incorporate securit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on Polic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ring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tion of Du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iplinary &amp; Investiga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ing &amp;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ring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ruitment / promotion of employ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 not conflict with National Employmen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ring will look at the follow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ployee background &amp; employment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minal record &amp;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assessment or probationary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125360"/>
            <a:ext cx="345600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paration of Duti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not rely on one individual to maintain overall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am members – each have critical duties to man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uties to cover for absence / depar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981000"/>
            <a:ext cx="30240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ciplinary &amp; Investigation Procedur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77240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r, confidential &amp; legally accep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y with set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lse accusations – Legal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te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spension with p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ependent investi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air &amp; impart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lice involvement if criminal mat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268280"/>
            <a:ext cx="2881080" cy="13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ining &amp; Commun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ff must receive the necessary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intain regular communication with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sure awareness of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341360"/>
            <a:ext cx="3816360" cy="15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to sign and agree to a variety of policies.  Rules of the organisation and security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ail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net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ftware Acquisition &amp; Installat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r Area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ount management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mail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unacceptable – sending em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eptable size &amp; type of attac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agement of mailbox 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stalking, harassment, sp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external exchange of corporate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etwork management has the right to monitor all em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197000"/>
            <a:ext cx="280836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sites can be vis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cannot be down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twork management has the right to monitor network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197000"/>
            <a:ext cx="237492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09-30T09:59:56Z</dcterms:modified>
  <cp:revision>252</cp:revision>
  <dc:subject/>
  <dc:title>AVCE – UNIT 14 Project Management</dc:title>
</cp:coreProperties>
</file>