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F8E-4209-419E-BC46-97814C08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4B1-CEFC-44A2-8026-D8CB681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C33-2557-411B-B01A-6BA89D1C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472-A0FE-45A8-8E4F-6F23F08A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416-17D4-44F2-AADB-F2496A86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07A8-5A15-41DD-AFC5-50B8A8A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1B7F-7F79-448F-B25D-E72AE2A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3648-36F4-4C08-9182-365C9B4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A8B5-5DD5-421E-B60D-199E25DF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FEE3-F27E-4D50-9A5C-2F6DF095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818-FAEE-4D3C-AF63-F8447BEB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F4A-AE8E-4FA4-816E-A17B640B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CD6-39FE-4684-9D3A-E07F311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77A-CA5E-4D3E-A507-4323AF1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239E-6301-4115-8B8C-85AA90D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BE93-C459-47BB-BBEF-FCDBE132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01CC-41C0-41E8-959D-00570CD4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0E3-0B72-438B-B50B-C961AE7B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21D-3362-461C-972E-7EF04B7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0BC-E754-44AF-9D66-8226C2D8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5B2-A172-4915-8752-00E7F69A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A5D-8820-4A69-A1A8-E024950D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707-D27C-4F98-BAE0-45F9ADE7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0E6-ACFC-42A9-8BF9-2EF8F3F7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1E9-8C90-464C-8CD2-D7EA6FC52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80D0-DE5F-4D72-9691-AEC2E7902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microsoft.com/library/media/1033/midsizebusiness/images/sam/sap.jpg&amp;imgrefurl=http://www.microsoft.com/midsizebusiness/sam/software-licensing-compliance.mspx&amp;h=24&amp;w=257&amp;sz=8&amp;hl=en&amp;start=38&amp;usg=__MEW6ZcTmOCAlURctN4SPu3Oer84=&amp;tbnid=LCB74gvKiMvVwM:&amp;tbnh=10&amp;tbnw=112&amp;prev=/images%3Fq%3Dsoftware%2Bacquisition%2Bpolicy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artoonstock.com/lowres/jmo2036l.jpg&amp;imgrefurl=http://www.cartoonstock.com/directory/r/requirements.asp&amp;h=325&amp;w=400&amp;sz=29&amp;hl=en&amp;start=40&amp;usg=__uQgPQvK6NB4Pq42pE9Rlh373i4I=&amp;tbnid=vjssP-6twta_fM:&amp;tbnh=101&amp;tbnw=124&amp;prev=/images%3Fq%3Dhiring%2Bpolicy%26start%3D2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brownboxsoftware.com/Images/audit01_s.gif&amp;imgrefurl=http://brownboxsoftware.com/Compliance/SOx.aspx&amp;h=300&amp;w=312&amp;sz=4&amp;hl=en&amp;start=10&amp;usg=__LASFv_1nnSqJN7kMw-9nelkqVik=&amp;tbnid=2rInUole-jePiM:&amp;tbnh=113&amp;tbnw=117&amp;prev=/images%3Fq%3Dseparation%2Bof%2Bduti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reenberg-art.com/.Illustrations/.Humorous/qq1sgYellingAtKids.jpg&amp;imgrefurl=http://areluctantmom.blogspot.com/2007/07/disciplinary-dilemma.html&amp;h=456&amp;w=580&amp;sz=77&amp;hl=en&amp;start=3&amp;usg=__obT4QPucz0XRQ_z5bMxzGb6cLCw=&amp;tbnid=pnVPX48vcegW7M:&amp;tbnh=105&amp;tbnw=134&amp;prev=/images%3Fq%3Ddisciplinary%26gbv%3D2%26hl%3D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cef.com/uploads/pics/berlin_2007_training.JPG&amp;imgrefurl=http://www.icef.com/training.html&amp;h=363&amp;w=725&amp;sz=64&amp;hl=en&amp;start=164&amp;usg=__mc6U-G4C76p1UJVtLzcSX2eigj8=&amp;tbnid=5jepuM3hVIjX5M:&amp;tbnh=70&amp;tbnw=140&amp;prev=/images%3Fq%3Dtraining%26start%3D16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larryhnetka.com/wordpress/wp-content/1%2520OCTOBER%25202006/e-m-over.jpg&amp;imgrefurl=http://mattonmarketing.blogspot.com/2008_02_01_archive.html&amp;h=415&amp;w=414&amp;sz=82&amp;hl=en&amp;start=59&amp;usg=__F7ZrNgBUvmXgrDYwMy3PtJCk1wo=&amp;tbnid=lAITlqqeu96X1M:&amp;tbnh=125&amp;tbnw=125&amp;prev=/images%3Fq%3Demail%2Busage%2Bpolicy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cyber-sierra.com/workshops/images/s-eat.gif&amp;imgrefurl=http://ulmercenter.wordpress.com/2006/11/03/surfing-on-the-clock-may-come-back-to-haunt-you/&amp;h=225&amp;w=235&amp;sz=5&amp;hl=en&amp;start=20&amp;usg=__i3ogQVLJ_dvJFf9FwIQ4BfedQ8k=&amp;tbnid=WkwPk2CRDQI5TM:&amp;tbnh=104&amp;tbnw=109&amp;prev=/images%3Fq%3Dinternet%2Busage%2Bpolicy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GANISATIONAL SYSTEMS SECURITY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it 15 Lecture 7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CONTRACT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ftware Acquisition &amp; Installation 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p personal &amp; unlicensed software being installed on th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 duplication of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compatibility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event transmission of worms, viruses &amp; troj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628640"/>
            <a:ext cx="396072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for a large number of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efine what users cannot store – lim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torage space will vary according to employee’s ro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g software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intain level of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rent &amp; updated pass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n-sharing – personal deta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09564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ivity 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s of Conduct &amp; Usage 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ad through the College I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ine the example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ok at Professional bodies websites and check for policies / 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would you change or add to the college policy to make usage more secu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need to examine a few more policies normally associated with Human Resources and look at how they can incorporate secur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on Poli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ring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ruitment / promotion of employ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st not conflict with National Employment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ring will look at the follow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ployee background &amp; employment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iminal record &amp; re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itial assessment or probationary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125360"/>
            <a:ext cx="3456000" cy="12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paration of Duti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 not rely on one individual to maintain overall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am members – each have critical duties to man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uties to cover for absence / depar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981000"/>
            <a:ext cx="3024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ciplinary &amp; Investigation Procedures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07920"/>
            <a:ext cx="77724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ir, confidential &amp; legally accep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ly with se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accusations – Legal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Ste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uspension with p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ependent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air &amp; impart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lice involvement if criminal ma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268280"/>
            <a:ext cx="2881080" cy="13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raining &amp; Commun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ff must receive the necessary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intain regular communication with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sure awareness of responsi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1341360"/>
            <a:ext cx="3816360" cy="15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f Con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to sign and agree to a variety of policies.  Rules of the organisation and security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ftware Acquisition &amp; Installation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r Area Usage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ount management poli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mail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unacceptable – sending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eptable size &amp; type of attac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of mailbox con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stalking, harassment, sp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external exchange of corporate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network management has the right to monitor all em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197000"/>
            <a:ext cx="280836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Usage Polic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sites can be vis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cannot be down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twork management has the right to monitor network traf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03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71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197000"/>
            <a:ext cx="237492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 Unit 15 - Organisational Systems Security</a:t>
            </a:r>
          </a:p>
        </p:txBody>
      </p:sp>
    </p:spTree>
  </p:cSld>
  <p:transition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09-30T09:59:56Z</dcterms:modified>
  <cp:revision>252</cp:revision>
  <dc:subject/>
  <dc:title>AVCE – UNIT 14 Project Management</dc:title>
</cp:coreProperties>
</file>