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A45-E643-4EEA-8A31-AAF5BCFB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27C-0981-4D7A-95A9-14A7841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E32-2C5E-4685-B65F-37300FA6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435-2F5A-439A-99FE-3E39F29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F7F1-404C-4D35-B114-6644B2E4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C34B-249E-41F7-AC2E-E6E05F2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6B7-A27B-4DAD-8A4C-B5723294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168F-478C-4F56-A4A1-031D1CE3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1262-5F5C-4274-9348-CE55D61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E84-BD57-49F9-8AC7-2B299AC4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14E-900E-477D-B789-A35FB2A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B47-2E21-4D3D-A826-0B45ABB9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47AE-9E7D-4903-8CEC-565AD42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14C-80D6-4C37-9B15-664CA86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906-F190-4C65-9195-84B957D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097F-1737-48A2-9F24-CF5B8F77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4887-783A-4F8F-BB56-6A7C4EBC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5DC-6DD2-4FEF-A9E2-85545044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28F-76CB-46FB-B051-B4367EA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B4E-472E-4B46-957B-47F895E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B8B-0A28-449A-8201-0B2DD938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87B-5E4A-465F-AF2F-A7B571D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BA5-F11A-40F8-8C95-3F7E20C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EDB-FD33-483D-A482-17C5AF5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932-FC90-47C5-AE90-CD5140217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B55-2CEB-4C8F-B8AE-44689C3F1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icrosoft.com/library/media/1033/midsizebusiness/images/sam/sap.jpg&amp;imgrefurl=http://www.microsoft.com/midsizebusiness/sam/software-licensing-compliance.mspx&amp;h=24&amp;w=257&amp;sz=8&amp;hl=en&amp;start=38&amp;usg=__MEW6ZcTmOCAlURctN4SPu3Oer84=&amp;tbnid=LCB74gvKiMvVwM:&amp;tbnh=10&amp;tbnw=112&amp;prev=/images%3Fq%3Dsoftware%2Bacquisition%2Bpolicy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lowres/jmo2036l.jpg&amp;imgrefurl=http://www.cartoonstock.com/directory/r/requirements.asp&amp;h=325&amp;w=400&amp;sz=29&amp;hl=en&amp;start=40&amp;usg=__uQgPQvK6NB4Pq42pE9Rlh373i4I=&amp;tbnid=vjssP-6twta_fM:&amp;tbnh=101&amp;tbnw=124&amp;prev=/images%3Fq%3Dhiring%2Bpolicy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rownboxsoftware.com/Images/audit01_s.gif&amp;imgrefurl=http://brownboxsoftware.com/Compliance/SOx.aspx&amp;h=300&amp;w=312&amp;sz=4&amp;hl=en&amp;start=10&amp;usg=__LASFv_1nnSqJN7kMw-9nelkqVik=&amp;tbnid=2rInUole-jePiM:&amp;tbnh=113&amp;tbnw=117&amp;prev=/images%3Fq%3Dseparation%2Bof%2Bduti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enberg-art.com/.Illustrations/.Humorous/qq1sgYellingAtKids.jpg&amp;imgrefurl=http://areluctantmom.blogspot.com/2007/07/disciplinary-dilemma.html&amp;h=456&amp;w=580&amp;sz=77&amp;hl=en&amp;start=3&amp;usg=__obT4QPucz0XRQ_z5bMxzGb6cLCw=&amp;tbnid=pnVPX48vcegW7M:&amp;tbnh=105&amp;tbnw=134&amp;prev=/images%3Fq%3Ddisciplinar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cef.com/uploads/pics/berlin_2007_training.JPG&amp;imgrefurl=http://www.icef.com/training.html&amp;h=363&amp;w=725&amp;sz=64&amp;hl=en&amp;start=164&amp;usg=__mc6U-G4C76p1UJVtLzcSX2eigj8=&amp;tbnid=5jepuM3hVIjX5M:&amp;tbnh=70&amp;tbnw=140&amp;prev=/images%3Fq%3Dtraining%26start%3D16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rryhnetka.com/wordpress/wp-content/1%2520OCTOBER%25202006/e-m-over.jpg&amp;imgrefurl=http://mattonmarketing.blogspot.com/2008_02_01_archive.html&amp;h=415&amp;w=414&amp;sz=82&amp;hl=en&amp;start=59&amp;usg=__F7ZrNgBUvmXgrDYwMy3PtJCk1wo=&amp;tbnid=lAITlqqeu96X1M:&amp;tbnh=125&amp;tbnw=125&amp;prev=/images%3Fq%3Demail%2Busage%2Bpolicy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yber-sierra.com/workshops/images/s-eat.gif&amp;imgrefurl=http://ulmercenter.wordpress.com/2006/11/03/surfing-on-the-clock-may-come-back-to-haunt-you/&amp;h=225&amp;w=235&amp;sz=5&amp;hl=en&amp;start=20&amp;usg=__i3ogQVLJ_dvJFf9FwIQ4BfedQ8k=&amp;tbnid=WkwPk2CRDQI5TM:&amp;tbnh=104&amp;tbnw=109&amp;prev=/images%3Fq%3Dinternet%2Busage%2Bpolicy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CONTRACT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ware Acquisition &amp; Installation 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p personal &amp; unlicensed software being installed on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duplication of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compatibilit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transmission of worms, viruses &amp; troj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628640"/>
            <a:ext cx="396072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for a large number o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 what users cannot store –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will vary according to employee’s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g software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tain level of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 &amp; updated pass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sharing – personal 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09564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y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s of Conduct &amp; Usage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 through the College I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ine the example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at Professional bodies websites and check for policies /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would you change or add to the college policy to make usage more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examine a few more policies normally associated with Human Resources and look at how they can incorporate secur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Poli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ruitment / promotion of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 not conflict with National Employmen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ring will look at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ee background &amp; employment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inal record &amp;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assessment or probationary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25360"/>
            <a:ext cx="345600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rely on one individual to maintain overall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 members – each have critical duties to man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uties to cover for absence / depar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981000"/>
            <a:ext cx="3024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r, confidential &amp; legally accep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y with se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accusations – Legal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spension with p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ependent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air &amp; impar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lice involvement if criminal ma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268280"/>
            <a:ext cx="2881080" cy="13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ff must receive the necessary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intain regular communication with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sure awareness of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to sign and agree to a variety of policies.  Rules of the organisation and secur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ftware Acquisition &amp; Installat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unacceptable – sending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ptable size &amp; type of attac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of mailbox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stalking, harassment, sp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external exchange of corporat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twork management has the right to monitor all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197000"/>
            <a:ext cx="28083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sites can be vis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cannot be down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 has the right to monitor network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197000"/>
            <a:ext cx="237492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30T09:59:56Z</dcterms:modified>
  <cp:revision>252</cp:revision>
  <dc:subject/>
  <dc:title>AVCE – UNIT 14 Project Management</dc:title>
</cp:coreProperties>
</file>