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895BF-C3A3-4CF9-A47A-B25B1B345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322EE-B7AF-4C1B-A12B-94EC8CCC8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77543-07FA-4081-8C6E-0AE106F78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00AE5-5F23-4DA0-A948-8C09DACAE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6C5EF-E90C-4D1C-B10B-ECF6680A3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D54FC-1F19-486A-A9E7-375D4BFA6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09C17-73EE-42C6-8D6A-D9810333A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3B8FE-28C8-4A32-BC48-A5B637D9E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F4DA3-A76C-424A-9E41-67D9E230A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C6A16-5071-4208-97DF-59B692C5E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25272-3BDC-4082-9E9E-CCCEC05F9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BA519-41DC-42F2-82F2-93B14B420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7D120-4B72-4576-9285-675F41044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7719B-E56E-4588-9965-69E97A90E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C4903-618E-40FA-AD63-0B05DF924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D881F-0B0F-4C25-92F2-4EDAFCE03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921F6-174C-4459-A2F9-3C7C0B6E0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AA05D-BDBD-4B0A-B8FD-40C66F36E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25355-76DD-491A-8FC0-C49DFBB7A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CE7F7-394C-4B22-A930-BA5DAF514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C6D5B-4CBF-400E-86B0-86C0CF0A4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7DC6A-1C23-4DB7-883C-56B045E7F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C5287-80DB-407D-B524-39574365D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86E3F-738D-46AE-B3AE-9B95082F6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F093C-2368-4AEE-AFBB-85E56EC0D9D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47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D5FAD-B14F-42C4-AC9A-E6192A26D44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microsoft.com/library/media/1033/midsizebusiness/images/sam/sap.jpg&amp;imgrefurl=http://www.microsoft.com/midsizebusiness/sam/software-licensing-compliance.mspx&amp;h=24&amp;w=257&amp;sz=8&amp;hl=en&amp;start=38&amp;usg=__MEW6ZcTmOCAlURctN4SPu3Oer84=&amp;tbnid=LCB74gvKiMvVwM:&amp;tbnh=10&amp;tbnw=112&amp;prev=/images%3Fq%3Dsoftware%2Bacquisition%2Bpolicy%26start%3D20%26gbv%3D2%26ndsp%3D20%26hl%3Den%26sa%3DN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cartoonstock.com/lowres/jmo2036l.jpg&amp;imgrefurl=http://www.cartoonstock.com/directory/r/requirements.asp&amp;h=325&amp;w=400&amp;sz=29&amp;hl=en&amp;start=40&amp;usg=__uQgPQvK6NB4Pq42pE9Rlh373i4I=&amp;tbnid=vjssP-6twta_fM:&amp;tbnh=101&amp;tbnw=124&amp;prev=/images%3Fq%3Dhiring%2Bpolicy%26start%3D20%26gbv%3D2%26ndsp%3D20%26hl%3Den%26sa%3DN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brownboxsoftware.com/Images/audit01_s.gif&amp;imgrefurl=http://brownboxsoftware.com/Compliance/SOx.aspx&amp;h=300&amp;w=312&amp;sz=4&amp;hl=en&amp;start=10&amp;usg=__LASFv_1nnSqJN7kMw-9nelkqVik=&amp;tbnid=2rInUole-jePiM:&amp;tbnh=113&amp;tbnw=117&amp;prev=/images%3Fq%3Dseparation%2Bof%2Bduties%26gbv%3D2%26hl%3Den%26sa%3D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greenberg-art.com/.Illustrations/.Humorous/qq1sgYellingAtKids.jpg&amp;imgrefurl=http://areluctantmom.blogspot.com/2007/07/disciplinary-dilemma.html&amp;h=456&amp;w=580&amp;sz=77&amp;hl=en&amp;start=3&amp;usg=__obT4QPucz0XRQ_z5bMxzGb6cLCw=&amp;tbnid=pnVPX48vcegW7M:&amp;tbnh=105&amp;tbnw=134&amp;prev=/images%3Fq%3Ddisciplinary%26gbv%3D2%26hl%3Den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icef.com/uploads/pics/berlin_2007_training.JPG&amp;imgrefurl=http://www.icef.com/training.html&amp;h=363&amp;w=725&amp;sz=64&amp;hl=en&amp;start=164&amp;usg=__mc6U-G4C76p1UJVtLzcSX2eigj8=&amp;tbnid=5jepuM3hVIjX5M:&amp;tbnh=70&amp;tbnw=140&amp;prev=/images%3Fq%3Dtraining%26start%3D160%26gbv%3D2%26ndsp%3D20%26hl%3Den%26sa%3DN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larryhnetka.com/wordpress/wp-content/1%2520OCTOBER%25202006/e-m-over.jpg&amp;imgrefurl=http://mattonmarketing.blogspot.com/2008_02_01_archive.html&amp;h=415&amp;w=414&amp;sz=82&amp;hl=en&amp;start=59&amp;usg=__F7ZrNgBUvmXgrDYwMy3PtJCk1wo=&amp;tbnid=lAITlqqeu96X1M:&amp;tbnh=125&amp;tbnw=125&amp;prev=/images%3Fq%3Demail%2Busage%2Bpolicy%26start%3D40%26gbv%3D2%26ndsp%3D20%26hl%3Den%26sa%3DN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cyber-sierra.com/workshops/images/s-eat.gif&amp;imgrefurl=http://ulmercenter.wordpress.com/2006/11/03/surfing-on-the-clock-may-come-back-to-haunt-you/&amp;h=225&amp;w=235&amp;sz=5&amp;hl=en&amp;start=20&amp;usg=__i3ogQVLJ_dvJFf9FwIQ4BfedQ8k=&amp;tbnid=WkwPk2CRDQI5TM:&amp;tbnh=104&amp;tbnw=109&amp;prev=/images%3Fq%3Dinternet%2Busage%2Bpolicy%26gbv%3D2%26hl%3Den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8487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RGANISATIONAL SYSTEMS SECURITY</a:t>
            </a:r>
            <a:br>
              <a:rPr sz="4400"/>
            </a:b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Unit 15 Lecture 7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2895120"/>
            <a:ext cx="6400800" cy="2210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MPLOYMENT CONTRACTS &amp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DES OF CONDUC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BTEC NAT Unit 15 - Organisational Systems Security</a:t>
            </a:r>
          </a:p>
        </p:txBody>
      </p:sp>
    </p:spTree>
  </p:cSld>
  <p:transition>
    <p:zoom dir="in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Software Acquisition &amp; Installation  Policy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852640"/>
            <a:ext cx="7772400" cy="31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Stop personal &amp; unlicensed software being installed on the syste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No duplication of softwa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Prevent compatibility proble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Prevent transmission of worms, viruses &amp; troja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100320" y="274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171960" y="262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627280" y="1628640"/>
            <a:ext cx="3960720" cy="576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 Unit 15 - Organisational Systems Security</a:t>
            </a:r>
          </a:p>
        </p:txBody>
      </p:sp>
    </p:spTree>
  </p:cSld>
  <p:transition>
    <p:zoom dir="in"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User Area Usage Policy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2852640"/>
            <a:ext cx="7772400" cy="31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Storage space for a large number of us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Define what users cannot store – limi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Storage space will vary according to employee’s rol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eg software develop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100320" y="274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171960" y="262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3276720" y="1268280"/>
            <a:ext cx="2447640" cy="144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 Unit 15 - Organisational Systems Security</a:t>
            </a:r>
          </a:p>
        </p:txBody>
      </p:sp>
    </p:spTree>
  </p:cSld>
  <p:transition>
    <p:zoom dir="in"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Account Management Policy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2852640"/>
            <a:ext cx="7772400" cy="31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Responsibilit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Network management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Maintain level of servi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User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urrent &amp; updated passwor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Non-sharing – personal detai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100320" y="274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171960" y="262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2771640" y="1341360"/>
            <a:ext cx="3095640" cy="129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 Unit 15 - Organisational Systems Security</a:t>
            </a:r>
          </a:p>
        </p:txBody>
      </p:sp>
    </p:spTree>
  </p:cSld>
  <p:transition>
    <p:zoom dir="in"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ctivity 7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483920"/>
            <a:ext cx="777240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odes of Conduct &amp; Usage Polic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Read through the College IT usage polic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Examine the example Codes of Condu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Look at Professional bodies websites and check for policies / codes of condu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How would you change or add to the college policy to make usage more secur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100320" y="274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171960" y="262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 Unit 15 - Organisational Systems Security</a:t>
            </a:r>
          </a:p>
        </p:txBody>
      </p:sp>
    </p:spTree>
  </p:cSld>
  <p:transition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Learning Objective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413000"/>
            <a:ext cx="777240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need to examine a few more policies normally associated with Human Resources and look at how they can incorporate security issu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ommon Polici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Hiring Polic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paration of Du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Disciplinary &amp; Investigation procedur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raining &amp; Communic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 Unit 15 - Organisational Systems Security</a:t>
            </a: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Hiring Policy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2565360"/>
            <a:ext cx="7772400" cy="34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-5911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Recruitment / promotion of employe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91120" indent="-5911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Must not conflict with National Employment La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91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Hiring will look at the following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91120" indent="-5911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Employee background &amp; employment recor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91120" indent="-5911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riminal record &amp; referen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91120" indent="-5911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Initial assessment or probationary perio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91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91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91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91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91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100320" y="274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171960" y="262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700360" y="1125360"/>
            <a:ext cx="3456000" cy="129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 Unit 15 - Organisational Systems Security</a:t>
            </a:r>
          </a:p>
        </p:txBody>
      </p:sp>
    </p:spTree>
  </p:cSld>
  <p:transition>
    <p:zoom dir="in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Separation of Duties</a:t>
            </a:r>
            <a:br>
              <a:rPr sz="3600"/>
            </a:b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2565360"/>
            <a:ext cx="7772400" cy="34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8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Do not rely on one individual to maintain overall secur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8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8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eam members – each have critical duties to mana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8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8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Deputies to cover for absence / departu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8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8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8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8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8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100320" y="274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171960" y="262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981000"/>
            <a:ext cx="3024000" cy="1584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 Unit 15 - Organisational Systems Security</a:t>
            </a:r>
          </a:p>
        </p:txBody>
      </p:sp>
    </p:spTree>
  </p:cSld>
  <p:transition>
    <p:zoom dir="in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Disciplinary &amp; Investigation Procedures</a:t>
            </a:r>
            <a:br>
              <a:rPr sz="3600"/>
            </a:b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07920"/>
            <a:ext cx="7772400" cy="33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Fair, confidential &amp; legally accept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omply with set procedu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False accusations – Legal ac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he Step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752480" indent="-38088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uspension with pa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3" marL="1752480" indent="-38088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ndependent investig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3" marL="1752480" indent="-38088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Fair &amp; imparti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3" marL="1752480" indent="-38088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olice involvement if criminal matt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3" marL="1752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100320" y="274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171960" y="262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59280" y="1268280"/>
            <a:ext cx="2881080" cy="1368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 Unit 15 - Organisational Systems Security</a:t>
            </a:r>
          </a:p>
        </p:txBody>
      </p:sp>
    </p:spTree>
  </p:cSld>
  <p:transition>
    <p:zoom dir="in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raining &amp; Communication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3428640"/>
            <a:ext cx="7772400" cy="25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taff must receive the necessary train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Maintain regular communication with staff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Ensure awareness of responsibilit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100320" y="274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171960" y="262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627280" y="1341360"/>
            <a:ext cx="3816360" cy="1582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 Unit 15 - Organisational Systems Security</a:t>
            </a:r>
          </a:p>
        </p:txBody>
      </p:sp>
    </p:spTree>
  </p:cSld>
  <p:transition>
    <p:zoom dir="in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Learning Objective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413000"/>
            <a:ext cx="777240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des of Condu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mployees to sign and agree to a variety of policies.  Rules of the organisation and security nee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Email Usage polic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Internet Usage polic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oftware Acquisition &amp; Installation polic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User Area Usage polic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ccount management polic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 Unit 15 - Organisational Systems Security</a:t>
            </a:r>
          </a:p>
        </p:txBody>
      </p:sp>
    </p:spTree>
  </p:cSld>
  <p:transition>
    <p:zoom dir="in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Email Usage Policy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2565360"/>
            <a:ext cx="7772400" cy="34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What is unacceptable – sending emai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cceptable size &amp; type of attachm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Management of mailbox cont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No stalking, harassment, spamm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No external exchange of corporate inf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he network management has the right to monitor all emai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100320" y="274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71960" y="262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987640" y="1197000"/>
            <a:ext cx="2808360" cy="1295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 Unit 15 - Organisational Systems Security</a:t>
            </a:r>
          </a:p>
        </p:txBody>
      </p:sp>
    </p:spTree>
  </p:cSld>
  <p:transition>
    <p:zoom dir="in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Internet Usage Policy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2852640"/>
            <a:ext cx="7772400" cy="31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What sites can be visi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What cannot be download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Network management has the right to monitor network traffi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100320" y="274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171960" y="262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492360" y="1197000"/>
            <a:ext cx="2374920" cy="1368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 Unit 15 - Organisational Systems Security</a:t>
            </a:r>
          </a:p>
        </p:txBody>
      </p:sp>
    </p:spTree>
  </p:cSld>
  <p:transition>
    <p:zoom dir="in"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3T12:25:37Z</dcterms:created>
  <dc:creator>IT Department</dc:creator>
  <dc:description/>
  <dc:language>en-US</dc:language>
  <cp:lastModifiedBy>Administrator</cp:lastModifiedBy>
  <dcterms:modified xsi:type="dcterms:W3CDTF">2008-09-30T09:59:56Z</dcterms:modified>
  <cp:revision>252</cp:revision>
  <dc:subject/>
  <dc:title>AVCE – UNIT 14 Project Management</dc:title>
</cp:coreProperties>
</file>