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7C8-7683-4039-9F63-5E3EAC1C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2D7-7819-4B28-A985-34AFCC9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31C-ECDF-49B8-AC28-703DA4BF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FC6-3261-4045-81D4-F3D3432D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FEA6-FFC6-4279-B283-EB8BEAEA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C5D4-CCA1-43EB-BCCF-B098FBDF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2890-2718-40A8-849D-9484425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236B-3800-4827-B44D-11ADE94B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6FF-5A38-4B79-9E6D-E3EB179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4B3E-98BB-470E-82B2-1AE2E3BE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1764-D4B9-4DA1-BBB6-BC03883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E33-C079-452F-965D-4AD24875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29E0-557D-47DC-B506-D049782E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0308-DD79-4EB8-A6AA-96B02CF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22F-57EF-4662-BAA6-BAF354EC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E65C-6577-49D9-B752-C2632A53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3A1-F492-4C2F-BC79-5C7C87D1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022-E6F2-408C-BD28-C761211B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A44-B41D-4446-B39B-E6AC9836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28FE-26A4-466E-B7E4-784DB172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B2E-7EA1-433D-84A1-B2E0329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5FE-67C2-452C-8DAD-602FC227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EA8-7EF5-4358-9276-0A10B6F9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D83-CFE7-491B-B3A2-0BF3609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7F9-15CD-437E-B2D0-73D338EBB5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2F9D-2DAB-4F7A-BD0C-7B5F16BC96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tsdocs.fhwa.dot.gov/JPODOCS/REPTS_TE/13769_files/image017.jpg&amp;imgrefurl=http://www.itsdocs.fhwa.dot.gov/JPODOCS/REPTS_TE/13769.html&amp;h=255&amp;w=559&amp;sz=22&amp;hl=en&amp;start=10&amp;usg=__OTQkeEnxDwgJlW5688yyCEr1oss=&amp;tbnid=zv5jHt6FpDnWXM:&amp;tbnh=61&amp;tbnw=133&amp;prev=/images%3Fq%3Dfingerprint%2Bidentification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askbobrankin.com/voice-recognition.jpg&amp;imgrefurl=http://askbobrankin.com/voice_recognition.html&amp;h=257&amp;w=354&amp;sz=23&amp;hl=en&amp;start=2&amp;usg=__9AKYxVI1xqZNto-vM3pdxN8ua-4=&amp;tbnid=NdsQ5GtWrSPiSM:&amp;tbnh=88&amp;tbnw=121&amp;prev=/images%3Fq%3Dvoice%2Brecognition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it 15 Lecture 6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lementing technology using biological information as a method of unique 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mmon Technolog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thers methods i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ingerprint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d extensively in crime de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s watery solution from ridges of fingers to allow detection by scan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pid laser can detect ridges on fi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Electro-static pads detection of small quantities of water in our fingerpr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with additional ID systems eg airp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029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031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1043" descr="image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97000"/>
            <a:ext cx="2519280" cy="71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agram of an Eyeba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eye6"/>
          <p:cNvPicPr/>
          <p:nvPr/>
        </p:nvPicPr>
        <p:blipFill>
          <a:blip r:embed="rId1"/>
          <a:stretch/>
        </p:blipFill>
        <p:spPr>
          <a:xfrm>
            <a:off x="1881360" y="1542960"/>
            <a:ext cx="53812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tinal &amp; Iris Sc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 is at the rear of the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tinas / Irises have biologically unique configurations – reliable method of 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mpossible to change without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2 second scans – close proxim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ris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ear front of ey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cans wearers of glasses or contact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ften used in International air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Voice Recog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nsiderable limi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ices can change in different circum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an be bypassed by mobile phone / speaker mode / voice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Use with other access control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ecent improvements for people with disabilities and in games cons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8" descr="voice-recogni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125360"/>
            <a:ext cx="2664000" cy="83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TEC NAT Unit 15 - Organisational Systems Secu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ther Biometric Syste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35736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Other technologies i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acial recognitio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ehaviour recognition systems (suspicious actions or pos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8" descr="facial_scan_416_dc"/>
          <p:cNvPicPr/>
          <p:nvPr/>
        </p:nvPicPr>
        <p:blipFill>
          <a:blip r:embed="rId1"/>
          <a:stretch/>
        </p:blipFill>
        <p:spPr>
          <a:xfrm>
            <a:off x="2843280" y="1268280"/>
            <a:ext cx="3024000" cy="151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Sheez</cp:lastModifiedBy>
  <dcterms:modified xsi:type="dcterms:W3CDTF">2009-10-11T20:36:15Z</dcterms:modified>
  <cp:revision>241</cp:revision>
  <dc:subject/>
  <dc:title>AVCE – UNIT 14 Project Management</dc:title>
</cp:coreProperties>
</file>