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EA7-589A-4D1E-8C80-7E27E492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DC5-A548-4264-8707-689AF82B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64F-7F21-4CF8-AB01-C164E151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378-565F-42B4-A602-3C52DF37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39A8-16DB-40CB-93B7-8C18FCE1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05E4-7A41-49A5-9C67-7EAD740A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58CC-BA91-4DAF-8E7D-CDC09DDD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B9F7-63C5-4751-A47C-918C5002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ACD9-99F0-4109-AF64-E3A419BB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3BFC-C804-4358-892A-26E12000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DD7-AB58-40E4-99B4-0A6946C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335-4089-49CC-B55A-FB20C1B7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8728-6A80-4F05-A39D-1F30279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5211-0D4B-4931-9E08-411E126B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7A31-9888-4C89-A9C9-09F9B36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0B5E-1219-45AC-934B-F70A363F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0719-150D-4D9A-9B16-AE29D384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160-C8D7-45C0-A082-8BB0A0F2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6E6-0F09-4F02-BF6C-15F8155D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BA9-6C0F-4CA6-8C1C-6B2E8A06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E17-E8D2-4819-8C19-204DA85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8DE-2B1F-47DD-BF32-73FC3B9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A9E-2289-45BA-B5C5-E893E122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C60-7634-423E-A6CC-0DF82AD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038B-AE36-47C7-BE6F-EDB5C9958CB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5762-F45E-4EBB-90AA-E7344634A2C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tsdocs.fhwa.dot.gov/JPODOCS/REPTS_TE/13769_files/image017.jpg&amp;imgrefurl=http://www.itsdocs.fhwa.dot.gov/JPODOCS/REPTS_TE/13769.html&amp;h=255&amp;w=559&amp;sz=22&amp;hl=en&amp;start=10&amp;usg=__OTQkeEnxDwgJlW5688yyCEr1oss=&amp;tbnid=zv5jHt6FpDnWXM:&amp;tbnh=61&amp;tbnw=133&amp;prev=/images%3Fq%3Dfingerprint%2Bidentificati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skbobrankin.com/voice-recognition.jpg&amp;imgrefurl=http://askbobrankin.com/voice_recognition.html&amp;h=257&amp;w=354&amp;sz=23&amp;hl=en&amp;start=2&amp;usg=__9AKYxVI1xqZNto-vM3pdxN8ua-4=&amp;tbnid=NdsQ5GtWrSPiSM:&amp;tbnh=88&amp;tbnw=121&amp;prev=/images%3Fq%3Dvoice%2Brecognition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it 15 Lecture 6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lementing technology using biological information as a method of unique iden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mon Technolog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ngerprint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tinal &amp; Iris S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oice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thers methods i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Fingerprint Re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d extensively in crime de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s watery solution from ridges of fingers to allow detection by scan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pid laser can detect ridges on fi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lectro-static pads detection of small quantities of water in our fingerpr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ften used with additional ID systems eg airpo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029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031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043" descr="image0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97000"/>
            <a:ext cx="2519280" cy="71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agram of an Eye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eye6"/>
          <p:cNvPicPr/>
          <p:nvPr/>
        </p:nvPicPr>
        <p:blipFill>
          <a:blip r:embed="rId1"/>
          <a:stretch/>
        </p:blipFill>
        <p:spPr>
          <a:xfrm>
            <a:off x="1881360" y="1542960"/>
            <a:ext cx="53812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tinal &amp; Iris Sc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is at the rear of the e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tinas / Irises have biologically unique configurations – reliable method of 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ossible to change without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 second scans – close proxim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ris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ear front of e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cans wearers of glasses or contact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ften used in International air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Voice Re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siderable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ices can change in different circum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 be bypassed by mobile phone / speaker mode / voice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 with other access contro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cent improvements for people with disabilities and in games cons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8" descr="voice-recogn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125360"/>
            <a:ext cx="2664000" cy="838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Other Biometric Syste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 technologies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cial recognition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haviour recognition systems (suspicious actions or pos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8" descr="facial_scan_416_dc"/>
          <p:cNvPicPr/>
          <p:nvPr/>
        </p:nvPicPr>
        <p:blipFill>
          <a:blip r:embed="rId1"/>
          <a:stretch/>
        </p:blipFill>
        <p:spPr>
          <a:xfrm>
            <a:off x="2843280" y="1268280"/>
            <a:ext cx="3024000" cy="151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ez</cp:lastModifiedBy>
  <dcterms:modified xsi:type="dcterms:W3CDTF">2009-10-11T20:36:15Z</dcterms:modified>
  <cp:revision>241</cp:revision>
  <dc:subject/>
  <dc:title>AVCE – UNIT 14 Project Management</dc:title>
</cp:coreProperties>
</file>