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B198-7E38-45D8-AC17-B9809686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A9B7-0D50-4030-AD16-5AD721B2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F193-A1BA-480E-AC20-9D200C5A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6EFF-099A-403D-9650-50E94B7B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B005-A288-4622-A4EE-F37FBB21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BBE9-AD24-4E7F-B1C1-8BAEEF0D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0162-5FC4-4520-ACB1-CD6CFF22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C383-2BE9-4073-B1AB-0E3F87C5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881A-739A-419F-BB35-8C519534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A41A-B940-4A01-AF25-4416F9E5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0C27-B5A6-48F9-8E37-69C93A82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E013-DF39-46D5-84B1-C20FE09A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05B8-A184-4EF5-A176-D13A6CFA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3744-9312-4908-A09D-C9240EAD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CB9C-DE8F-4977-A0FE-3E89D720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4846-7DDE-4A89-A5F5-1F8C74BD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8E5F-DC5B-48D3-88F1-6DEE3F18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E762-F391-4B2D-BD67-95403F98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286-35CD-494C-A89C-A6838E15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8B07-8359-4E2C-912F-34038DDB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5B09-EAD6-4614-B1EB-7645315C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E35B-7581-47E3-BC25-A305301D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451C-2180-459D-BDA4-D931E50C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268D-AE0A-4785-A65D-FD9F9B40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FBFB-E52E-4CA3-A1C3-C907372AA96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1F23-01E8-495C-8E00-B46388BB7F6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tsdocs.fhwa.dot.gov/JPODOCS/REPTS_TE/13769_files/image017.jpg&amp;imgrefurl=http://www.itsdocs.fhwa.dot.gov/JPODOCS/REPTS_TE/13769.html&amp;h=255&amp;w=559&amp;sz=22&amp;hl=en&amp;start=10&amp;usg=__OTQkeEnxDwgJlW5688yyCEr1oss=&amp;tbnid=zv5jHt6FpDnWXM:&amp;tbnh=61&amp;tbnw=133&amp;prev=/images%3Fq%3Dfingerprint%2Bidentification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askbobrankin.com/voice-recognition.jpg&amp;imgrefurl=http://askbobrankin.com/voice_recognition.html&amp;h=257&amp;w=354&amp;sz=23&amp;hl=en&amp;start=2&amp;usg=__9AKYxVI1xqZNto-vM3pdxN8ua-4=&amp;tbnid=NdsQ5GtWrSPiSM:&amp;tbnh=88&amp;tbnw=121&amp;prev=/images%3Fq%3Dvoice%2Brecognition%26gbv%3D2%26hl%3De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ORGANISATIONAL SYSTEMS SECURITY</a:t>
            </a:r>
            <a:br>
              <a:rPr sz="4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it 15 Lecture 6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IOMETR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lementing technology using biological information as a method of unique ident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ommon Technolog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Fingerprint Re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tinal &amp; Iris Sc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Voice Re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Others methods i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Fingerprint Recogni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Used extensively in crime de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Uses watery solution from ridges of fingers to allow detection by scan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apid laser can detect ridges on fing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Electro-static pads detection of small quantities of water in our fingerpr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ften used with additional ID systems eg airpor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1029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1031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1043" descr="image0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97000"/>
            <a:ext cx="2519280" cy="719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agram of an Eyeba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Picture 3" descr="eye6"/>
          <p:cNvPicPr/>
          <p:nvPr/>
        </p:nvPicPr>
        <p:blipFill>
          <a:blip r:embed="rId1"/>
          <a:stretch/>
        </p:blipFill>
        <p:spPr>
          <a:xfrm>
            <a:off x="1881360" y="1542960"/>
            <a:ext cx="53812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tinal &amp; Iris Sca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tin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is at the rear of the ey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tinas / Irises have biologically unique configurations – reliable method of 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mpossible to change without da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2 second scans – close proxim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ris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near front of ey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cans wearers of glasses or contact le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ften used in International airp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Voice Recogni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onsiderable limi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Voices can change in different circumst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an be bypassed by mobile phone / speaker mode / voice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Use with other access control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cent improvements for people with disabilities and in games cons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8" descr="voice-recogni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1125360"/>
            <a:ext cx="2664000" cy="838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Other Biometric System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3357360"/>
            <a:ext cx="7772400" cy="26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ther technologies in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acial recognition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ehaviour recognition systems (suspicious actions or postu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8" descr="facial_scan_416_dc"/>
          <p:cNvPicPr/>
          <p:nvPr/>
        </p:nvPicPr>
        <p:blipFill>
          <a:blip r:embed="rId1"/>
          <a:stretch/>
        </p:blipFill>
        <p:spPr>
          <a:xfrm>
            <a:off x="2843280" y="1268280"/>
            <a:ext cx="3024000" cy="1513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Sheez</cp:lastModifiedBy>
  <dcterms:modified xsi:type="dcterms:W3CDTF">2009-10-11T20:36:15Z</dcterms:modified>
  <cp:revision>241</cp:revision>
  <dc:subject/>
  <dc:title>AVCE – UNIT 14 Project Management</dc:title>
</cp:coreProperties>
</file>