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EA22-56FE-4A69-BFED-A4EC6048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5BF0-35C3-4CCC-AB2C-2F00A848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3743-B29D-4F42-860F-EF8678E30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6647-87B6-4B0E-981D-CF4884E4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587C-4C6E-4280-8305-791E8B33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785A-ADB1-4351-B28E-B8F7BE42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25AA-A250-4A20-BFC4-6285A385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CD13-20A9-476B-86DA-97A6AA82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B049-DB15-4E93-B828-B90376FB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5D73-06CF-4BAD-B071-0776FFBF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34B0-3209-4442-9242-2BA167C9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8F7D-3B1D-4367-AA87-5404E087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EE0F-FB91-417B-8006-310A92E3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4D3A-63BA-4135-BD5E-84A84F9A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2B3E-3DA5-41A0-B1CF-D3C673BE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7685-0F1B-41EE-8816-C59612FD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B980-9BC2-44F2-825A-CA663E14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178C-DFF1-4959-960B-7E4F8E1F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15C1-E8F0-40C5-862D-F225231B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C946-D4AC-440D-807C-000AF407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D54C-8DFA-4822-982C-BC2F0E96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0E3D-5C24-43F5-A4B2-5D652EA2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7C57-9FB7-437E-A639-2C706FE3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7208-4F5F-4BDF-8D0E-3F4CF707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8435-7218-4413-92E4-C888BA82BAE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3F52-CB62-4C3B-A97D-3DF102B5B4B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tsdocs.fhwa.dot.gov/JPODOCS/REPTS_TE/13769_files/image017.jpg&amp;imgrefurl=http://www.itsdocs.fhwa.dot.gov/JPODOCS/REPTS_TE/13769.html&amp;h=255&amp;w=559&amp;sz=22&amp;hl=en&amp;start=10&amp;usg=__OTQkeEnxDwgJlW5688yyCEr1oss=&amp;tbnid=zv5jHt6FpDnWXM:&amp;tbnh=61&amp;tbnw=133&amp;prev=/images%3Fq%3Dfingerprint%2Bidentification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askbobrankin.com/voice-recognition.jpg&amp;imgrefurl=http://askbobrankin.com/voice_recognition.html&amp;h=257&amp;w=354&amp;sz=23&amp;hl=en&amp;start=2&amp;usg=__9AKYxVI1xqZNto-vM3pdxN8ua-4=&amp;tbnid=NdsQ5GtWrSPiSM:&amp;tbnh=88&amp;tbnw=121&amp;prev=/images%3Fq%3Dvoice%2Brecognition%26gbv%3D2%26hl%3De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ORGANISATIONAL SYSTEMS SECURITY</a:t>
            </a:r>
            <a:br>
              <a:rPr sz="4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it 15 Lecture 6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BIOMETR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plementing technology using biological information as a method of unique ident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ommon Technolog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Fingerprint Recog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tinal &amp; Iris Sc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Voice Recog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Others methods i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Fingerprint Recogni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7724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Used extensively in crime de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Uses watery solution from ridges of fingers to allow detection by scan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apid laser can detect ridges on fing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Electro-static pads detection of small quantities of water in our fingerpr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Often used with additional ID systems eg airpor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1029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1031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1043" descr="image0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97000"/>
            <a:ext cx="2519280" cy="719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agram of an Eyebal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Picture 3" descr="eye6"/>
          <p:cNvPicPr/>
          <p:nvPr/>
        </p:nvPicPr>
        <p:blipFill>
          <a:blip r:embed="rId1"/>
          <a:stretch/>
        </p:blipFill>
        <p:spPr>
          <a:xfrm>
            <a:off x="1881360" y="1542960"/>
            <a:ext cx="538128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tinal &amp; Iris Sca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tina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is at the rear of the ey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etinas / Irises have biologically unique configurations – reliable method of 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mpossible to change without dam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2 second scans – close proxim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ris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near front of ey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cans wearers of glasses or contact len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Often used in International airpo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Voice Recogni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7724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onsiderable limi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Voices can change in different circumst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an be bypassed by mobile phone / speaker mode / voice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Use with other access control 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ecent improvements for people with disabilities and in games cons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8" descr="voice-recogni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1125360"/>
            <a:ext cx="2664000" cy="838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Other Biometric System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3357360"/>
            <a:ext cx="7772400" cy="26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Other technologies in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Facial recognition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ehaviour recognition systems (suspicious actions or postu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8" descr="facial_scan_416_dc"/>
          <p:cNvPicPr/>
          <p:nvPr/>
        </p:nvPicPr>
        <p:blipFill>
          <a:blip r:embed="rId1"/>
          <a:stretch/>
        </p:blipFill>
        <p:spPr>
          <a:xfrm>
            <a:off x="2843280" y="1268280"/>
            <a:ext cx="3024000" cy="1513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Sheez</cp:lastModifiedBy>
  <dcterms:modified xsi:type="dcterms:W3CDTF">2009-10-11T20:36:15Z</dcterms:modified>
  <cp:revision>241</cp:revision>
  <dc:subject/>
  <dc:title>AVCE – UNIT 14 Project Management</dc:title>
</cp:coreProperties>
</file>