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BE43-D036-493C-BAD0-7514A52E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3458-BD4E-4804-B02B-4C33D23B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DB83-58BD-4FA3-902C-91BAF174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0CC3-79A8-45CC-8015-B6ADBCC5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38C6-A577-48D0-82CA-92BC43DE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DAFC-E1D9-44D5-8503-60C57D25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00DA-7F0F-4C60-93C1-710BB7A3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1349-8437-4BC2-8704-D94AA981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1382-9232-48C5-AD06-67C28CF0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2C8A-AA99-4B8C-857C-D35A34A7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307A-D580-4D28-88AD-3FD0C4D0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937C-4406-4F43-8185-0F1AC594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CF23-3E89-4F6A-B8A5-E4B8D03509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M CONVERSION OF DIGITAL SIG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ULATION OF CARRIER SIGN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5 - Communications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STANDARDS FOR MOD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S/SECO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bytes/h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.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6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.32b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4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.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.8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.34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6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.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 TO 56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 TO 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5 - Communications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M CARRIER SIG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905120"/>
            <a:ext cx="0" cy="426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962520"/>
            <a:ext cx="5410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070000"/>
            <a:ext cx="4608360" cy="3710160"/>
          </a:xfrm>
          <a:custGeom>
            <a:avLst/>
            <a:gdLst/>
            <a:ahLst/>
            <a:rect l="l" t="t" r="r" b="b"/>
            <a:pathLst>
              <a:path w="2903" h="2337">
                <a:moveTo>
                  <a:pt x="0" y="1200"/>
                </a:moveTo>
                <a:cubicBezTo>
                  <a:pt x="91" y="1031"/>
                  <a:pt x="367" y="182"/>
                  <a:pt x="545" y="186"/>
                </a:cubicBezTo>
                <a:cubicBezTo>
                  <a:pt x="723" y="190"/>
                  <a:pt x="889" y="894"/>
                  <a:pt x="1068" y="1223"/>
                </a:cubicBezTo>
                <a:cubicBezTo>
                  <a:pt x="1247" y="1552"/>
                  <a:pt x="1419" y="2337"/>
                  <a:pt x="1620" y="2160"/>
                </a:cubicBezTo>
                <a:cubicBezTo>
                  <a:pt x="1821" y="1983"/>
                  <a:pt x="2059" y="326"/>
                  <a:pt x="2273" y="163"/>
                </a:cubicBezTo>
                <a:cubicBezTo>
                  <a:pt x="2487" y="0"/>
                  <a:pt x="2772" y="971"/>
                  <a:pt x="2903" y="118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2279520"/>
            <a:ext cx="1440" cy="1670040"/>
          </a:xfrm>
          <a:custGeom>
            <a:avLst/>
            <a:gdLst/>
            <a:ahLst/>
            <a:rect l="l" t="t" r="r" b="b"/>
            <a:pathLst>
              <a:path w="1" h="1052">
                <a:moveTo>
                  <a:pt x="0" y="0"/>
                </a:moveTo>
                <a:lnTo>
                  <a:pt x="0" y="1052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67480" y="28954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mplitu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5791320"/>
            <a:ext cx="30481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59436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4038480" y="4038480"/>
            <a:ext cx="914400" cy="990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5029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5 - Communications Technology</a:t>
            </a: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CY SHIFT KEY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905120"/>
            <a:ext cx="0" cy="426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3962520"/>
            <a:ext cx="6729480" cy="1440"/>
          </a:xfrm>
          <a:custGeom>
            <a:avLst/>
            <a:gdLst/>
            <a:ahLst/>
            <a:rect l="l" t="t" r="r" b="b"/>
            <a:pathLst>
              <a:path w="4239" h="1">
                <a:moveTo>
                  <a:pt x="0" y="0"/>
                </a:moveTo>
                <a:lnTo>
                  <a:pt x="4239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819520"/>
            <a:ext cx="2286000" cy="2222280"/>
          </a:xfrm>
          <a:custGeom>
            <a:avLst/>
            <a:gdLst/>
            <a:ahLst/>
            <a:rect l="l" t="t" r="r" b="b"/>
            <a:pathLst>
              <a:path w="1467" h="1400">
                <a:moveTo>
                  <a:pt x="0" y="743"/>
                </a:moveTo>
                <a:cubicBezTo>
                  <a:pt x="45" y="636"/>
                  <a:pt x="171" y="104"/>
                  <a:pt x="269" y="102"/>
                </a:cubicBezTo>
                <a:cubicBezTo>
                  <a:pt x="367" y="100"/>
                  <a:pt x="477" y="534"/>
                  <a:pt x="591" y="732"/>
                </a:cubicBezTo>
                <a:cubicBezTo>
                  <a:pt x="705" y="930"/>
                  <a:pt x="843" y="1400"/>
                  <a:pt x="952" y="1293"/>
                </a:cubicBezTo>
                <a:cubicBezTo>
                  <a:pt x="1061" y="1186"/>
                  <a:pt x="1158" y="174"/>
                  <a:pt x="1244" y="87"/>
                </a:cubicBezTo>
                <a:cubicBezTo>
                  <a:pt x="1330" y="0"/>
                  <a:pt x="1421" y="628"/>
                  <a:pt x="1467" y="77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2936880"/>
            <a:ext cx="2639880" cy="2043000"/>
          </a:xfrm>
          <a:custGeom>
            <a:avLst/>
            <a:gdLst/>
            <a:ahLst/>
            <a:rect l="l" t="t" r="r" b="b"/>
            <a:pathLst>
              <a:path w="1663" h="1287">
                <a:moveTo>
                  <a:pt x="0" y="694"/>
                </a:moveTo>
                <a:cubicBezTo>
                  <a:pt x="24" y="990"/>
                  <a:pt x="48" y="1286"/>
                  <a:pt x="96" y="1174"/>
                </a:cubicBezTo>
                <a:cubicBezTo>
                  <a:pt x="144" y="1062"/>
                  <a:pt x="222" y="20"/>
                  <a:pt x="288" y="22"/>
                </a:cubicBezTo>
                <a:cubicBezTo>
                  <a:pt x="354" y="24"/>
                  <a:pt x="436" y="1081"/>
                  <a:pt x="495" y="1184"/>
                </a:cubicBezTo>
                <a:cubicBezTo>
                  <a:pt x="554" y="1287"/>
                  <a:pt x="578" y="835"/>
                  <a:pt x="641" y="638"/>
                </a:cubicBezTo>
                <a:cubicBezTo>
                  <a:pt x="704" y="441"/>
                  <a:pt x="786" y="0"/>
                  <a:pt x="872" y="1"/>
                </a:cubicBezTo>
                <a:cubicBezTo>
                  <a:pt x="958" y="2"/>
                  <a:pt x="1052" y="444"/>
                  <a:pt x="1156" y="646"/>
                </a:cubicBezTo>
                <a:cubicBezTo>
                  <a:pt x="1260" y="848"/>
                  <a:pt x="1410" y="1210"/>
                  <a:pt x="1494" y="1214"/>
                </a:cubicBezTo>
                <a:cubicBezTo>
                  <a:pt x="1578" y="1218"/>
                  <a:pt x="1628" y="783"/>
                  <a:pt x="1663" y="669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64440" y="3003480"/>
            <a:ext cx="1054080" cy="2011320"/>
          </a:xfrm>
          <a:custGeom>
            <a:avLst/>
            <a:gdLst/>
            <a:ahLst/>
            <a:rect l="l" t="t" r="r" b="b"/>
            <a:pathLst>
              <a:path w="664" h="1267">
                <a:moveTo>
                  <a:pt x="0" y="673"/>
                </a:moveTo>
                <a:cubicBezTo>
                  <a:pt x="18" y="753"/>
                  <a:pt x="67" y="1266"/>
                  <a:pt x="119" y="1154"/>
                </a:cubicBezTo>
                <a:cubicBezTo>
                  <a:pt x="171" y="1042"/>
                  <a:pt x="245" y="0"/>
                  <a:pt x="311" y="2"/>
                </a:cubicBezTo>
                <a:cubicBezTo>
                  <a:pt x="377" y="4"/>
                  <a:pt x="459" y="1061"/>
                  <a:pt x="518" y="1164"/>
                </a:cubicBezTo>
                <a:cubicBezTo>
                  <a:pt x="577" y="1267"/>
                  <a:pt x="640" y="709"/>
                  <a:pt x="664" y="61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51440" y="2990880"/>
            <a:ext cx="500040" cy="1057320"/>
          </a:xfrm>
          <a:custGeom>
            <a:avLst/>
            <a:gdLst/>
            <a:ahLst/>
            <a:rect l="l" t="t" r="r" b="b"/>
            <a:pathLst>
              <a:path w="315" h="666">
                <a:moveTo>
                  <a:pt x="0" y="635"/>
                </a:moveTo>
                <a:cubicBezTo>
                  <a:pt x="26" y="530"/>
                  <a:pt x="102" y="0"/>
                  <a:pt x="154" y="5"/>
                </a:cubicBezTo>
                <a:cubicBezTo>
                  <a:pt x="206" y="10"/>
                  <a:pt x="281" y="528"/>
                  <a:pt x="315" y="66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5257800"/>
            <a:ext cx="167652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6019920"/>
            <a:ext cx="160020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5181480"/>
            <a:ext cx="0" cy="990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5181480"/>
            <a:ext cx="0" cy="914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5257800"/>
            <a:ext cx="167616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0" cy="914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6019920"/>
            <a:ext cx="160020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67480" y="5181480"/>
            <a:ext cx="0" cy="83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2057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ULATED CARR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96080" y="5638680"/>
            <a:ext cx="129564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SIG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5334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334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5334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5334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5 - Communications Technology</a:t>
            </a: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ERN MODULATION TECHNIQ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K – PHASE SHIFT KEY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hase chang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present Binary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AM – QUADRATURE AMPLITUDE MOD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both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hase and Amplit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rier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5 - Communications Technology</a:t>
            </a: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R TA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GATE THE THREE METHODS OF MODULATION FUR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S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GATE MODEM DIF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6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S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5 - Communications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David Bell</cp:lastModifiedBy>
  <dcterms:modified xsi:type="dcterms:W3CDTF">2006-01-10T22:43:52Z</dcterms:modified>
  <cp:revision>203</cp:revision>
  <dc:subject/>
  <dc:title>AVCE – UNIT 14 Project Management</dc:title>
</cp:coreProperties>
</file>