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D95-B92E-48BA-96C9-467E288E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B77-37D4-43B2-B259-77E8299C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6BC-E8CA-4F20-978C-7A2EBAE4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5D5-8937-4D61-98FD-AABA9759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9E3-A00C-4E4F-8C54-1EB5C899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ED6-FBFA-4946-A5D2-D989B82A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20B-C604-4491-8655-550667D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A4B-43E9-40DF-95B9-D795A2D5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09E-44CB-41D0-BDBD-0BE2F668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A97-B05A-4193-9FA8-714CAE6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05C-2F48-4C61-846D-412918AC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14A-A6FB-479A-A74D-9081FFC9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9AE6-F366-4836-BFF1-6A1335F9B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ONVERSION OF DIGITAL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TION OF CARRIER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STANDARDS FOR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S/SECO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bytes/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4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5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ARRIER SIG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96252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70000"/>
            <a:ext cx="4608360" cy="3710160"/>
          </a:xfrm>
          <a:custGeom>
            <a:avLst/>
            <a:gdLst/>
            <a:ahLst/>
            <a:rect l="l" t="t" r="r" b="b"/>
            <a:pathLst>
              <a:path w="2903" h="2337">
                <a:moveTo>
                  <a:pt x="0" y="1200"/>
                </a:moveTo>
                <a:cubicBezTo>
                  <a:pt x="91" y="1031"/>
                  <a:pt x="367" y="182"/>
                  <a:pt x="545" y="186"/>
                </a:cubicBezTo>
                <a:cubicBezTo>
                  <a:pt x="723" y="190"/>
                  <a:pt x="889" y="894"/>
                  <a:pt x="1068" y="1223"/>
                </a:cubicBezTo>
                <a:cubicBezTo>
                  <a:pt x="1247" y="1552"/>
                  <a:pt x="1419" y="2337"/>
                  <a:pt x="1620" y="2160"/>
                </a:cubicBezTo>
                <a:cubicBezTo>
                  <a:pt x="1821" y="1983"/>
                  <a:pt x="2059" y="326"/>
                  <a:pt x="2273" y="163"/>
                </a:cubicBezTo>
                <a:cubicBezTo>
                  <a:pt x="2487" y="0"/>
                  <a:pt x="2772" y="971"/>
                  <a:pt x="2903" y="11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2279520"/>
            <a:ext cx="1440" cy="1670040"/>
          </a:xfrm>
          <a:custGeom>
            <a:avLst/>
            <a:gdLst/>
            <a:ahLst/>
            <a:rect l="l" t="t" r="r" b="b"/>
            <a:pathLst>
              <a:path w="1" h="1052">
                <a:moveTo>
                  <a:pt x="0" y="0"/>
                </a:moveTo>
                <a:lnTo>
                  <a:pt x="0" y="10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95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79132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5943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038480" y="403848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962520"/>
            <a:ext cx="6729480" cy="1440"/>
          </a:xfrm>
          <a:custGeom>
            <a:avLst/>
            <a:gdLst/>
            <a:ahLst/>
            <a:rect l="l" t="t" r="r" b="b"/>
            <a:pathLst>
              <a:path w="4239" h="1">
                <a:moveTo>
                  <a:pt x="0" y="0"/>
                </a:moveTo>
                <a:lnTo>
                  <a:pt x="423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19520"/>
            <a:ext cx="2286000" cy="2222280"/>
          </a:xfrm>
          <a:custGeom>
            <a:avLst/>
            <a:gdLst/>
            <a:ahLst/>
            <a:rect l="l" t="t" r="r" b="b"/>
            <a:pathLst>
              <a:path w="1467" h="1400">
                <a:moveTo>
                  <a:pt x="0" y="743"/>
                </a:moveTo>
                <a:cubicBezTo>
                  <a:pt x="45" y="636"/>
                  <a:pt x="171" y="104"/>
                  <a:pt x="269" y="102"/>
                </a:cubicBezTo>
                <a:cubicBezTo>
                  <a:pt x="367" y="100"/>
                  <a:pt x="477" y="534"/>
                  <a:pt x="591" y="732"/>
                </a:cubicBezTo>
                <a:cubicBezTo>
                  <a:pt x="705" y="930"/>
                  <a:pt x="843" y="1400"/>
                  <a:pt x="952" y="1293"/>
                </a:cubicBezTo>
                <a:cubicBezTo>
                  <a:pt x="1061" y="1186"/>
                  <a:pt x="1158" y="174"/>
                  <a:pt x="1244" y="87"/>
                </a:cubicBezTo>
                <a:cubicBezTo>
                  <a:pt x="1330" y="0"/>
                  <a:pt x="1421" y="628"/>
                  <a:pt x="1467" y="7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936880"/>
            <a:ext cx="2639880" cy="2043000"/>
          </a:xfrm>
          <a:custGeom>
            <a:avLst/>
            <a:gdLst/>
            <a:ahLst/>
            <a:rect l="l" t="t" r="r" b="b"/>
            <a:pathLst>
              <a:path w="1663" h="1287">
                <a:moveTo>
                  <a:pt x="0" y="694"/>
                </a:moveTo>
                <a:cubicBezTo>
                  <a:pt x="24" y="990"/>
                  <a:pt x="48" y="1286"/>
                  <a:pt x="96" y="1174"/>
                </a:cubicBezTo>
                <a:cubicBezTo>
                  <a:pt x="144" y="1062"/>
                  <a:pt x="222" y="20"/>
                  <a:pt x="288" y="22"/>
                </a:cubicBezTo>
                <a:cubicBezTo>
                  <a:pt x="354" y="24"/>
                  <a:pt x="436" y="1081"/>
                  <a:pt x="495" y="1184"/>
                </a:cubicBezTo>
                <a:cubicBezTo>
                  <a:pt x="554" y="1287"/>
                  <a:pt x="578" y="835"/>
                  <a:pt x="641" y="638"/>
                </a:cubicBezTo>
                <a:cubicBezTo>
                  <a:pt x="704" y="441"/>
                  <a:pt x="786" y="0"/>
                  <a:pt x="872" y="1"/>
                </a:cubicBezTo>
                <a:cubicBezTo>
                  <a:pt x="958" y="2"/>
                  <a:pt x="1052" y="444"/>
                  <a:pt x="1156" y="646"/>
                </a:cubicBezTo>
                <a:cubicBezTo>
                  <a:pt x="1260" y="848"/>
                  <a:pt x="1410" y="1210"/>
                  <a:pt x="1494" y="1214"/>
                </a:cubicBezTo>
                <a:cubicBezTo>
                  <a:pt x="1578" y="1218"/>
                  <a:pt x="1628" y="783"/>
                  <a:pt x="1663" y="6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64440" y="3003480"/>
            <a:ext cx="1054080" cy="2011320"/>
          </a:xfrm>
          <a:custGeom>
            <a:avLst/>
            <a:gdLst/>
            <a:ahLst/>
            <a:rect l="l" t="t" r="r" b="b"/>
            <a:pathLst>
              <a:path w="664" h="1267">
                <a:moveTo>
                  <a:pt x="0" y="673"/>
                </a:moveTo>
                <a:cubicBezTo>
                  <a:pt x="18" y="753"/>
                  <a:pt x="67" y="1266"/>
                  <a:pt x="119" y="1154"/>
                </a:cubicBezTo>
                <a:cubicBezTo>
                  <a:pt x="171" y="1042"/>
                  <a:pt x="245" y="0"/>
                  <a:pt x="311" y="2"/>
                </a:cubicBezTo>
                <a:cubicBezTo>
                  <a:pt x="377" y="4"/>
                  <a:pt x="459" y="1061"/>
                  <a:pt x="518" y="1164"/>
                </a:cubicBezTo>
                <a:cubicBezTo>
                  <a:pt x="577" y="1267"/>
                  <a:pt x="640" y="709"/>
                  <a:pt x="664" y="6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1440" y="2990880"/>
            <a:ext cx="500040" cy="1057320"/>
          </a:xfrm>
          <a:custGeom>
            <a:avLst/>
            <a:gdLst/>
            <a:ahLst/>
            <a:rect l="l" t="t" r="r" b="b"/>
            <a:pathLst>
              <a:path w="315" h="666">
                <a:moveTo>
                  <a:pt x="0" y="635"/>
                </a:moveTo>
                <a:cubicBezTo>
                  <a:pt x="26" y="530"/>
                  <a:pt x="102" y="0"/>
                  <a:pt x="154" y="5"/>
                </a:cubicBezTo>
                <a:cubicBezTo>
                  <a:pt x="206" y="10"/>
                  <a:pt x="281" y="528"/>
                  <a:pt x="315" y="6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25780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25780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1814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ATED CARR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5638680"/>
            <a:ext cx="1295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34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 MODULATION TECHN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K – PHASE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chan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Binar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M – QUADRATURE AMPLITUDE MOD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bo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and Ampl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r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THE THREE METHODS OF MODULATION FUR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MODEM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 Bell</cp:lastModifiedBy>
  <dcterms:modified xsi:type="dcterms:W3CDTF">2006-01-10T22:43:52Z</dcterms:modified>
  <cp:revision>203</cp:revision>
  <dc:subject/>
  <dc:title>AVCE – UNIT 14 Project Management</dc:title>
</cp:coreProperties>
</file>