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04B-5A80-46BD-82A6-1B6F52FA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F60-ECB9-4442-9816-3839A410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D82D-5A47-4156-8B8D-87078541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EB0-A10F-4B61-B877-DE5B5820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AAC9-3ADD-49AB-8A44-48F5DC07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4F5C-CB87-40D4-BEF9-07F22ACC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B365-9DB2-449D-B874-FD5BECC5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5B41-B849-4AA4-92F7-F7CE9A33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EEA5-D7C0-4305-AEC5-CF4D1E4A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420D-8A13-400B-A429-1DE862A5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0D82-C9B6-4C12-AE1E-DC444DB6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EE3-8A85-488C-8FA2-9208F3C4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4A78-7604-4DAB-8705-99202AB1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FE76-56CA-4441-84CF-18793BB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67FA-7A20-474A-9E6F-5964F492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71B9-45E9-42A0-A7D6-BEFC6741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D26E-279F-406A-900B-949A0C38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8C7-14D1-485F-B105-56241FA4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AB2-1A05-4F92-9056-29E86DB7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913-5034-409E-97AC-DC19FFBC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B1E-6BBC-4E65-BB03-1CD30D2B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B35-7389-4D91-A594-8D9113A9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91FB-CC34-4F21-9180-0E95EA64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1AB-BF14-458F-B227-D8B03E0F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4DDE-54A8-404C-B9AE-CEB8FEF4EAA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15A3-D7A5-4532-97FC-169C11A839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-Commerce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Commerce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ite Defa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al of Service Att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bsite Defac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isance attack by hackers called ‘crackers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 for script or version vulnerabilities in web servers and websit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diting of HTML or script to display own items on the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licit images, personal tags, political or religious statements or childish sta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ishing – Write in meta-refresh tags to forward victims to their own ‘spoof’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me and income loss during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ss of customer tr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nial Of Service Attac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ms devised that will leave Trojans to send traffic from multiple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looding of firewalls causing entry point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nial of income for E-commerc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blems to overcome in using third party suppliers eg eBay, Amaz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reats to commercial security of an organisation and personal security of 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ila.cassidy-allan</cp:lastModifiedBy>
  <dcterms:modified xsi:type="dcterms:W3CDTF">2009-09-30T14:48:04Z</dcterms:modified>
  <cp:revision>237</cp:revision>
  <dc:subject/>
  <dc:title>AVCE – UNIT 14 Project Management</dc:title>
</cp:coreProperties>
</file>