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860-12B5-453E-BAF8-E752ADFA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D495-24E5-49D3-B9BF-453C20B1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C28-4549-4351-AAAB-3564B688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127-A00F-4633-9F3F-4AAE4294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5EFB-B1D4-496D-96B7-75B4A230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E2C1-DBA8-49D0-8925-A224488C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63A7-01B0-4E76-B4A9-70E5AD2F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8FC7-DFDB-488F-B638-56105302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F1D1-058B-4726-99EE-BCBAFF17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8E78-20D5-4896-A337-169176EE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49FF-CB17-4697-ACAC-1D128C55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914-5D8A-4E67-A85F-7BF5C22B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48E9-B40A-4048-B323-8397871F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9632-8D97-4005-98C8-B3D53CE7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DCCD-CCCE-4092-B5C2-E60AFDCA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102E-05F2-4EA4-B1CA-DB8FC387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0721-B70C-40BE-BBF5-26EE8D0C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6BC-77F7-416F-8A3B-A606AAAF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77F-694D-4B82-92DE-0CE4CBD5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20C5-E8D4-4B14-A756-71446FE8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E4B-D89B-4E67-93C5-48109EB0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412-A594-424A-ACDB-481A958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107-6333-4A05-A352-379BD197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265-66FB-4C97-96A7-FAB228AD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F954-B484-47E6-9FC3-5F09E0826B0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47E7-834E-48E7-BCFB-C657AA4CCD0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-Commerce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-Commerce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ite Def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al of Service Att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bsite Defac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isance attack by hackers called ‘crackers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 for script or version vulnerabilities in web servers and websit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diting of HTML or script to display own items on the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licit images, personal tags, political or religious statements or childish sta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ishing – Write in meta-refresh tags to forward victims to their own ‘spoof’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me and income loss during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ss of customer tr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nial Of Service Attack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Worms devised that will leave Trojans to send traffic from multiple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looding of firewalls causing entry point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nial of income for E-commerce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blems to overcome in using third party suppliers eg eBay, Amaz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reats to commercial security of an organisation and personal security of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ila.cassidy-allan</cp:lastModifiedBy>
  <dcterms:modified xsi:type="dcterms:W3CDTF">2009-09-30T14:48:04Z</dcterms:modified>
  <cp:revision>237</cp:revision>
  <dc:subject/>
  <dc:title>AVCE – UNIT 14 Project Management</dc:title>
</cp:coreProperties>
</file>