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409-58CF-4B0A-954C-E130584C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CAC-B530-4FFA-BC6E-73097DE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6BA-327A-491F-841F-46C2FFA0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CB6-6F62-4BB0-B7C2-D30997B0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A86-4D5F-4727-BFAA-C43DF756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4ACD-3DCC-4168-80E8-5EBF0FF3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CC0E-6D68-47C8-9FAB-D7615B8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52C6-E680-440F-811F-A96B6BDF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9E82-D996-40E5-A13E-DC2274A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A5C-C42D-408C-881A-FCE5722C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C274-7EE1-4D3A-9479-602523A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DB3-4252-4E08-8ABB-199FC91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EF2-E25E-4155-8A77-D0F3C0C5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84C1-DCD0-42D7-877F-679D2E8B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30F1-3C17-4464-B05F-7CD7CD83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164F-986C-472F-8BD7-5FFD6EA2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1D3F-9B51-4D3D-A83B-4AD66135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B45-A9DF-40E6-BE9C-B60E22A6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8D8-5622-4843-B2B6-8B031B2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34C-E80B-4B62-B0B8-A057E0E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EB3-E355-47D5-B573-F7ECE37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4D8-C5E4-4F00-9624-9234D16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223-C0B9-4951-A295-23CD3B0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FE3-1547-4F62-95E5-CB441E4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93CC-BE6D-409E-8715-66C869B6A7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6055-BF53-4F6F-ADE8-2B740AB8B0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 Def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site Defac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isance attack by hackers called ‘crack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 for script or version vulnerabilities in web servers and websit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diting of HTML or script to display own items on th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icit images, personal tags, political or religious statements or childish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ishing – Write in meta-refresh tags to forward victims to their own ‘spoof’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and income loss during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s of customer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s devised that will leave Trojans to send traffic from multipl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looding of firewalls causing entry poi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nial of income for E-commerc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blems to overcome in using third party suppliers eg eBay, Amaz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reats to commercial security of an organisation and personal security of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30T14:48:04Z</dcterms:modified>
  <cp:revision>237</cp:revision>
  <dc:subject/>
  <dc:title>AVCE – UNIT 14 Project Management</dc:title>
</cp:coreProperties>
</file>