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770-634D-433D-87F5-D8C8E05D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791-9E5A-4837-9258-F336ECFF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3EF-AEBE-4D48-A416-3648AF5D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805-B8DF-40E2-AA9B-736144FF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694F-F463-416B-BB8A-5235B80B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72D8-058E-462E-BD5C-C6913B37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F785-73BF-4D17-835C-5F44683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0548-836E-4DA2-B991-B09033A6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5E53-9171-4BE0-A90B-00E07508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CD8C-6A84-4324-BDC2-03EA733A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2F98-C47B-4D28-B86B-864E8DF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620-0CE5-438E-9CDA-82B5AFC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1F6-8363-4F8B-B158-7D90A3E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697-14B1-4F7D-A045-C396A25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69D-2C5C-45C6-AF3B-8A22BF8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C05-0F0C-4782-924F-D80E39A7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6DD-DE55-4433-A3A1-C4156CAB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054-0A53-44A8-A6EC-BA39F58F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51A-B1DA-4CA5-BD46-C8790C05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552-8832-40DD-8722-6CE7BEC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A25-BAEC-415B-BA6B-0618E6A9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940-7F39-43BD-8FFD-0E1F18B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8DE-5501-4667-AFF0-3114415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480-A6F0-40E1-B586-84EC4501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DA43-170B-4F15-AAF7-D3CA598609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377-D1FB-4ABD-8E96-CF130A8258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 Def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bsite Defac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isance attack by hackers called ‘cracker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 for script or version vulnerabilities in web servers and websit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diting of HTML or script to display own items on th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icit images, personal tags, political or religious statements or childish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ishing – Write in meta-refresh tags to forward victims to their own ‘spoof’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and income loss during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ss of customer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s devised that will leave Trojans to send traffic from multipl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looding of firewalls causing entry poi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nial of income for E-commerc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blems to overcome in using third party suppliers eg eBay, Amaz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reats to commercial security of an organisation and personal security of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30T14:48:04Z</dcterms:modified>
  <cp:revision>237</cp:revision>
  <dc:subject/>
  <dc:title>AVCE – UNIT 14 Project Management</dc:title>
</cp:coreProperties>
</file>