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E44-7F01-4376-BBC8-CD1A8897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340D-D32D-44CD-9B20-5844E783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00E-93BB-4648-9DF5-69262019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AC6-A649-43F7-A1F1-DC2F8F6C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DB16-3A94-494D-B2D7-805E76C3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B240-B5B6-4BB9-A0FC-AC4FB42C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3860-2A95-488E-8801-BB4B65D9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8B92-5778-47B2-8C5C-6C5EDE6F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0133-7167-42F2-8DC6-1E1C6381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8FC5-DDBB-44C4-AFC8-AB8AAB20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CA79-F3B7-4B32-AFE1-D2BEA545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ED5-89AF-4A68-A4A4-6EEE34C5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7607-FA39-4CF9-B567-4CA2A2A3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2F39-0AA2-4C95-B4C6-FBC147A1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33A3-9D85-45EF-B153-FC168DE0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8924-1E51-49E6-BF23-A10902F2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DFA7-7B04-4497-8120-0BD0967F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03A-7BE2-4600-BE08-0D97541B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F274-0D6A-4476-9691-DB8FB22E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C79-A6FE-4AE5-8730-06411D0E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2D1-6BB9-4508-8458-4D6F7C88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3900-BA1A-4D60-9FC7-CAE2DE6C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68C-35D1-41F5-9676-D784194B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C3B-3948-4909-AB91-85D443EA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498F-FD3C-4BA8-A094-74000E6A53B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5EEF-5487-4194-84B1-4A6D5914682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donitaworld.com/Graphics/blog/NaturalDisasters.jpg&amp;imgrefurl=http://currentinthenews.blogspot.com/2008/05/week-of-scary-natural-disasters.html&amp;h=462&amp;w=616&amp;sz=17&amp;hl=en&amp;start=21&amp;usg=__CBqDDExWYrILuJE1PLKj3qB7uCM=&amp;tbnid=uzRhZBgU73EsNM:&amp;tbnh=102&amp;tbnw=136&amp;prev=/images%3Fq%3Dnatural%2Bdisasters%26start%3D20%26gbv%3D2%26ndsp%3D20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donitaworld.com/Graphics/blog/NaturalDisasters.jpg&amp;imgrefurl=http://currentinthenews.blogspot.com/2008/05/week-of-scary-natural-disasters.html&amp;h=462&amp;w=616&amp;sz=17&amp;hl=en&amp;start=21&amp;usg=__CBqDDExWYrILuJE1PLKj3qB7uCM=&amp;tbnid=uzRhZBgU73EsNM:&amp;tbnh=102&amp;tbnw=136&amp;prev=/images%3Fq%3Dnatural%2Bdisasters%26start%3D20%26gbv%3D2%26ndsp%3D20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lecsec.co.uk/images/keys_or_fob.jpg&amp;imgrefurl=http://www.elecsec.co.uk/access_control.html&amp;h=250&amp;w=540&amp;sz=21&amp;hl=en&amp;start=16&amp;usg=__OLuh2x_L_G8f-r5UoxqDUUvQeRs=&amp;tbnid=-sG-7u141Q19WM:&amp;tbnh=61&amp;tbnw=132&amp;prev=/images%3Fq%3Dmalicious%2Bdamage%26gbv%3D2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farm1.static.flickr.com/13/18480748_a42e246901.jpg%3Fv%3D0&amp;imgrefurl=http://flickr.com/photos/missdxb/18480748/&amp;h=375&amp;w=500&amp;sz=57&amp;hl=en&amp;start=3&amp;usg=__6g25GTp4DnXmwjr8ZHi4GxoAgIw=&amp;tbnid=L8O_PlTgyDENPM:&amp;tbnh=98&amp;tbnw=130&amp;prev=/images%3Fq%3Dnetwork%2Btechnical%2Bfailures%26gbv%3D2%26hl%3D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artoonstock.com/newscartoons/cartoonists/esm/lowres/esmn114l.jpg&amp;imgrefurl=http://www.cartoonstock.com/directory/h/human_errors.asp&amp;h=297&amp;w=400&amp;sz=23&amp;hl=en&amp;start=1&amp;usg=__Gq651RNC7WfI75tem_NFR90Afvk=&amp;tbnid=DIVy2_WQgksIhM:&amp;tbnh=92&amp;tbnw=124&amp;prev=/images%3Fq%3Dhuman%2Berrors%26gbv%3D2%26hl%3De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GANISATIONAL SYSTEMS SECURITY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t 15 Lecture 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THER DAMAGING THREA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THREATS (causing Damage or Destruction of Systems or Infor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isa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cious Damage (internal or extern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Err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atural Disaste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nge from simple power cuts to floods or f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quire organisational measures to cope with extreme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ffects depend on how critical the system is – air traf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mploy necessary technology to provide resil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197000"/>
            <a:ext cx="460872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atural Disast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923920"/>
            <a:ext cx="77724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ASTER RECOVERY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mote storage of data acquired in daily back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mote Mirroring of critical serv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ternative data centres to transfer control at times of serious emerg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197000"/>
            <a:ext cx="460872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licious Damag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7724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ernal &amp; External cau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ackers or disgruntled employ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n be physical damage as w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ecurity techniques required to limit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1964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2908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484280"/>
            <a:ext cx="3672000" cy="11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chnical Failu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533412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1480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3068640"/>
            <a:ext cx="78487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ways a risk with complex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oss of servers, storage devices, internet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echnical damage can cause commercial damage and also inhibit the security of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1125360"/>
            <a:ext cx="374508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119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Human Erro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278136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The most unpredictable and common causes of security issues in net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orgetfulness, Ignorance, Innocence, Lack of knowled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Backup data and place in a secure lo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rase hard drives before disposal of compu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lose ports on firewa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ll can lead to network intrusion and viru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Increased attacks on broadband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ocial engineering and phishing atta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907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413000"/>
            <a:ext cx="352728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f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5334120"/>
            <a:ext cx="731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1480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2637000"/>
            <a:ext cx="784872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mpacts caused by theft of data &amp; technical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acking or data removal via CD or memory sti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n-shredding of discarded printou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ft of computers, laptops &amp; external hard dr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n cause long-term commercial damage, give advantage to competitors, loose customer good-will, financial ruin, loss of employment or legal a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87640" y="1052640"/>
            <a:ext cx="2808360" cy="129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sheila.cassidy-allan</cp:lastModifiedBy>
  <dcterms:modified xsi:type="dcterms:W3CDTF">2009-09-24T11:17:32Z</dcterms:modified>
  <cp:revision>233</cp:revision>
  <dc:subject/>
  <dc:title>AVCE – UNIT 14 Project Management</dc:title>
</cp:coreProperties>
</file>