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C63-DC37-4F05-8572-899830BC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ADA-D5AC-4671-84F8-47AD4845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175-6190-494A-8A05-567B0D4A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9BD-C557-46EF-AE66-DB935755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EF7D-9665-4AB9-92D0-CF5B8A89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D1FE-060C-4AA3-856D-B0CEBADC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B6CD-AB08-4D05-9D62-227BEC65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A50E-86A9-405F-AE70-77FED3F0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5BB3-FAC6-4D62-AE2D-2C712BF3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E512-127F-448F-A2DC-D5963985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FC32-D292-4F83-80DC-E822979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5A8-8513-4B1C-99BF-1D620D3E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7DC-6008-4B7D-8FEC-AD7779C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6798-5B81-472A-97D7-08DFBBF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4E17-E13D-4BA5-9CBB-806374F8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555C-0886-4980-B84E-B4D5BC9C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F949-FA46-4803-B4A0-9A455975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33E-7F96-49AC-9C65-B0FE1862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A6C-B852-4D93-AB3E-708C2FB0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032-CD71-4C99-A111-DB9B930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D62-B634-432E-B7AE-AD07763D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915-6EEF-40C3-808B-5AF1471C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CA5-C664-46B5-856A-EA04C7A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3AC-6469-4A6F-B375-FB703C1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28D-8D1D-43EC-ADCF-B35989E4ED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8F4-58F6-45D7-B23B-42C61D4284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lecsec.co.uk/images/keys_or_fob.jpg&amp;imgrefurl=http://www.elecsec.co.uk/access_control.html&amp;h=250&amp;w=540&amp;sz=21&amp;hl=en&amp;start=16&amp;usg=__OLuh2x_L_G8f-r5UoxqDUUvQeRs=&amp;tbnid=-sG-7u141Q19WM:&amp;tbnh=61&amp;tbnw=132&amp;prev=/images%3Fq%3Dmalicious%2Bdamage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farm1.static.flickr.com/13/18480748_a42e246901.jpg%3Fv%3D0&amp;imgrefurl=http://flickr.com/photos/missdxb/18480748/&amp;h=375&amp;w=500&amp;sz=57&amp;hl=en&amp;start=3&amp;usg=__6g25GTp4DnXmwjr8ZHi4GxoAgIw=&amp;tbnid=L8O_PlTgyDENPM:&amp;tbnh=98&amp;tbnw=130&amp;prev=/images%3Fq%3Dnetwork%2Btechnical%2Bfailure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newscartoons/cartoonists/esm/lowres/esmn114l.jpg&amp;imgrefurl=http://www.cartoonstock.com/directory/h/human_errors.asp&amp;h=297&amp;w=400&amp;sz=23&amp;hl=en&amp;start=1&amp;usg=__Gq651RNC7WfI75tem_NFR90Afvk=&amp;tbnid=DIVy2_WQgksIhM:&amp;tbnh=92&amp;tbnw=124&amp;prev=/images%3Fq%3Dhuman%2Berror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DAMAGING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HREATS (causing Damage or Destruction of Systems or Infor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cious Damage (internal or exter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nge from simple power cuts to floods or f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 organisational measures to cope with extreme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ects depend on how critical the system is – air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ploy necessary technology to provide resil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7724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STER RECOVERY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storage of data acquired in daily back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Mirroring of critical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ternative data centres to transfer control at times of serious emer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licious Da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ca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ackers or disgruntled employ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n be physical damage as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curity techniques required to limit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84280"/>
            <a:ext cx="36720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068640"/>
            <a:ext cx="7848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ways a risk with complex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ss of servers, storage devices, internet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chnical damage can cause commercial damage and also inhibit the security of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125360"/>
            <a:ext cx="374508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uman Err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78136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he most unpredictable and common causes of security issues in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orgetfulness, Ignorance, Innocence, Lack of 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Backup data and place in a secure lo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rase hard drives before disposal of comp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lose ports on firew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ll can lead to network intrusion and vir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creased attacks on broadband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ocial engineering and phishing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3527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637000"/>
            <a:ext cx="78487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s caused by theft of data &amp; technic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cking or data removal via CD or memory st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n-shredding of discarded printo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ft of computers, laptops &amp; external hard dr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cause long-term commercial damage, give advantage to competitors, loose customer good-will, financial ruin, loss of employment or legal 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2808360" cy="129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24T11:17:32Z</dcterms:modified>
  <cp:revision>233</cp:revision>
  <dc:subject/>
  <dc:title>AVCE – UNIT 14 Project Management</dc:title>
</cp:coreProperties>
</file>