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C3E-D225-4B63-8F50-C65F2672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FD33-BA6F-4ECB-AA19-6A8E5E9A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55B-2756-44AD-9E1B-46EDEDBD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C61-2E4C-4DA0-AE60-DA029B77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FB16-5C70-439D-ADFD-F31750BB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0244-1A84-4D82-89CF-5E009D3A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1042-CE86-4CF8-B338-F4BA1135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D5AF-6474-46E9-81BA-0C9DC84F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014A-A8A3-4AAA-91C0-CD998413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DF9A-A9A9-4CB0-BE3A-BF67659C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6CE2-9857-4144-88B4-86D1B1D1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DDC-A3AD-4F02-9F17-37482D2C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A7C0-175F-486A-A7A1-90B2758E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E5FE-A105-4EA5-AAC5-AEFFB85F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A56A-C90E-4F4D-8ED3-7CF0508B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0C37-CCB3-4381-BBA4-977A2E2D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E118-62F5-40BD-9C00-02FCA1EA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5C7-B7BF-4B04-8C50-D767F006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75E-E6D6-46BD-8058-632EF3B1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EC0-08AD-4163-9C9B-51E4B5CA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66A-41BB-40FE-B91F-FFC65AE6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29F-2BC5-4E2F-9EE0-00F2BBB0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C24-3FF7-48A2-8C82-A02990FF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50B-2D9E-45F5-9F76-D3E51D1F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9F5F-35B3-4969-8213-449BAEE45FD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9DDB-CC98-4986-88E9-E18012FAF6D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onitaworld.com/Graphics/blog/NaturalDisasters.jpg&amp;imgrefurl=http://currentinthenews.blogspot.com/2008/05/week-of-scary-natural-disasters.html&amp;h=462&amp;w=616&amp;sz=17&amp;hl=en&amp;start=21&amp;usg=__CBqDDExWYrILuJE1PLKj3qB7uCM=&amp;tbnid=uzRhZBgU73EsNM:&amp;tbnh=102&amp;tbnw=136&amp;prev=/images%3Fq%3Dnatural%2Bdisasters%26start%3D20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onitaworld.com/Graphics/blog/NaturalDisasters.jpg&amp;imgrefurl=http://currentinthenews.blogspot.com/2008/05/week-of-scary-natural-disasters.html&amp;h=462&amp;w=616&amp;sz=17&amp;hl=en&amp;start=21&amp;usg=__CBqDDExWYrILuJE1PLKj3qB7uCM=&amp;tbnid=uzRhZBgU73EsNM:&amp;tbnh=102&amp;tbnw=136&amp;prev=/images%3Fq%3Dnatural%2Bdisasters%26start%3D20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lecsec.co.uk/images/keys_or_fob.jpg&amp;imgrefurl=http://www.elecsec.co.uk/access_control.html&amp;h=250&amp;w=540&amp;sz=21&amp;hl=en&amp;start=16&amp;usg=__OLuh2x_L_G8f-r5UoxqDUUvQeRs=&amp;tbnid=-sG-7u141Q19WM:&amp;tbnh=61&amp;tbnw=132&amp;prev=/images%3Fq%3Dmalicious%2Bdamage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farm1.static.flickr.com/13/18480748_a42e246901.jpg%3Fv%3D0&amp;imgrefurl=http://flickr.com/photos/missdxb/18480748/&amp;h=375&amp;w=500&amp;sz=57&amp;hl=en&amp;start=3&amp;usg=__6g25GTp4DnXmwjr8ZHi4GxoAgIw=&amp;tbnid=L8O_PlTgyDENPM:&amp;tbnh=98&amp;tbnw=130&amp;prev=/images%3Fq%3Dnetwork%2Btechnical%2Bfailures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artoonstock.com/newscartoons/cartoonists/esm/lowres/esmn114l.jpg&amp;imgrefurl=http://www.cartoonstock.com/directory/h/human_errors.asp&amp;h=297&amp;w=400&amp;sz=23&amp;hl=en&amp;start=1&amp;usg=__Gq651RNC7WfI75tem_NFR90Afvk=&amp;tbnid=DIVy2_WQgksIhM:&amp;tbnh=92&amp;tbnw=124&amp;prev=/images%3Fq%3Dhuman%2Berrors%26gbv%3D2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 15 Lecture 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DAMAGING THREA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THREATS (causing Damage or Destruction of Systems or Infor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isa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cious Damage (internal or exter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Err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tural Disaste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nge from simple power cuts to floods or f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quire organisational measures to cope with extreme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ffects depend on how critical the system is – air traf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mploy necessary technology to provide resil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197000"/>
            <a:ext cx="460872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atural Disast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923920"/>
            <a:ext cx="77724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ASTER RECOVERY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mote storage of data acquired in daily back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mote Mirroring of critical ser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ternative data centres to transfer control at times of serious emerg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197000"/>
            <a:ext cx="460872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licious Dama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ernal &amp; External ca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ackers or disgruntled employ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n be physical damage as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ecurity techniques required to limit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2908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484280"/>
            <a:ext cx="3672000" cy="11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ical Failu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533412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1480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3068640"/>
            <a:ext cx="7848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ways a risk with complex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oss of servers, storage devices, internet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echnical damage can cause commercial damage and also inhibit the security of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125360"/>
            <a:ext cx="374508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Human Erro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78136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The most unpredictable and common causes of security issues in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orgetfulness, Ignorance, Innocence, Lack of knowle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Backup data and place in a secure lo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rase hard drives before disposal of compu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lose ports on firewa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ll can lead to network intrusion and vir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Increased attacks on broadband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ocial engineering and phishing atta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907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413000"/>
            <a:ext cx="35272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f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533412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1480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2637000"/>
            <a:ext cx="784872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mpacts caused by theft of data &amp; technical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acking or data removal via CD or memory sti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n-shredding of discarded printou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ft of computers, laptops &amp; external hard dr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n cause long-term commercial damage, give advantage to competitors, loose customer good-will, financial ruin, loss of employment or legal 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87640" y="1052640"/>
            <a:ext cx="2808360" cy="129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sheila.cassidy-allan</cp:lastModifiedBy>
  <dcterms:modified xsi:type="dcterms:W3CDTF">2009-09-24T11:17:32Z</dcterms:modified>
  <cp:revision>233</cp:revision>
  <dc:subject/>
  <dc:title>AVCE – UNIT 14 Project Management</dc:title>
</cp:coreProperties>
</file>