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D91B-EE3C-4D35-B9C9-03E37D96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8B4F-9334-47B1-AFCE-BB74A3A2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8081-E3E1-43A1-BBA3-16C6293D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2B42-4430-4FBD-826B-308F8D95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09D7-AA42-4CAF-81B1-06C91A1E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59CD-6FC5-4D0B-894F-25E4BF1F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0F7D-0D1F-40BC-A344-505D91A3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BDA2-4205-4F0E-9D5F-FC95F7EF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C55E-45B2-4E41-A2C9-93C4B647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19D7-5D01-4159-9F2A-5C9C77F2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1BB8-029D-4C02-9491-8759D781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0383-5592-4AAE-AE28-17D33AF7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8A6F-D05F-44EF-96F9-0BBB6A4E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B028-2EB8-46AD-8254-7029D416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516F-2333-4B4A-BD8E-97F12D99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E4FC-D89C-4CA9-B5F8-9C4970B4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079D-CA85-4B1F-AF78-81AE720A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A041-C62C-4A5C-9993-E2E4E830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C6D-EFB1-4C3B-AA8F-4BFEBDE0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62FC-B3C7-47E1-8845-2E9F276D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B38C-9722-45AF-BD68-463744D2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4C19-5803-42AA-ADA5-DB5AA0A0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6C93-9D2C-4FBB-A228-E41E49C6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9D47-D2ED-4DD2-AB62-BF955203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75C9-8080-4610-AF34-E1591FBEB17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9080-75B8-4266-99E3-8AD9E5997C2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donitaworld.com/Graphics/blog/NaturalDisasters.jpg&amp;imgrefurl=http://currentinthenews.blogspot.com/2008/05/week-of-scary-natural-disasters.html&amp;h=462&amp;w=616&amp;sz=17&amp;hl=en&amp;start=21&amp;usg=__CBqDDExWYrILuJE1PLKj3qB7uCM=&amp;tbnid=uzRhZBgU73EsNM:&amp;tbnh=102&amp;tbnw=136&amp;prev=/images%3Fq%3Dnatural%2Bdisasters%26start%3D20%26gbv%3D2%26ndsp%3D20%26hl%3Den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donitaworld.com/Graphics/blog/NaturalDisasters.jpg&amp;imgrefurl=http://currentinthenews.blogspot.com/2008/05/week-of-scary-natural-disasters.html&amp;h=462&amp;w=616&amp;sz=17&amp;hl=en&amp;start=21&amp;usg=__CBqDDExWYrILuJE1PLKj3qB7uCM=&amp;tbnid=uzRhZBgU73EsNM:&amp;tbnh=102&amp;tbnw=136&amp;prev=/images%3Fq%3Dnatural%2Bdisasters%26start%3D20%26gbv%3D2%26ndsp%3D20%26hl%3Den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elecsec.co.uk/images/keys_or_fob.jpg&amp;imgrefurl=http://www.elecsec.co.uk/access_control.html&amp;h=250&amp;w=540&amp;sz=21&amp;hl=en&amp;start=16&amp;usg=__OLuh2x_L_G8f-r5UoxqDUUvQeRs=&amp;tbnid=-sG-7u141Q19WM:&amp;tbnh=61&amp;tbnw=132&amp;prev=/images%3Fq%3Dmalicious%2Bdamage%26gbv%3D2%26hl%3D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farm1.static.flickr.com/13/18480748_a42e246901.jpg%3Fv%3D0&amp;imgrefurl=http://flickr.com/photos/missdxb/18480748/&amp;h=375&amp;w=500&amp;sz=57&amp;hl=en&amp;start=3&amp;usg=__6g25GTp4DnXmwjr8ZHi4GxoAgIw=&amp;tbnid=L8O_PlTgyDENPM:&amp;tbnh=98&amp;tbnw=130&amp;prev=/images%3Fq%3Dnetwork%2Btechnical%2Bfailures%26gbv%3D2%26hl%3De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cartoonstock.com/newscartoons/cartoonists/esm/lowres/esmn114l.jpg&amp;imgrefurl=http://www.cartoonstock.com/directory/h/human_errors.asp&amp;h=297&amp;w=400&amp;sz=23&amp;hl=en&amp;start=1&amp;usg=__Gq651RNC7WfI75tem_NFR90Afvk=&amp;tbnid=DIVy2_WQgksIhM:&amp;tbnh=92&amp;tbnw=124&amp;prev=/images%3Fq%3Dhuman%2Berrors%26gbv%3D2%26hl%3De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GANISATIONAL SYSTEMS SECURITY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t 15 Lecture 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THER DAMAGING THREA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THREATS (causing Damage or Destruction of Systems or Infor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Disas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icious Damage (internal or extern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Fail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Err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tural Disaster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nge from simple power cuts to floods or f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quire organisational measures to cope with extreme 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ffects depend on how critical the system is – air traf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mploy necessary technology to provide resil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197000"/>
            <a:ext cx="4608720" cy="15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atural Disaste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923920"/>
            <a:ext cx="77724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ASTER RECOVERY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mote storage of data acquired in daily back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mote Mirroring of critical serv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ternative data centres to transfer control at times of serious emerg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197000"/>
            <a:ext cx="4608720" cy="15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licious Damag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7724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ternal &amp; External cau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ackers or disgruntled employ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an be physical damage as w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ecurity techniques required to limit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1964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2908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484280"/>
            <a:ext cx="3672000" cy="11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chnical Failu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5334120"/>
            <a:ext cx="731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1480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3068640"/>
            <a:ext cx="78487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ways a risk with complex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oss of servers, storage devices, internet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echnical damage can cause commercial damage and also inhibit the security of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1125360"/>
            <a:ext cx="3745080" cy="12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7772400" cy="119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Human Erro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278136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The most unpredictable and common causes of security issues in netwo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orgetfulness, Ignorance, Innocence, Lack of knowled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Backup data and place in a secure lo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rase hard drives before disposal of compu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lose ports on firewal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ll can lead to network intrusion and viru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Increased attacks on broadband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ocial engineering and phishing atta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9076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413000"/>
            <a:ext cx="352728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f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5334120"/>
            <a:ext cx="731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1480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2637000"/>
            <a:ext cx="784872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mpacts caused by theft of data &amp; technical 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acking or data removal via CD or memory sti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n-shredding of discarded printou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ft of computers, laptops &amp; external hard dri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an cause long-term commercial damage, give advantage to competitors, loose customer good-will, financial ruin, loss of employment or legal a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987640" y="1052640"/>
            <a:ext cx="2808360" cy="129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sheila.cassidy-allan</cp:lastModifiedBy>
  <dcterms:modified xsi:type="dcterms:W3CDTF">2009-09-24T11:17:32Z</dcterms:modified>
  <cp:revision>233</cp:revision>
  <dc:subject/>
  <dc:title>AVCE – UNIT 14 Project Management</dc:title>
</cp:coreProperties>
</file>