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607-C594-4F26-88F1-FCA567A4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255-DDFA-45FA-AB6A-983D256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BF9-AFB9-430C-B95B-36FACA6E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4A9-4E60-4353-80D9-B2307A63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8D1-37CD-47D8-B4F2-4095068F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4316-72F2-49FC-94F5-76B724FC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0CCE-7209-4CEB-B183-C69B555A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9692-C2B1-458B-969D-E3DF1713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C00B-AC98-4C50-838A-19A300BD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D009-9C61-47C2-B96B-312E3849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36C1-6C48-4335-8DB8-09574954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ED8-41FB-4704-8BFA-797777C0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93EC-0420-4121-9263-3D8E88E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0F46-113B-4989-BD58-4E58213F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9727-89D0-4617-9063-39D7206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46EC-717B-4940-A99E-0CF5168C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885C-C241-4B50-9C06-2315FDA7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6E6-EA7A-4335-A220-369AF558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9D3-EDE6-42E3-940D-3A2EE06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F90-EB1C-42CF-B419-0FC21AFA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7A2-2937-4E17-A183-72292ABF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29E-81B2-45BB-A9D4-61729A3B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CCA-946A-4DA1-BB40-4BED9368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AA1-A4D6-4AF3-9121-1CAF4715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4110-2CD4-48BA-B23B-946DDBD7C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EE13-8920-47E5-B35E-DCC4D87AA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 ANALYSIS SOFTW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S OF NETWORK ANALYSIS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ter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gry IP Scan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Ettercap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(Primary ARP Poisoning Too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intercept traffic on a network 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an capture passwords &amp; conduct Man in the Middle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lters data packets by IP addresses or MAC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RP poisoning (MIM) between victims &amp; h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S fingerprinting of victims &amp; Killing of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assive scanning of host’s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nd other poisoners on th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22000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IRESHARK (Ethereal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ree packet sniffer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ocol scanner looking at data pac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sed in the detection of Keylogg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e all traffic passed over a network or outgoing traffic from a comp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etwork Troubleshooting Analy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048360" cy="17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MA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3357720"/>
            <a:ext cx="7848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twork Security Sca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ep probe scanner to reveal information about a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reates a map of the network – computers &amp;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discover passive services not adverti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rt Scanning &amp; O/S detection of network de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t the security of a computer or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3723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GRY IP SC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ast &amp; visual scanner looking at a large range of IP addr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check TCP ports during sc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n also display NetBios and devic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69080" cy="20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00280"/>
          <a:ext cx="7772400" cy="4029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ternal 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e of Scann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rus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n in the Middle atta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ojan Hor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gic Disk tactic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o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logg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cking via Piggybacking, Tunnels &amp; Pro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ging D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ishing &amp; Identity Thef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authorised Access – Internal Threa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26828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ca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what methods may be used to attack a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n a range of IP addresses – active or passive (can map to a domain na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CP ports – open &amp; cl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ep Probe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ful information about any de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reless Systems scann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 access points within range (Retina Network Security Scann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12T13:39:36Z</dcterms:modified>
  <cp:revision>224</cp:revision>
  <dc:subject/>
  <dc:title>AVCE – UNIT 14 Project Management</dc:title>
</cp:coreProperties>
</file>