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6A3-BB53-4724-8CAF-59333A9D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B65-CD62-4630-9BAC-51434D1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7AC-9812-4B04-8D18-E685769D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B55-7CAD-4BC6-854B-61B82192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013D-D338-4EB5-A7FE-175882E2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9CDF-0B98-464B-8B4F-85486E98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0092-512E-411B-B5C4-E107B29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C176-1301-49B0-9F47-1F51A917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874-0273-4DA3-BCCD-293A792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1D28-E2B7-4E90-BC79-05FF1650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8A8-46A8-41B4-8DFD-5A22F82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718-545F-46A7-B931-4DCD5AB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8999-D14C-49DD-A1AD-6F50B01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5407-DA42-4258-BABF-3BC7A84F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C577-71E2-48D2-97E5-827B36F8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ED92-4685-4261-BAF9-5C3AF323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E22E-72BA-4C29-82D1-66992572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FDD-56ED-4D13-92B8-DE19575B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365-C085-4FD2-85B7-B37612D7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26B-1D67-42AD-A390-624E1D2D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C1A-4568-47F0-8A36-DB092511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9E5-A7A7-494F-A1E1-77E6637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336-4FDC-447A-AEA5-E06AB3B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3BD-F167-4ADB-B896-B21B19C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F530-3285-4734-8613-4148FD969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EF49-CCBC-49A4-A2B2-B2F0328A3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ANALYSIS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NETWORK ANALYSI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ter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gry IP Sc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tterca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Primary ARP Poisoning Too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intercept traffic on a network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capture passwords &amp; conduct Man in the Middle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lters data packets by IP addresses or MAC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RP poisoning (MIM) between victims &amp; h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S fingerprinting of victims &amp; Killing of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assive scanning of host’s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nd other poisoners on th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20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ree packet sniffer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ocol scanner looking at data pac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sed in the detection of Keylo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e all traffic passed over a network or outgoing traffic from a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etwork Troubleshooting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83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357720"/>
            <a:ext cx="784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work Security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ep probe scanner to reveal information about a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reates a map of the network – computers &amp;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discover passive services not adverti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rt Scanning &amp; O/S detection of network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t the security of a computer or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GRY IP SC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ast &amp; visual scanner looking at a large range of IP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check TCP ports during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also display NetBios and devic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00280"/>
          <a:ext cx="7772400" cy="4029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 of Scan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rus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 in the Middle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ojan Hor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ic Disk tact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logg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king via Piggybacking, Tunnels &amp; Pro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ging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shing &amp; Identity Th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authorised Access – In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6828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what methods may be used to attack a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n a range of IP addresses – active or passive (can map to a domain 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CP ports – open &amp;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ep Probe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information about any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Systems scann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 points within range (Retina Network Security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12T13:39:36Z</dcterms:modified>
  <cp:revision>224</cp:revision>
  <dc:subject/>
  <dc:title>AVCE – UNIT 14 Project Management</dc:title>
</cp:coreProperties>
</file>