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C57-7A5F-4C65-928A-C90562E4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1E5-868C-4966-827E-C2E7F95D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C01-ACAF-4587-99A4-97600753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783-6D0F-4FC2-B39B-D52AA32A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02F2-3239-4A38-BA43-884C7583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1383-DAE7-483D-86B8-2347F48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ADD9-81B0-4C6C-AA93-650BAE43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5E92-B394-444B-B972-A8DCED2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D4F7-C244-40A4-A3EA-CAE4F8B0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FAF4-E14F-43E4-8336-DCFA616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9567-FA89-4AB9-BE41-6290D8E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7B9-F336-4046-9276-09483004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F717-3C08-4FE6-B2D6-81F503D6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4885-6336-4FF4-952D-17DC270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C7F4-FB15-4EEF-862D-B8D47A7F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756B-2B97-49AE-AD66-88F896DA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362E-305F-4D11-A4FB-EC59A78D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7B6-0336-46D2-B049-2558A94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3A8-D76B-452B-9F29-C7256658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AD0-55FB-4DDB-859E-1A97ED4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DC2-A749-47E9-8A7C-472B2AFF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05C-AB7F-4A3C-93D0-0EE9645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B92-1495-4C80-9844-51C2BA03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6CA-6A12-48C4-8711-4E8A912C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2BF2-84D8-4544-B11E-84A717314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B5B6-5ED5-40BD-AE7E-674546CB3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 ANALYSIS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NETWORK ANALYSIS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ter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gry IP Sca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ttercap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Primary ARP Poisoning Too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intercept traffic on a network 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capture passwords &amp; conduct Man in the Middle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lters data packets by IP addresses or MAC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RP poisoning (MIM) between victims &amp; h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S fingerprinting of victims &amp; Killing of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assive scanning of host’s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nd other poisoners on th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220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ree packet sniffer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ocol scanner looking at data pac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sed in the detection of Keylog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e all traffic passed over a network or outgoing traffic from a comp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etwork Troubleshooting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4836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357720"/>
            <a:ext cx="784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work Security Sc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ep probe scanner to reveal information about a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reates a map of the network – computers &amp;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discover passive services not adverti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rt Scanning &amp; O/S detection of network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t the security of a computer or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3723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GRY IP SC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ast &amp; visual scanner looking at a large range of IP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check TCP ports during s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also display NetBios and devic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00280"/>
          <a:ext cx="7772400" cy="4029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 of Scann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rus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 in the Middle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ojan Hor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ic Disk tact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logg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king via Piggybacking, Tunnels &amp; Pro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ging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shing &amp; Identity Thef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authorised Access – In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26828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what methods may be used to attack a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n a range of IP addresses – active or passive (can map to a domain na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CP ports – open &amp;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ep Probe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information about any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Systems scann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 access points within range (Retina Network Security Scann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12T13:39:36Z</dcterms:modified>
  <cp:revision>224</cp:revision>
  <dc:subject/>
  <dc:title>AVCE – UNIT 14 Project Management</dc:title>
</cp:coreProperties>
</file>