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20AA-2F23-4F63-8948-CA86FF4E2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927C-BC89-4274-9851-4A4BD4AA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E238-2781-47C0-A722-EECB0CC84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3032-12D5-4F9A-9C0B-D812D416D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4384-2C09-4C95-9740-1A2B17BC2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A2E81-FCB0-42D4-8890-49D30935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7489-D18D-4931-992A-63A55A3A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C7C4-D0A8-4D5E-9C6F-35F4EAF6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8F7D-3C3F-40EB-A8FE-8F61E292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02B4-04F5-421D-8309-6CDAAD65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58F8-B623-4ECB-823D-A5CA43D3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04BB-0679-4375-A0C7-670061CD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4096-513F-4584-AA30-6A12C15E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0AEC-D02F-4E23-979A-2CA7F366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FFCF-D52E-4B27-B4AD-5D7F3F74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5860-BF3E-4984-8759-B0436A622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E06C-EB64-446C-B1E1-12A8EB618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72D2-1074-4F68-BD52-C31FF0EA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66E3-8208-4984-8911-A8D075CA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5FA6-45E8-4BAD-BC0C-520D3C29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B53B-9082-4917-9BB0-16B87112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3745-563F-4A22-8089-A572DA55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5BD7-4084-462E-A12E-5808070E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4793-4832-4A00-B280-9170848E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6A75-F4BE-4ABF-AF6E-8B30373D61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E34C-E8C4-40C6-ABDC-80E3E0BCC2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RGANISATIONAL SYSTEMS SECURITY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it 15 Lecture 2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TWORK ANALYSIS SOFTW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AMPLES OF NETWORK ANALYSIS 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tterc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reshark (Ethere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M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gry IP Scann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Ettercap</a:t>
            </a:r>
            <a:br>
              <a:rPr sz="3200"/>
            </a:b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(Primary ARP Poisoning Tool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3428640"/>
            <a:ext cx="7772400" cy="25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Can intercept traffic on a network seg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Can capture passwords &amp; conduct Man in the Middle attac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Filters data packets by IP addresses or MAC addres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ARP poisoning (MIM) between victims &amp; hos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OS fingerprinting of victims &amp; Killing of conn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Passive scanning of host’s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Find other poisoners on the net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5220000" cy="19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IRESHARK (Ethereal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77240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ree packet sniffer 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rotocol scanner looking at data pack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Used in the detection of Keylogg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ee all traffic passed over a network or outgoing traffic from a compu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Network Troubleshooting Analy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1964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2908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048360" cy="17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MAP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5334120"/>
            <a:ext cx="7315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1480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3357720"/>
            <a:ext cx="78483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etwork Security Scan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ep probe scanner to reveal information about a de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reates a map of the network – computers &amp; 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an discover passive services not adverti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rt Scanning &amp; O/S detection of network de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dit the security of a computer or net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6372360" cy="223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NGRY IP SCANN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3809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ast &amp; visual scanner looking at a large range of IP addres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an check TCP ports during sc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an also display NetBios and devic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9076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4969080" cy="208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Internal &amp; External Threa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11280" y="1700280"/>
          <a:ext cx="7772400" cy="40291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nternal Threa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xternal Threa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e of Scann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rus Attack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n in the Middle attack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ojan Hors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gic Disk tactic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rm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eylogg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cking via Piggybacking, Tunnels &amp; Prob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orging Da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ishing &amp; Identity Thef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authorised Access – Internal Threa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268280"/>
            <a:ext cx="7772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cann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 what methods may be used to attack a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an a range of IP addresses – active or passive (can map to a domain na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TCP ports – open &amp; clo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ep Probe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ful information about any de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reless Systems scanner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ablish access points within range (Retina Network Security Scann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12:25:37Z</dcterms:created>
  <dc:creator>IT Department</dc:creator>
  <dc:description/>
  <dc:language>en-US</dc:language>
  <cp:lastModifiedBy>Administrator</cp:lastModifiedBy>
  <dcterms:modified xsi:type="dcterms:W3CDTF">2008-09-12T13:39:36Z</dcterms:modified>
  <cp:revision>224</cp:revision>
  <dc:subject/>
  <dc:title>AVCE – UNIT 14 Project Management</dc:title>
</cp:coreProperties>
</file>