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0AD5-4B91-4E66-837B-9F787A62E2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ACD3-C913-465B-9C70-B1059C56EC6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6DF-B05B-4EE2-8D75-A85DB427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0F8-85BF-476A-8C3B-4A57A3D0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56D-02B4-44E9-86BF-E6DA1B8B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D7D-947D-4B61-ACAD-E53BC5E9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AA15-F953-4F19-82ED-11AC78F9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BA17-AFC1-442C-93BF-B4238C99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FF51-BD05-4EED-B858-A8E04E44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F336-8AF9-4765-B261-AB559A1E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44F7-F2F7-4203-86EC-821A0CFB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3BDA-BBDA-4F24-9226-1A4047F7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7D01-9A91-4270-8990-95A9293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BE1-8F52-4927-81AB-FCF67F33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F9EE-7201-46C1-9EDA-DDC79694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9FFA-B4D2-4E5C-AAD1-3F72B254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C38D-22F9-4BB7-8C36-CD67C046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551D-A686-4CD2-B1DA-EAFCA43F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F0EA-013B-4168-89ED-6BA5DDD4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4AA-2870-4102-A8CE-5AF2904D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079-FD22-460D-BA9A-F99AA645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87E-C749-45BB-A045-178DF5CA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8BA-867A-4510-A046-77FB1374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58B-3D58-4344-AB90-39360789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F8F-0F1F-446C-AF5C-6CA9D29C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EE6-EF64-42A2-B7C2-9A40AAB6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F5BC-38EB-4DD9-BB98-052F5A4092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4541-6172-4A03-80CF-97512144F8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5F7F-1500-4937-8751-DD2501A840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cep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inds of Networks Exis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C6D2-F2A1-48A3-8D21-E0F19AEF8C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81A5-D622-4041-95BC-8E90DD3DD6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that uses resources on the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inter client for instance, is a computer that uses a network pr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A369-C0AD-4945-8153-F6A4238C61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or device with a computer hidden inside, that has resources used by other devices on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a file server is a computer that stores files used by othe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FF2A-44A9-468B-BC21-C47B16FA80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ver makes resources available to the network, and a client uses th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6BA4-848F-481B-9F14-D32A083510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er to Pe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peer to peer network all computers are eq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uters function as both the client and the ser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to peer networks can be set up so that some computers only share their resources and some computers only us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uter is administered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0DF6-0151-4A72-865A-7AB9D5C0A5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-Serv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more expensive and difficult to set compared with peer to pee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ore sophisticated administration and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sources are managed centrally on dedicated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network operating system like Windows NT /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use of a domain to administer us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E76B-4405-425E-A110-249DB0D86D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Workgroup based and Domain 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497800" cy="4542120"/>
        </p:xfrm>
        <a:graphic>
          <a:graphicData uri="http://schemas.openxmlformats.org/drawingml/2006/table">
            <a:tbl>
              <a:tblPr/>
              <a:tblGrid>
                <a:gridCol w="1873080"/>
                <a:gridCol w="3311640"/>
                <a:gridCol w="331308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er to P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mall networks – 15 Workstations are u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medium to large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w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edicated fil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least on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 HOME, Professional on all mach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is required on the server – at OS on other machines is 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training is needed users administer their own mach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s administrator must be tra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computer’s user has control over 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 has control over sh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340000" y="2133720"/>
            <a:ext cx="316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781360"/>
            <a:ext cx="3168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3500280"/>
            <a:ext cx="3168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508640"/>
            <a:ext cx="31687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516640"/>
            <a:ext cx="31687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2133720"/>
            <a:ext cx="3166920" cy="579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2781360"/>
            <a:ext cx="31669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500280"/>
            <a:ext cx="31669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3080" y="4508640"/>
            <a:ext cx="31669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3080" y="5516640"/>
            <a:ext cx="3166920" cy="64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493A-5FEF-4CDB-973E-FC26DE9F7B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10-01T15:29:12Z</dcterms:modified>
  <cp:revision>39</cp:revision>
  <dc:subject/>
  <dc:title>Computer Platforms Week 1</dc:title>
</cp:coreProperties>
</file>