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59497-0AD8-494C-BB0D-7EBB417AFDD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F753F-D8CE-4600-894E-4B7EA8237F1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5E5F-E9BA-4389-B6BC-DD3C9CF3D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E4A2-1687-4452-8E0D-48D43B939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D8BC-5D72-41E7-964D-4D331D435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9E80-658B-48B9-82C8-5E6F2347A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369C7-F5B2-4EE7-8A1D-B49503A1B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3AB1E-35B5-4B82-8A7D-C33514990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2D842-3E9A-47A3-AB07-09D826920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E3690-4728-4CF3-AED4-812C2BCB9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AE97D-F65D-4CE1-97DC-1B722FFA2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E79A9-FC33-477F-86BB-052AD250E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C68A1-4A0C-4E97-BA70-EA05CDF9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0457-222E-4818-88E8-CBD5F8945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98CB6-23E2-4B48-9515-A2738F54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930AC-B134-4EBD-BC0F-B0C539AF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5C538-211D-492F-B817-EC9DEF31D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BCE58-1D68-4322-A538-E23B3E828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AB703-1943-4939-87E7-23DA782A5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6F8B-9B1E-4642-89A1-8D0DC8372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F5F2-30CC-4D32-B412-87BAC597C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FC6B-5C24-4629-831F-0E580F178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498C-325C-431D-AEB6-58D3515B2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40C0-A68A-4036-AFE8-832BA446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FCE4-B7BF-4061-B3FF-AA0FFE03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DEE9-645D-4CD4-81BA-DBFF9DEC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59B6A-0025-419E-A631-374C26BE125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4EADC-026A-4177-84F8-8EE078283F9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4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4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C3904-13A0-4B41-AF0D-377F0F0DB32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twork Concept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Kinds of Networks Exist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nds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Networ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A9380-65D1-4E01-AD37-4C84B6A5FBA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stand the terms Client and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 Peer to Peer Networks (Workgroup bas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 Client-Server Networks (Domain bas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in knowledge into the difference between Workgroup based and Domain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E50F6-8452-4367-A199-0A09A9ACE0B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nderstand the terms Client and Serv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a computer that uses resources on the networ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rinter client for instance, is a computer that uses a network prin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21FF2-1CE1-4096-A8F1-D45A11663B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nderstand the terms Client and Serv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a computer or device with a computer hidden inside, that has resources used by other devices on the 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 a file server is a computer that stores files used by other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C1302-2587-4960-A305-81D1C0EC76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nderstand the terms Client and Serv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erver makes resources available to the network, and a client uses the resour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EC10B-85B5-4105-A423-3D96226700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er to Peer Networ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a peer to peer network all computers are equ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computers function as both the client and the serv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er to peer networks can be set up so that some computers only share their resources and some computers only use resour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computer is administered individu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082A6-0371-4DE5-8D34-98AEF3526F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ent-Server Networ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ically more expensive and difficult to set compared with peer to peer network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more sophisticated administration and secur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resources are managed centrally on dedicated serv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quire a network operating system like Windows NT / Uni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s use of a domain to administer user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D8CAB-A0CD-4C19-9E58-45CB13D935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difference between Workgroup based and Domain bas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95280" y="1628640"/>
          <a:ext cx="8497800" cy="4542120"/>
        </p:xfrm>
        <a:graphic>
          <a:graphicData uri="http://schemas.openxmlformats.org/drawingml/2006/table">
            <a:tbl>
              <a:tblPr/>
              <a:tblGrid>
                <a:gridCol w="1873080"/>
                <a:gridCol w="3311640"/>
                <a:gridCol w="3313080"/>
              </a:tblGrid>
              <a:tr h="41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er to Pe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ent-Serv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z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od for small networks – 15 Workstations are u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od for medium to large networ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rdwa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dedicated file server is need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 least one server is need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P HOME, Professional on all machin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S is required on the server – at OS on other machines is limit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in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ttle training is needed users administer their own mach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stems administrator must be train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ource Contro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ach computer’s user has control over resour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stem administrator has control over shar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>
            <a:off x="2340000" y="2133720"/>
            <a:ext cx="3168720" cy="5745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340000" y="2781360"/>
            <a:ext cx="3168720" cy="64764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340000" y="3500280"/>
            <a:ext cx="3168720" cy="936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340000" y="4508640"/>
            <a:ext cx="3168720" cy="936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340000" y="5516640"/>
            <a:ext cx="3168720" cy="6523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653080" y="2133720"/>
            <a:ext cx="3166920" cy="57924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653080" y="2781360"/>
            <a:ext cx="3166920" cy="6523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653080" y="3500280"/>
            <a:ext cx="3166920" cy="936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53080" y="4508640"/>
            <a:ext cx="3166920" cy="936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53080" y="5516640"/>
            <a:ext cx="3166920" cy="649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182B6-F0B8-417C-A474-AEA25BA5488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ined an understanding into the terms Client and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ed Peer to Peer Networks (Workgroup bas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ed Client-Server Networks (Domain bas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ined knowledge into the difference between Workgroup based and Domain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2:34:30Z</dcterms:created>
  <dc:creator>brendan.coulson</dc:creator>
  <dc:description/>
  <dc:language>en-US</dc:language>
  <cp:lastModifiedBy>annelise.arnold</cp:lastModifiedBy>
  <dcterms:modified xsi:type="dcterms:W3CDTF">2009-10-01T15:29:12Z</dcterms:modified>
  <cp:revision>39</cp:revision>
  <dc:subject/>
  <dc:title>Computer Platforms Week 1</dc:title>
</cp:coreProperties>
</file>