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0CAD-DADA-4A69-9120-68BF42C5D1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8505-16CB-4448-86C6-072B1C0CBA8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1C6-80D6-40F4-97D3-1C8846BB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6F6A-903D-4EEB-9AF0-023543A5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F4B-F0C1-49EB-8409-35099658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8319-2FD8-4D06-92BA-9A67AA3A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2CCA-72F9-460E-A31C-AD6B552F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C09E-6011-4373-9C05-2F25134A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45F9-2222-4DE0-82C3-00C2CEE6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9140-8DBB-4865-8418-F5771592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D211-E8C5-434A-8B46-DDAA8756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2B94-BF24-417B-9CAF-27B291F8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B093-C6A6-484A-97B1-4751FBB6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ADD0-1C57-4D4B-856C-5305E26F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52C7-9706-4E27-9540-0853D797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B786-E2EC-4B5C-89FE-73BA2752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D6E5-E10B-4FC5-AF29-912A5024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B789-B904-4CF3-9C91-7C163454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C92B-D7CC-4A95-B6D8-83B591CB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0312-D1CB-43F3-8101-8069F608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A4B-2BE2-4C69-8ED1-E473A10E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FC6E-4045-4BA0-9DD8-5261D747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D03A-2FF8-403E-849E-9F0F403D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A5F-A70D-4F61-9A1F-173F8CD9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8C78-8EF6-4F36-9900-F8531535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D3A0-86AB-40DE-96A2-8F9F75D7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670F-12E6-4CBE-8EB0-ABA71DA6CA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D409-A833-43E3-9C5B-07ABD45EE5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DAE2-D0E3-478B-B9C9-2473D78D9F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Concep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Kinds of Networks Exist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d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Net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5850-3FE5-4E57-8FAF-3FDB3B5D4A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Peer to Peer Networks (Workgroup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Client-Server Networks (Domain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knowledge into the difference between Workgroup based and Domai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C6F8-B709-4534-AEAC-082FCD14C0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computer that uses resources on the net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inter client for instance, is a computer that uses a network pri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EBA2-249E-4981-885C-818F285622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computer or device with a computer hidden inside, that has resources used by other devices on the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 a file server is a computer that stores files used by other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9078-8C1F-482C-8D3C-143A191717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rver makes resources available to the network, and a client uses th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2DF0-9A7C-47A8-9470-D400ECAAAD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er to Peer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peer to peer network all computers are eq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omputers function as both the client and the ser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to peer networks can be set up so that some computers only share their resources and some computers only us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uter is administered individ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790B-25B9-4C17-A1CA-A30C4C1B25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ent-Server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ly more expensive and difficult to set compared with peer to peer networ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more sophisticated administration and secu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resources are managed centrally on dedicated serv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a network operating system like Windows NT /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s use of a domain to administer user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7BEE-E354-4694-9F3D-FBEB918C3B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fference between Workgroup based and Domain 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1628640"/>
          <a:ext cx="8497800" cy="4542120"/>
        </p:xfrm>
        <a:graphic>
          <a:graphicData uri="http://schemas.openxmlformats.org/drawingml/2006/table">
            <a:tbl>
              <a:tblPr/>
              <a:tblGrid>
                <a:gridCol w="1873080"/>
                <a:gridCol w="3311640"/>
                <a:gridCol w="3313080"/>
              </a:tblGrid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er to Pe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ent-Ser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small networks – 15 Workstations are u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medium to large net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w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dedicated file server is nee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least one server is nee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P HOME, Professional on all machi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S is required on the server – at OS on other machines is limi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i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 training is needed users administer their own mach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s administrator must be train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 Cont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ch computer’s user has control over resour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administrator has control over sha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2340000" y="2133720"/>
            <a:ext cx="3168720" cy="5745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40000" y="2781360"/>
            <a:ext cx="316872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40000" y="3500280"/>
            <a:ext cx="31687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40000" y="4508640"/>
            <a:ext cx="3168720" cy="93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40000" y="5516640"/>
            <a:ext cx="3168720" cy="652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53080" y="2133720"/>
            <a:ext cx="3166920" cy="5792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53080" y="2781360"/>
            <a:ext cx="3166920" cy="652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3080" y="3500280"/>
            <a:ext cx="31669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3080" y="4508640"/>
            <a:ext cx="3166920" cy="93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3080" y="5516640"/>
            <a:ext cx="3166920" cy="649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4B82-EF22-4F50-AEB5-972E62A0D7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an understanding into the terms Client an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Peer to Peer Networks (Workgroup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Client-Server Networks (Domain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knowledge into the difference between Workgroup based and Domai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annelise.arnold</cp:lastModifiedBy>
  <dcterms:modified xsi:type="dcterms:W3CDTF">2009-10-01T15:29:12Z</dcterms:modified>
  <cp:revision>39</cp:revision>
  <dc:subject/>
  <dc:title>Computer Platforms Week 1</dc:title>
</cp:coreProperties>
</file>