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AD39-59FA-4220-A2F5-B1F7DE4F1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F191-7351-492C-8FBE-BBA272BAC5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CBB-233E-4BD5-A29B-584E30E6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E9C-E7A3-4632-BA5A-34368447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02F-3885-4D92-9D07-138283FE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E64-74E1-4741-8C39-C347AB6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D8D-C0A3-4795-AF96-7935711C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C34D-C210-4D9B-9E23-03910F4B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281E-7DCB-4CBE-9AAF-5CCDDAC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6BA-CC86-419C-91B9-B1A0E7B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FC4A-D892-46CF-BE73-97F6695A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BD2A-D964-4C92-9368-9DF93479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9F2-F87C-4843-BD56-2A4BE562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FE5-0EED-4F71-B5B1-E78A7CE5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E89D-6EBE-441D-92E3-B2E80A4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8907-6387-4B35-873B-45B32366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484-CFAE-46FC-BDF9-7C7E3A04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422A-0DEE-4EDC-BFA0-E9D619F8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2033-5689-4E0D-8BCC-30713F54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F34-0157-4DC4-AEF7-5B3B358E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2C0-0CF5-4B19-B407-4DE834B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8F6-890D-4BB4-B7B6-1768D608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62A-3514-4931-A963-B32D79EE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A27-D536-44A1-B7B6-9BC1652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949-5A95-46BB-B775-3AEA722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BD3-AB41-4DDA-85F8-53956F9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904E-2936-4AB2-A02D-D71BE022B4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DED-E18C-4E0C-B4B8-B97B8EA09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E533-8A6B-4946-A206-70C38B648C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Concep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Kinds of Networks Exis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d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4AC5-7FE4-4B1D-8DD8-D6A2DC4D8E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438-5FE1-46AD-82A4-A0409E8C10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that uses resources on the net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rinter client for instance, is a computer that uses a network pr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188-80CE-41FD-890D-BEA3BA5F8E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computer or device with a computer hidden inside, that has resources used by other devices on the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a file server is a computer that stores files used by other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7E9-82C2-43D1-9DA2-4E8284BAF4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terms Client and Ser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erver makes resources available to the network, and a client uses th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7141-1C28-4836-9709-3239E687E1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er to Pe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peer to peer network all computers are eq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omputers function as both the client and the ser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to peer networks can be set up so that some computers only share their resources and some computers only use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uter is administered individ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211D-0A40-4B1D-9A33-A3737F2C44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ent-Server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more expensive and difficult to set compared with peer to pee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ore sophisticated administration and secu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sources are managed centrally on dedicated ser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a network operating system like Windows NT /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use of a domain to administer user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989A-B015-4EC9-93EB-B12D650748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Workgroup based and Domain ba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95280" y="1628640"/>
          <a:ext cx="8497800" cy="4542120"/>
        </p:xfrm>
        <a:graphic>
          <a:graphicData uri="http://schemas.openxmlformats.org/drawingml/2006/table">
            <a:tbl>
              <a:tblPr/>
              <a:tblGrid>
                <a:gridCol w="1873080"/>
                <a:gridCol w="3311640"/>
                <a:gridCol w="3313080"/>
              </a:tblGrid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er to Pe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ent-Ser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mall networks – 15 Workstations are und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medium to large net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w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edicated fil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least one server is need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P HOME, Professional on all machin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S is required on the server – at OS on other machines is 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training is needed users administer their own mach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s administrator must be train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Contr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computer’s user has control over 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administrator has control over sh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2340000" y="2133720"/>
            <a:ext cx="3168720" cy="57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781360"/>
            <a:ext cx="316872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0000" y="3500280"/>
            <a:ext cx="31687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508640"/>
            <a:ext cx="31687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516640"/>
            <a:ext cx="31687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3080" y="2133720"/>
            <a:ext cx="3166920" cy="5792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53080" y="2781360"/>
            <a:ext cx="3166920" cy="6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3500280"/>
            <a:ext cx="3166920" cy="936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3080" y="4508640"/>
            <a:ext cx="3166920" cy="93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3080" y="5516640"/>
            <a:ext cx="3166920" cy="649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NC COMPUTING - Network Conce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48A1-9429-4146-B6BF-86A562B33C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the terms Client an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Peer to Peer Networks (Workgroup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d Client-Server Networks (Domain ba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knowledge into the difference between Workgroup based and Domain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10-01T15:29:12Z</dcterms:modified>
  <cp:revision>39</cp:revision>
  <dc:subject/>
  <dc:title>Computer Platforms Week 1</dc:title>
</cp:coreProperties>
</file>