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AF22-1C1A-4E3F-98EC-DB4B3EDF0F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6B41-5A1F-4D60-9D38-5FB22BB3163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08E9-D6B6-4882-88A4-7E65BD82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3A96-E32F-4F72-B9B0-1D7D3C64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996B-9CA8-4B7B-B586-D04CC0AF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0B6F-7A54-42D3-999D-8E7B9BB5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E7D3-C5F9-43F5-BB1D-FC543B5A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3857-53C9-404B-B08E-A1AED224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FB5B-216E-490E-86CE-2B808876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595D-D0DB-4AB0-81F2-D1F28A50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2216-A6B6-4EC0-8926-97F1EF2F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0657-0829-436A-8967-728C88F8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DE68-F5C0-476D-9731-E6ECB41C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499A-CFE1-4FF2-9767-8D20CCCA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D524-4161-4A33-8E1A-34ABDED3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288F-4920-4E17-9472-34BC09CE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62E2-88F4-48AD-AD10-661A8BCC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56E5-8E83-483A-BE33-E9AC5EEA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17B1-F63B-435A-A87D-3FAC7AA7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7CF7-B608-4E40-94CC-EC911AFF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A1DA-1035-499A-8EEC-2A122E92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89B7-8A52-4929-AF3F-742B5868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F792-1BBF-4948-91AB-EB931B52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5458-A01D-41B7-8802-540E396B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6FF8-FDCC-4E12-972F-E710CE3C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F4FD-5A32-482F-BF75-04BC609B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A337-D4DD-4491-857C-2E334CD2F2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7578-B0C4-42E5-B50A-9BBE8C5DA3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D713-4A91-45EB-A065-AB32DBD70D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Concep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Kinds of Networks Exist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d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Net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C2A7-DC00-456C-9126-14707C17F3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Peer to Peer Networks (Workgroup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Client-Server Networks (Domain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 knowledge into the difference between Workgroup based and Domain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8055-152B-4E8D-806E-A94100A3AE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computer that uses resources on the net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inter client for instance, is a computer that uses a network prin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255C-A1AB-4F2E-9F32-B844798398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computer or device with a computer hidden inside, that has resources used by other devices on the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 a file server is a computer that stores files used by other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5E39-C176-4512-9127-EC5302167A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rver makes resources available to the network, and a client uses the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5D49-13C9-4130-A2AB-60A289A65E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er to Peer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peer to peer network all computers are eq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omputers function as both the client and the ser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to peer networks can be set up so that some computers only share their resources and some computers only use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omputer is administered individ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1A40-6815-4F41-A330-20B25AD645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ent-Server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ically more expensive and difficult to set compared with peer to peer networ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more sophisticated administration and secur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resources are managed centrally on dedicated serv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 a network operating system like Windows NT / U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s use of a domain to administer user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81BA-894F-4C70-B87C-77AEC3DB9D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ifference between Workgroup based and Domain 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5280" y="1628640"/>
          <a:ext cx="8497800" cy="4542120"/>
        </p:xfrm>
        <a:graphic>
          <a:graphicData uri="http://schemas.openxmlformats.org/drawingml/2006/table">
            <a:tbl>
              <a:tblPr/>
              <a:tblGrid>
                <a:gridCol w="1873080"/>
                <a:gridCol w="3311640"/>
                <a:gridCol w="3313080"/>
              </a:tblGrid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er to Pe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ent-Ser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small networks – 15 Workstations are u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medium to large netwo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dw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dedicated file server is need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least one server is need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P HOME, Professional on all machi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S is required on the server – at OS on other machines is limi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i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 training is needed users administer their own mach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s administrator must be train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 Contr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ch computer’s user has control over resour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administrator has control over sha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2340000" y="2133720"/>
            <a:ext cx="3168720" cy="5745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40000" y="2781360"/>
            <a:ext cx="316872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40000" y="3500280"/>
            <a:ext cx="316872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40000" y="4508640"/>
            <a:ext cx="3168720" cy="93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40000" y="5516640"/>
            <a:ext cx="3168720" cy="6523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653080" y="2133720"/>
            <a:ext cx="3166920" cy="5792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53080" y="2781360"/>
            <a:ext cx="3166920" cy="6523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53080" y="3500280"/>
            <a:ext cx="316692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3080" y="4508640"/>
            <a:ext cx="3166920" cy="93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53080" y="5516640"/>
            <a:ext cx="3166920" cy="649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81D8-1793-430B-86DB-0DB09BD449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ed an understanding into the terms Client an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ed Peer to Peer Networks (Workgroup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ed Client-Server Networks (Domain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ed knowledge into the difference between Workgroup based and Domain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annelise.arnold</cp:lastModifiedBy>
  <dcterms:modified xsi:type="dcterms:W3CDTF">2009-10-01T15:29:12Z</dcterms:modified>
  <cp:revision>39</cp:revision>
  <dc:subject/>
  <dc:title>Computer Platforms Week 1</dc:title>
</cp:coreProperties>
</file>