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037-4CFD-4507-A6DC-D850E67F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536-5221-4DF9-B493-5F40C101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FCC-2CFD-4F9A-9D8E-B459144D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47EE-56DF-4E09-AD12-FB4A2768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9F68-4A61-4159-900C-28CA65B8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8814-7704-4C96-93A3-DAF85D0A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3B3A-5051-41AC-AE71-54CF652D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BF61-88C5-48A0-A79A-AF7346AA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EB16-8BDD-45C2-A6DB-FBA02B15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304D-A60A-4A09-8D08-61881E62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4603-0428-46B6-AE19-A6AEC7F0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7D24-8947-4DC0-8C86-7B58AE8F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BD2F-0A18-43DC-870A-143092C5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68A9-F991-44D4-8D55-D873C890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067E-7706-40BF-B7DE-84073E5D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C0E2-D918-4C10-9ACF-8ED09154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08D8-92E2-4B83-A6A0-456DE150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14C-BA0C-42AB-9151-1D7488AD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C19E-AF5E-476E-863A-B6ECA474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80C0-04B6-47EB-9950-67B6B26B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ECFF-2740-449D-B73B-945B1332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B207-958D-4DE3-860E-5B5F9B10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DB9-AE4D-4F98-8C4D-7B409C03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FD3-2F49-4CEB-8ACB-0A174F01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8C40-6200-4164-95D8-6C4E210D1B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56B6-977E-4953-9FB8-7D7CB46996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and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SADM – Investigation &amp;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7C87-CD46-49A1-8654-75ED6B5924C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uirements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functional and non-functional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nctional requirements is described as what a system is expected to do i.e. generate monthly sales re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n-functional consist of C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nstrain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at must be adhered to during develop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ther issues lik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ality, security and usability are also address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sign and implement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D7F9-FD1E-457A-BA3B-B1F1900DA5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unction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npu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system should ac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utpu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system should prod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data the system should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cess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system should per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6258-76F4-4EAE-A8DC-456071F33F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n-functional are C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onstraint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that must be adhered to during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are measurable, such as response time;  availability time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system have to work on a particular computer spec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EC7F-E6BB-4B3A-970A-018E6FF15C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in SSADM there are various modell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D – data flow dia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descriptors (flow charts, pseudo co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D entity relationship dia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can be used to model an existing system to gain a better understanding of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can also be used to model the proposed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0C47-CBFA-4545-8FCC-7DC9ED95C0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insight into the second stage of the SSADM development process; investigation and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ed information gath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insight into 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C1E-49FA-470B-84E4-635FF5D45F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further knowledge into the six stages of the development process (discuss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ge – investigation and analy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nformation gath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insight into 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7B8-30FF-42F4-9FAA-165D8088C1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ion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echniques can you think of that could be used to find-out about both the current system and proposed syst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 analysis (example documentation, inputs and outputs of the system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4C3-0274-4BE8-A12F-E00B597E11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ion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s identified in the documentation can be used to construct questions for questionnaires/intervie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wide range of documentation should be looked at i.e. procedure manuals (to compare with observed practice), complaints files, paper records or fi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04A-1FFC-4D76-B885-BF38D85004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k – get into pairs and identify the advantages and disadvantages of each method in gathering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7062-2788-4109-8567-DCBBCF2465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 – some 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8360" y="1197000"/>
          <a:ext cx="8229600" cy="4908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dvanta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erv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kloads, methods of working, delays and bottlenecks can be identifi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-be time consuming and therefore costl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rs maybe put off by your presenc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roblems may occu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es may not co-opera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ie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ood working relationship can be built up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s can be adjusted as the interview proceed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iewees could identify issues not yet discover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can build upon questions to gain more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-be time consuming and therefore costl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or interview skills could lead to misleading or insufficient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69D-EC2B-438E-9462-C8AF074B74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 – some 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68360" y="1413000"/>
          <a:ext cx="8229600" cy="3576600"/>
        </p:xfrm>
        <a:graphic>
          <a:graphicData uri="http://schemas.openxmlformats.org/drawingml/2006/table">
            <a:tbl>
              <a:tblPr/>
              <a:tblGrid>
                <a:gridCol w="1942920"/>
                <a:gridCol w="3543480"/>
                <a:gridCol w="27432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dvanta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nai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people can be asked the same question, therefore trends can be identifi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eap way of obtaining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encourage honest answer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processed electronicall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not guarantee return rat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cument analy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obtaining factual information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identifying data stor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may not be up-to-d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es may not follow procedure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6D4-DC3B-4FF0-89F9-A4C5DD9E01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tion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ould never depend out on one tech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ould make use of as many techniques as possible (that can be used within the situ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5A5-3E32-4592-8424-6CFBBBAB54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ments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investigation develops and further information is collected, it is likely that the requirements identified in the feasibility study will need mod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is stage a set of requirements are listed and agreed (sign of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FA8-B4F6-4707-99E3-8D23B76100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22T21:39:10Z</dcterms:modified>
  <cp:revision>28</cp:revision>
  <dc:subject/>
  <dc:title>Computer Platforms Week 1</dc:title>
</cp:coreProperties>
</file>