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396C-5BCE-4414-837A-E558CC280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C2D0-25A5-4C5F-ACAF-D0D75D14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A4CD-6BCE-46FA-A33F-A5630AFDC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88B3-4F50-4F8B-AA0F-557078CAF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D33C-1076-4379-89B2-72E8FD6FF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BB38-E308-42EC-B4FA-CD8D7A50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2FEB-98F4-428D-AAB5-0892FE85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D443-7B01-4B14-8B06-E071D0C9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7106-994C-4E06-BC4B-B3F94F45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8EC9-46FF-44CB-AB77-6963079D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027C-ADFE-4CCC-9E7A-F00F45AF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EBCB-4644-4F43-A988-F753818B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C5B1-E668-454D-B2DF-536C4EFE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F9C2-1C41-42D5-8E33-736A864A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B893-6FD4-4FDF-9FE0-A87EFC85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4D2C-87AD-4C48-A549-8279348A7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98C76-C117-4016-B898-71947FEEF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5E5E-2C3F-4D2C-B89B-87228425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539C-3D51-4D1F-9577-5420FE1A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25BA-4FB4-4DFB-BEBC-648F7445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7E57-4E9D-44D6-9EEF-4669CB92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F431-4A23-4D5A-829D-0B8C725A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A11A-FADE-49CC-AC91-A903FE7A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CEB3-DF15-4B71-A2F3-F5E73D8C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04DB-C114-4265-B260-6403DB910A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2E17-7B97-4CDB-86E1-9DA6E0397F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 Systems Analysis and Desig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SADM – Investigation &amp;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3005-2709-4563-9B2B-26C6A2247F4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quirements spec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are functional and non-functional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nctional requirements is described as what a system is expected to do i.e. generate monthly sales re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n-functional consist of C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nstraint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at must be adhered to during develop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other issues lik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ality, security and usability are also address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design and implement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F8E6-02B5-4240-8305-5D938E7833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quirements spec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unctional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input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system should ac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utput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system should produ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data the system should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st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cess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system should per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7858-67C4-4F41-9C81-6B93432575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quirements spec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on-functional are C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onstraint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that must be adhered to during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ments are measurable, such as response time;  availability time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the system have to work on a particular computer spec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5272-3BE2-4E17-9E3E-5500D12C3D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sis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in SSADM there are various modelling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FD – data flow dia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descriptors (flow charts, pseudo cod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D entity relationship dia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can be used to model an existing system to gain a better understanding of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can also be used to model the proposed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3BDC-DFBF-4AC7-9D5C-3917684A70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ed an insight into the second stage of the SSADM development process; investigation and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ed information gath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ed an insight into requirements spec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89E0-E10A-4537-AFA7-B9D562F3E7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 further knowledge into the six stages of the development process (discuss the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age – investigation and analys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 information gath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 an insight into requirements spec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B3AB-9674-4269-9E90-0F0DDF0B0A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stigation techniq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techniques can you think of that could be used to find-out about both the current system and proposed syst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nai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cument analysis (example documentation, inputs and outputs of the system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81D5-715E-4956-B133-EDE89A724B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stigation techniq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cument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sues identified in the documentation can be used to construct questions for questionnaires/interview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wide range of documentation should be looked at i.e. procedure manuals (to compare with observed practice), complaints files, paper records or fi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B69E-D62A-4E09-A8C7-2E51F7197E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sk – get into pairs and identify the advantages and disadvantages of each method in gathering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04F7-0631-4E1C-A685-21B2F1AFB5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 – some examp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68360" y="1197000"/>
          <a:ext cx="8229600" cy="4908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antag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advantag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4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serv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kloads, methods of working, delays and bottlenecks can be identifie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-be time consuming and therefore costly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rs maybe put off by your presenc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problems may occur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ployees may not co-operat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3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view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good working relationship can be built up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s can be adjusted as the interview proceed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viewees could identify issues not yet discovere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can build upon questions to gain more information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-be time consuming and therefore costly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or interview skills could lead to misleading or insufficient information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9733-B08C-4422-B538-EB472B811B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 – some examp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68360" y="1413000"/>
          <a:ext cx="8229600" cy="3576600"/>
        </p:xfrm>
        <a:graphic>
          <a:graphicData uri="http://schemas.openxmlformats.org/drawingml/2006/table">
            <a:tbl>
              <a:tblPr/>
              <a:tblGrid>
                <a:gridCol w="1942920"/>
                <a:gridCol w="3543480"/>
                <a:gridCol w="27432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antag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advantag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nair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 people can be asked the same question, therefore trends can be identifie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eap way of obtaining information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 encourage honest answer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be processed electronically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not guarantee return rat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cument analys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 for obtaining factual information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 for identifying data store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may not be up-to-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ployees may not follow procedure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37F4-DB9C-480F-ABB1-27C099E255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stigation techniq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ould never depend out on one techni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ould make use of as many techniques as possible (that can be used within the situ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1DE2-9E61-47D8-80CF-C58CB7B121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ments spec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the investigation develops and further information is collected, it is likely that the requirements identified in the feasibility study will need modif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this stage a set of requirements are listed and agreed (sign of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7DEF-4A2D-4787-AF80-518E023DD0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brendan.coulson</cp:lastModifiedBy>
  <dcterms:modified xsi:type="dcterms:W3CDTF">2008-10-22T21:39:10Z</dcterms:modified>
  <cp:revision>28</cp:revision>
  <dc:subject/>
  <dc:title>Computer Platforms Week 1</dc:title>
</cp:coreProperties>
</file>