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746-63CB-45D7-AEA4-BF326486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783-25E7-431B-9480-A8867243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779-2810-4425-80B2-E952D0C6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94F-076F-494F-BBF4-D95F38A0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BAC3-1577-45E6-8E49-7325E9B2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9001-1C03-4AA2-B960-82E68C24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1E4B-5C1B-4749-8A9D-3F518634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7521-D30C-4A99-83AE-2617F547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227A-0641-44EA-8000-5D529929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4DCD-2424-45A9-B46E-CD38D333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FD0E-F21B-412E-A925-C5BFCC73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FA7C-09BD-44E3-BEFC-AF42072B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0654-5E72-4DC2-A069-3DD9D6A7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E04B-D766-497E-8A8B-623E5FD1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02EA-98E5-4666-826A-74F82023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70A7-8F87-44CA-889E-A0FC8FF3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2C0F-91D3-4889-B7B7-C10EC59D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683-A032-49F7-B27F-F6341320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BDB-37FF-47E8-9D60-A947C98D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8F1-17D8-4C38-9B6A-EA4477D1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87D-4E14-4384-9544-BF2D68FA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811-C6E9-493C-802C-E7DE1113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006-C087-4E0F-9FDC-05CA4650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F5D-B1BE-4294-A6EF-FC7DFB2E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8E7F-B8D7-4493-8A87-A3543A1582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9A8C-4F5E-4F75-ADE3-1D1A233AAD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– Investigation &amp;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8029-2505-41F8-80E5-E9CC11519B4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ments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functional and non-function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nctional requirements is described as what a system is expected to do i.e. generate monthly sales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n-functional consist of C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nstrain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at must be adhered to during develop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ther issues lik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ality, security and usability are also address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sign and implement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F93-513F-4BE1-9006-2992D691C4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nc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npu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system should ac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utpu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system should prod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data the system should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cess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system should per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BB2-E7A6-4477-9835-FEC1E3A937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n-functional are C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onstraint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that must be adhered to dur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are measurable, such as response time;  availability time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system have to work on a particular computer spec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10E8-B234-4D8B-881C-4B35C7741F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in SSADM there are various modell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D – data flow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descriptors (flow charts, pseudo co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D entity relationship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can be used to model an existing system to gain a better understanding of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can also be used to model the proposed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F53-7AC0-484A-9EAC-E8238D3C0F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the second stage of the SSADM development process; investigation and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ed information gath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0C3-B62B-4E65-A1DC-EE0BDCDEF8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further knowledge into the six stages of the development process (discuss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ge – investigation and analy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nformation gath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609-AEE9-45D8-BC3E-B16633F27E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ion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echniques can you think of that could be used to find-out about both the current system and proposed syst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 analysis (example documentation, inputs and outputs of the system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6E84-8ADB-4128-9E76-D2428154CF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ion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s identified in the documentation can be used to construct questions for questionnaires/intervie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wide range of documentation should be looked at i.e. procedure manuals (to compare with observed practice), complaints files, paper records or fi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A86-FB15-4899-B7DF-85C7CD12BB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k – get into pairs and identify the advantages and disadvantages of each method in gathering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095-F09D-45F1-9781-21523F6843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 – some 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8360" y="1197000"/>
          <a:ext cx="8229600" cy="4908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kloads, methods of working, delays and bottlenecks can be identifi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-be time consuming and therefore costl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rs maybe put off by your presenc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oblems may occu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es may not co-opera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ie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ood working relationship can be built up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s can be adjusted as the interview proceed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iewees could identify issues not yet discover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can build upon questions to gain more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-be time consuming and therefore costl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or interview skills could lead to misleading or insufficient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AF6-FB5E-4C90-9D9E-627A0A2554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 – some 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68360" y="1413000"/>
          <a:ext cx="8229600" cy="3576600"/>
        </p:xfrm>
        <a:graphic>
          <a:graphicData uri="http://schemas.openxmlformats.org/drawingml/2006/table">
            <a:tbl>
              <a:tblPr/>
              <a:tblGrid>
                <a:gridCol w="1942920"/>
                <a:gridCol w="3543480"/>
                <a:gridCol w="2743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nai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people can be asked the same question, therefore trends can be identifi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ap way of obtaining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encourage honest answer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processed electronicall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not guarantee return ra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ument analy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obtaining factual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identifying data stor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may not be up-to-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es may not follow procedur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634-F495-43F7-AD72-E7E93453DE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ion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ould never depend out on one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ould make use of as many techniques as possible (that can be used within the sit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651-3470-4113-B5E8-0BDAC05719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investigation develops and further information is collected, it is likely that the requirements identified in the feasibility study will need mod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is stage a set of requirements are listed and agreed (sign 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28B-40FD-4F2D-BCD8-4BC198CDB4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22T21:39:10Z</dcterms:modified>
  <cp:revision>28</cp:revision>
  <dc:subject/>
  <dc:title>Computer Platforms Week 1</dc:title>
</cp:coreProperties>
</file>