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315-E2B5-497D-A799-3A7D4C86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255-D15D-48D1-BDC7-870A8AB7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27C-2198-4B4D-858F-F5315D33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80-BE7D-47D1-9475-25D8EF1F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EB5D-E315-4AF6-9261-CB704880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0A76-7CAF-4956-AEB2-DE751969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3EB8-10E1-4A20-8181-0F6D22C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938-61ED-4AC8-9357-FF05914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C836-168E-44CE-8DDD-77BC55E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2B6-A152-4A09-87CD-6ABEECE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57F-3FA0-41F1-BF20-C816ECD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997-2BA7-4DEC-8EAC-C6E8AD2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43F3-0A8F-4DCC-A74E-7C462A4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BE4-5CCE-46B9-A86E-65F4013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6EF0-F0A8-44F6-BE91-CDF3C1F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B151-7D26-4EAE-BF2B-6A8EF06D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0F6-6EC4-4BCE-90FF-0903706D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196-DDB2-4867-9221-82585BB9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F9A-B26C-4914-B9A1-E76B24C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F70-AF2F-4264-8E5C-81A0113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AB7-B998-4EFF-81E3-263F88F9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889-F5CC-44EB-A74B-9B8A50D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0D8-799C-44CD-8A9E-2D97CD8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C89-23B3-4652-9711-14A0652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F5D-2190-4A74-AEA5-815DCEB74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CA03-CE3A-4D5D-B826-2C096DD87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Investigation &amp;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260-A586-43DC-80BF-F84766662E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functional and non-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ctional requirements is described as what a system is expected to do i.e. generate monthly sales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functional consist of C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ther issues li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, security and usability are also address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sign and imple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798-A548-4C85-AA1A-0A67FC3D3D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ut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ata the system shoul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D01-6376-45A9-8EE8-FF6512478A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functional are C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measurable, such as response time;  availability tim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ystem have to work on a particular computer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BA1-BF8F-4D94-B030-79C789764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SSADM there are various mode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D – data flow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flow charts, pseudo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D entity relationship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n be used to model an existing system to gain a better understanding of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also be used to model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EB6-EBAA-43AD-BE93-DAED25B9A5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the second stage of the SSADM development process; investigation an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0AC-6555-424E-814A-2D24CABBF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investigation and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4A8-4C2A-4BEB-A6AD-F5C475BA54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can you think of that could be used to find-out about both the current system and proposed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 (example documentation, inputs and outputs of the system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19F-F35B-43A7-99EA-B0C004D57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identified in the documentation can be used to construct questions for questionnaires/inter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ide range of documentation should be looked at i.e. procedure manuals (to compare with observed practice), complaints files, paper records or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6C8-728B-4481-835B-F22B34A8BF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– get into pairs and identify the advantages and disadvantages of each method in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806-7D01-4DC4-8E05-1E664349C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197000"/>
          <a:ext cx="8229600" cy="49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loads, methods of working, delays and bottleneck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maybe put off by your presen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oblems may occu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co-ope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working relationship can be built u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can be adjusted as the interview procee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ees could identify issues not yet discover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can build upon questions to gain mor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interview skills could lead to misleading or insufficient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477-604E-408A-A192-55A63ED20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8360" y="1413000"/>
          <a:ext cx="8229600" cy="3576600"/>
        </p:xfrm>
        <a:graphic>
          <a:graphicData uri="http://schemas.openxmlformats.org/drawingml/2006/table">
            <a:tbl>
              <a:tblPr/>
              <a:tblGrid>
                <a:gridCol w="1942920"/>
                <a:gridCol w="3543480"/>
                <a:gridCol w="274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eople can be asked the same question, therefore trend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ap way of obtaining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encourage honest answ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processed electronical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ot guarantee return 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ument anal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obtaining factual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identifying data sto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may not be up-to-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follow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0D2-1D1C-43ED-8318-843852F16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never depend out on on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make use of as many techniques as possible (that can be used within the sit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575-9BCF-4F68-85AE-6E3D6E941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investigation develops and further information is collected, it is likely that the requirements identified in the feasibility study will need mod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stage a set of requirements are listed and agreed (sign 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1FD-AFB8-448A-A81F-CD7A05E99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22T21:39:10Z</dcterms:modified>
  <cp:revision>28</cp:revision>
  <dc:subject/>
  <dc:title>Computer Platforms Week 1</dc:title>
</cp:coreProperties>
</file>