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28BF-E555-4C90-857E-8CAC8B9AA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Interview the customer, Analyse the customer’s requirements, produce the specification, produce a business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Produce an overall design, design an input system, design an output system, design a processing system, produce design docu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FDAB-F36F-4FF3-BD3F-4262820F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56C-5FCE-40DC-8461-E4802981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16E-FB19-47C9-B3D2-70B34BEA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7C3-3DC0-47D8-ADBF-5A306EBE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918-2133-42FF-B142-8480F298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2F9-380E-489C-8C38-B17D4CFF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BBD-C29E-4E9A-83F6-9061C457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D4F-BBA7-4F7F-9FC5-72E7F29F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AEF-24BB-4848-AA26-3B93B322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ECC-7E6C-4622-A3E6-0ABABEC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96E-437B-4C02-AD64-BDAFD4D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95D-B39E-441B-BF59-42C1FD9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B440-EBB8-4306-95E5-0B6F71FCD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rketingexec.com/content_images/1/defining-it-project-success.jpg&amp;imgrefurl=http://www.marketingexec.com/&amp;usg=__XMeoT-kBUB2yXy4IgO1XZ-g28ng=&amp;h=369&amp;w=416&amp;sz=111&amp;hl=en&amp;start=3&amp;um=1&amp;tbnid=XyW4oDehmbxImM:&amp;tbnh=111&amp;tbnw=125&amp;prev=/images%3Fq%3DIT%2BProject%26hl%3De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Project – Project Lifecycle, methodologies, tools, resources and 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781360"/>
            <a:ext cx="2395800" cy="21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02C-5E9B-458A-BF4C-60CD66EBDC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standard, documented way of tackling a compute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remember the following methodologies from the system analysis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1F3-24EE-4AE4-ACD3-1A3EDC3BC5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ome other project methodologies that are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on the internet and research the PRINCE2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0E8-5479-4106-962B-469987D0F9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ocess driven and divides up into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a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product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t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79F-DC52-4A38-B60E-0B5C9F7094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a consultancy uses their own methodology for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offer some benefits, however it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ise the customer to adopt th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ther related projects in order for deadlines etc.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blems: can be expensive and causes a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lock-in to the softwar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C62-2FBF-4881-B859-BC373BC57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with large in-house ICT departments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it is worthwhile to develop their own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usually carried out by taking a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and adapting it to suit their compan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749-6B60-4EAF-B217-599B65F500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and complex projec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re are other tools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planning and schedul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n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pa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ing the internet research into th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management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0B1-F15F-4415-A5D8-DAB638AB5E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resource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throughout a project,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 some examples of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examples of the above with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14C-DB39-479F-9520-AC6C00A013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a number of other issues that can a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uccess of a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external factors i.e. the natur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’s business ma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slation and company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ling with conflict between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C02-A7EC-41FB-9A58-FEB0BFA20C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69228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ed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5CA-5AC3-4C3C-8F30-F8FB0F8C2F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understanding into the various technicalities connected to project management.</a:t>
            </a:r>
            <a:br>
              <a:rPr sz="4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42100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4A2-0CE5-4C99-8EA9-D5D9222312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can be broken down into stages. How you break it down is called a project life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DBE-15A2-4775-ACCC-E485DD4C29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various different project lifecycles that can be used to model your project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ere discussed during the system analys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447640" cy="23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604" t="40149" r="10141" b="25393"/>
          <a:stretch/>
        </p:blipFill>
        <p:spPr>
          <a:xfrm>
            <a:off x="5940360" y="2781360"/>
            <a:ext cx="2735280" cy="23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CEA-CCDB-4744-8C87-C8665BA30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stages of a typical project lifecycle consist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nd producing a spec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and design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nd tes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 might also include installation and maintenance -  depending on which lifecycle model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ng and re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8FC-FEEB-489C-BAA2-4E76B9E9F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produce a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ing what the customer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include recording what the users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specification and a business case for going ahead with the new system, giving the potential 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DB3-F645-49B7-8785-1E6BE768EA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s the customer’s requirements into a potential computer-based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E55-BD10-45AA-A39D-962F904145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&amp;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ge includes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hat the product meets the user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d providing user and technical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ing the product over to the custo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pending on which lifecycle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C9C-99B1-4C53-9BD5-0BCCE33B0E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&amp;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he customer and users of your product. I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the actual benefits and costs of building and running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 review – this is where the stakeholders review how well you did in managing the product and product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support / services that is required could be outl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387-054B-44C3-907F-62A03E7661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25:28Z</dcterms:created>
  <dc:creator>brendan.coulson</dc:creator>
  <dc:description/>
  <dc:language>en-US</dc:language>
  <cp:lastModifiedBy>brendan.coulson</cp:lastModifiedBy>
  <dcterms:modified xsi:type="dcterms:W3CDTF">2009-05-10T14:13:02Z</dcterms:modified>
  <cp:revision>18</cp:revision>
  <dc:subject/>
  <dc:title>IT Project – Project Lifecycle, methodologies and tools</dc:title>
</cp:coreProperties>
</file>