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1B3B-1A31-40DE-973D-0737837897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ities: Interview the customer, Analyse the customer’s requirements, produce the specification, produce a business 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ities: Produce an overall design, design an input system, design an output system, design a processing system, produce design docum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CD5-3047-410D-84A7-43F70338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64D-689A-4584-891D-552D9CD0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24A1-09EE-4E19-8D11-C8C386F5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1BF-BFE2-405B-9ED7-B373747C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1FBD-AACB-4E72-A268-99FEE2C4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952-3FCC-4DEB-BA2E-3733A48D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C68E-8241-4F01-B7BA-B5875B4D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4982-76B1-4010-BEEB-C4659603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36BF-E759-470E-82E8-A8FEACB4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8032-0A8B-4F62-A87F-2FBCE221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468-D9EA-4F69-AEE8-4F005D96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D08-3E4A-4C2A-AB54-061E0957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FA41-B173-471C-9379-B2A109D35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rketingexec.com/content_images/1/defining-it-project-success.jpg&amp;imgrefurl=http://www.marketingexec.com/&amp;usg=__XMeoT-kBUB2yXy4IgO1XZ-g28ng=&amp;h=369&amp;w=416&amp;sz=111&amp;hl=en&amp;start=3&amp;um=1&amp;tbnid=XyW4oDehmbxImM:&amp;tbnh=111&amp;tbnw=125&amp;prev=/images%3Fq%3DIT%2BProject%26hl%3Den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Project – Project Lifecycle, methodologies, tools, resources and other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2781360"/>
            <a:ext cx="2395800" cy="212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0F41-C1F7-4265-9340-38404E760A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standard, documented way of tackling a computer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remember the following methodologies from the system analysis un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A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oriented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12A6-4FDA-4346-AE79-7C9A7874C5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some other project methodologies that are of inter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ancy-drive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-specific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 on the internet and research the PRINCE2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4D6-7668-4D61-8BDB-30E3C68A16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process driven and divides up into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ht proc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ng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ng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ing a s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product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stag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D248-75D4-487C-9431-ACA7E59312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-drive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ere a consultancy uses their own methodology for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offer some benefits, however it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ise the customer to adopt this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other related projects in order for deadlines etc.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roblems: can be expensive and causes a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lock-in to the software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2B2B-1EF8-4A0A-B497-62045F9720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Method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ny-specific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es with large in-house ICT departments of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 it is worthwhile to develop their own method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usually carried out by taking a stand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y and adapting it to suit their company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159-E2FC-4186-99D4-BB6ACE98F8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ple and complex projec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here are other tools avail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planning and schedul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nt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t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ical path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ing the internet research into th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 management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CC9-A41D-4673-AEFA-4D17C247BF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any different resources that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d throughout a project, be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s some examples of th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pment or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examples of the above within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01F9-F979-4362-8A19-495AD6EBE6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Other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re are a number of other issues that can aff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success of a proje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ing external factors i.e. the nature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stomer’s business may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ing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islation and company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ling with conflict between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03CA-C3B7-4E2A-A12C-4C715DAF7B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4360" y="692280"/>
            <a:ext cx="7632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ed an insight into project lifecycles, methodologies and tool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what resources and other issues should be considered when managing a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6C2-B75E-414D-A166-9329340E45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m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n understanding into the various technicalities connected to project management.</a:t>
            </a:r>
            <a:br>
              <a:rPr sz="4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2421000"/>
            <a:ext cx="7632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n insight into project lifecycles, methodologies and tool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what resources and other issues should be considered when managing a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EFF-3FCA-49BE-B90C-0278A47782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can be broken down into stages. How you break it down is called a project life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A35-5621-46F2-BA8A-004E6DDED4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various different project lifecycles that can be used to model your project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-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were discussed during the system analysis un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447640" cy="231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59604" t="40149" r="10141" b="25393"/>
          <a:stretch/>
        </p:blipFill>
        <p:spPr>
          <a:xfrm>
            <a:off x="5940360" y="2781360"/>
            <a:ext cx="2735280" cy="233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529-A9DE-4521-BC7B-3E2DE7144C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S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stages of a typical project lifecycle consist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and producing a specific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nalys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and design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sig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 and test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his might also include installation and maintenance -  depending on which lifecycle model is cho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ng and revie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1516-DE0D-40CE-8E0D-1E674F33BC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produce a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ing what the customer w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y include recording what the users do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as a class what main activities will take place during this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iverab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t specification and a business case for going ahead with the new system, giving the potential costs and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C15-4A15-49B6-B515-3A9BF6D712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Life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an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s the customer’s requirements into a potential computer-based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173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as a class what main activities will take place during this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A0B-00DD-480D-953E-B7D63E31AD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S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&amp;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age includes the following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th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that the product meets the user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d providing user and technical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ing the product over to the custom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pending on which lifecycle is cho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3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F0E1-0D4A-470B-B47B-532E6B6A98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Project – Project S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1413000"/>
            <a:ext cx="7632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 &amp;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volves the customer and users of your product. It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the actual benefits and costs of building and running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roject review – this is where the stakeholders review how well you did in managing the product and product deli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ther support / services that is required could be outl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A73B-5114-4DE4-AAD2-DDA62EC10C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5:25:28Z</dcterms:created>
  <dc:creator>brendan.coulson</dc:creator>
  <dc:description/>
  <dc:language>en-US</dc:language>
  <cp:lastModifiedBy>brendan.coulson</cp:lastModifiedBy>
  <dcterms:modified xsi:type="dcterms:W3CDTF">2009-05-10T14:13:02Z</dcterms:modified>
  <cp:revision>18</cp:revision>
  <dc:subject/>
  <dc:title>IT Project – Project Lifecycle, methodologies and tools</dc:title>
</cp:coreProperties>
</file>