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C45B7-575F-460D-903D-CB5E852DD5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vities: Interview the customer, Analyse the customer’s requirements, produce the specification, produce a business c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vities: Produce an overall design, design an input system, design an output system, design a processing system, produce design docum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381B-4231-4E8D-ACE4-C121273C5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0E7E-C75C-42D9-A2B6-E57BCFC4B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BDD8-6E9A-47B1-8C21-1C1EBA9C9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787C-D446-4AE1-940B-75134000D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971D-5320-43AC-8434-1646896B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BE75-BF95-4F10-9555-28E3C5873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74B7-F9FE-4A66-9855-F1D0E40C8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5193-F4E4-440B-91C5-8A617928E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E692-224D-4770-BADC-CB9BBE39C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B592-C28E-4BA2-B8F0-63215845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B851-C519-4E8D-A7AD-B0C5930A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B403-B6E0-46DC-8549-3064E326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1A5A3-F224-455B-B3EA-45EB1CF6F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marketingexec.com/content_images/1/defining-it-project-success.jpg&amp;imgrefurl=http://www.marketingexec.com/&amp;usg=__XMeoT-kBUB2yXy4IgO1XZ-g28ng=&amp;h=369&amp;w=416&amp;sz=111&amp;hl=en&amp;start=3&amp;um=1&amp;tbnid=XyW4oDehmbxImM:&amp;tbnh=111&amp;tbnw=125&amp;prev=/images%3Fq%3DIT%2BProject%26hl%3Den%26um%3D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Project – Project Lifecycle, methodologies, tools, resources and other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32000" y="2781360"/>
            <a:ext cx="2395800" cy="212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8C85-E0BC-41EB-BB7D-EDA46069B7F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Project – Methodolo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26920" y="1413000"/>
            <a:ext cx="7632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s a standard, documented way of tackling a computer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ay remember the following methodologies from the system analysis un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A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 oriented 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8B92-F755-4779-BB74-A8B5DB6C0F0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Project – Methodolo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1413000"/>
            <a:ext cx="7632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some other project methodologies that are of inter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CE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ltancy-driven method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ny-specific method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sk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o on the internet and research the PRINCE2 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21F3-0294-4A5A-82E0-0B4220BC9CF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Project – Methodolo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26920" y="1413000"/>
            <a:ext cx="7632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E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process driven and divides up into the foll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ght proces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ing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ting a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ng a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ling a s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ing product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ing stage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ing a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A012-3E86-45C2-8F6D-06A585A6E27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Project – Methodolo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26920" y="1413000"/>
            <a:ext cx="7632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ancy-driven method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where a consultancy uses their own methodology for the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an offer some benefits, however it 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surise the customer to adopt this 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other related projects in order for deadlines etc.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m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roblems: can be expensive and causes a m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r lock-in to the software comp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EC10-D175-443F-984A-F15FBEFCC5F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Project – Methodolo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26920" y="1413000"/>
            <a:ext cx="7632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ny-specific method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nies with large in-house ICT departments oft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l it is worthwhile to develop their own methodolo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usually carried out by taking a stand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ology and adapting it to suit their company’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52A5-DB09-409B-AD0A-FFCD46788BE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Project – 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1413000"/>
            <a:ext cx="7632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imple and complex projec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There are other tools avail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planning and scheduling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sk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annt Ch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t Ch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itical path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ask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Using the internet research into the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ject management to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7E59-1CE2-4869-AB85-1D74D35073A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Project –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26920" y="1413000"/>
            <a:ext cx="7632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many different resources that 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d throughout a project, bel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ws some examples of th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quipment or fac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examples of the above within the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45BC-FE52-495D-B683-7631EB9D409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Project – Other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26920" y="1413000"/>
            <a:ext cx="7632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re are a number of other issues that can aff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success of a projec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nging external factors i.e. the nature of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stomer’s business may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nitoring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king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gislation and company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aling with conflict between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CCB6-B40D-4A0C-A199-C5D80B8CC2C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4360" y="692280"/>
            <a:ext cx="7632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ined an insight into project lifecycles, methodologies and tools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ed what resources and other issues should be considered when managing a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B15E-0DAF-4A0F-A2B9-09CCF8112B2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m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in an understanding into the various technicalities connected to project management.</a:t>
            </a:r>
            <a:br>
              <a:rPr sz="4000"/>
            </a:b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55640" y="2421000"/>
            <a:ext cx="7632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in an insight into project lifecycles, methodologies and tools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what resources and other issues should be considered when managing a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FD60-3BFC-457C-9F3F-EFF17E1148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Project – Project Lifecy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32000" y="2276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s can be broken down into stages. How you break it down is called a project lifecyc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BE6F-B0E6-4F59-899A-E043301E5A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Project – Project Lifecy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6920" y="1413000"/>
            <a:ext cx="7632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various different project lifecycles that can be used to model your project 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f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-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were discussed during the system analysis un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76720" y="2781360"/>
            <a:ext cx="2447640" cy="2313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rcRect l="59604" t="40149" r="10141" b="25393"/>
          <a:stretch/>
        </p:blipFill>
        <p:spPr>
          <a:xfrm>
            <a:off x="5940360" y="2781360"/>
            <a:ext cx="2735280" cy="2336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4A20-389D-4304-BFFC-04681CD042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Project – S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26920" y="1413000"/>
            <a:ext cx="7632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in stages of a typical project lifecycle consist of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ng and producing a specific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nalys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 and designing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esig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ing and testing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This might also include installation and maintenance -  depending on which lifecycle model is chos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ing and revie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0FBB-BA07-4BF9-BBC4-6E94F3CB717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Project – Project Lifecy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26920" y="1413000"/>
            <a:ext cx="7632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and produce a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ing what the customer w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may include recording what the users do 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as a class what main activities will take place during this s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liverabl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duct specification and a business case for going ahead with the new system, giving the potential costs and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CC1C-2065-4811-AABA-20DD8CF8E15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Project – Project Lifecy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26920" y="1413000"/>
            <a:ext cx="7632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 an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73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ns the customer’s requirements into a potential computer-based sol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73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as a class what main activities will take place during this ph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185C-1FB2-4123-9B8D-193695130F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Project – Project S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26920" y="1413000"/>
            <a:ext cx="7632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 &amp;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stage includes the following activ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3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ing the pro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3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that the product meets the user n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3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ng and providing user and technical docu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3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ing the product over to the custome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epending on which lifecycle is chos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3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B9C3-2E6E-496E-B920-025AE13F14D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Project – Project S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26920" y="1413000"/>
            <a:ext cx="7632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te &amp;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nvolves the customer and users of your product. It inclu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ing the actual benefits and costs of building and running the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 project review – this is where the stakeholders review how well you did in managing the product and product deliv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other support / services that is required could be outlin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EE97-92BC-4858-8B2E-2E7B2906F55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8T15:25:28Z</dcterms:created>
  <dc:creator>brendan.coulson</dc:creator>
  <dc:description/>
  <dc:language>en-US</dc:language>
  <cp:lastModifiedBy>brendan.coulson</cp:lastModifiedBy>
  <dcterms:modified xsi:type="dcterms:W3CDTF">2009-05-10T14:13:02Z</dcterms:modified>
  <cp:revision>18</cp:revision>
  <dc:subject/>
  <dc:title>IT Project – Project Lifecycle, methodologies and tools</dc:title>
</cp:coreProperties>
</file>