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A5D4-F39C-4338-BB36-D05CF261A4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ities: Interview the customer, Analyse the customer’s requirements, produce the specification, produce a business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ities: Produce an overall design, design an input system, design an output system, design a processing system, produce design docum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779-BC20-4DF3-B5F9-65B1C63D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4483-27D4-4373-8D21-F6878B9C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121-F842-49B5-9591-18C18DCA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36F4-EE26-412A-AC72-513D78F6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4CA-60BD-4656-8DB3-C5671245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07F-9D88-4EC2-B225-17C2A775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6DE-A387-42D3-9307-E1F749F6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7EC-0726-4C58-9F0C-66047F46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33D-86C7-44BC-9306-9238335B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F91-F50E-468C-A5DA-F9EE4A85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148-79B4-490E-8E82-7DBE5B52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C28-1564-40EB-8A16-C3C0851C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66FD-F02E-4486-9E7C-A45BDFA81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rketingexec.com/content_images/1/defining-it-project-success.jpg&amp;imgrefurl=http://www.marketingexec.com/&amp;usg=__XMeoT-kBUB2yXy4IgO1XZ-g28ng=&amp;h=369&amp;w=416&amp;sz=111&amp;hl=en&amp;start=3&amp;um=1&amp;tbnid=XyW4oDehmbxImM:&amp;tbnh=111&amp;tbnw=125&amp;prev=/images%3Fq%3DIT%2BProject%26hl%3De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Project – Project Lifecycle, methodologies, tools, resources and other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2781360"/>
            <a:ext cx="2395800" cy="212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78A-AA64-4C33-8D70-C6A1435FE1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standard, documented way of tackling a computer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remember the following methodologies from the system analysis un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A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rient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3537-43F7-4504-AAC9-CA31956578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some other project methodologies that are of inter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ncy-drive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-specific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 on the internet and research the PRINCE2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A83-DC2F-4D1C-9236-E4B2F5B0F3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process driven and divides up into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 a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product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stag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4E4-A92B-48BA-A760-46E037C62E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-drive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ere a consultancy uses their own methodology for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offer some benefits, however it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ise the customer to adopt this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ther related projects in order for deadlines etc.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roblems: can be expensive and causes a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lock-in to the software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F7A-7C5C-4154-B3BF-B99AD720E6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ny-specific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with large in-house ICT departments of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it is worthwhile to develop their own method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usually carried out by taking a stand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y and adapting it to suit their company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4B3-BF8A-48D5-8B11-16873808E5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ple and complex projec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re are other tools avail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planning and schedul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nt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t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al path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ing the internet research into th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management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6D2D-D9FE-47B6-860D-6E01F2BE19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different resources that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 throughout a project,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s some examples of th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ment or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examples of the above within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F70-0FB7-4CCA-87A1-7E06AE0F9D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Other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re are a number of other issues that can a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uccess of a proj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ing external factors i.e. the nature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’s business may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ing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islation and company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ling with conflict between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2A0-C3EE-464D-9632-B35F36B7BE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692280"/>
            <a:ext cx="763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ed an insight into project lifecycles, methodologies and tool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what resources and other issues should be considered when managing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7E8-D35C-4D01-A04D-5A6E502FF7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n understanding into the various technicalities connected to project management.</a:t>
            </a:r>
            <a:br>
              <a:rPr sz="4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421000"/>
            <a:ext cx="763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n insight into project lifecycles, methodologies and tool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what resources and other issues should be considered when managing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978-1E48-49FE-AF34-4F66240C0F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can be broken down into stages. How you break it down is called a project life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C75-BEE2-4BAC-8457-57A3CA280C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various different project lifecycles that can be used to model your project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-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were discussed during the system analysis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447640" cy="231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59604" t="40149" r="10141" b="25393"/>
          <a:stretch/>
        </p:blipFill>
        <p:spPr>
          <a:xfrm>
            <a:off x="5940360" y="2781360"/>
            <a:ext cx="2735280" cy="233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03F-1549-4D9B-9B65-44B8495180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stages of a typical project lifecycle consist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and producing a specific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naly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and design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sig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and test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is might also include installation and maintenance -  depending on which lifecycle model is cho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ng and re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663-B71C-4C28-866B-8207541B02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produce a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ing what the customer w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include recording what the users do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s a class what main activities will take place during this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ab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t specification and a business case for going ahead with the new system, giving the potential costs and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0A5-AC53-41F9-92FD-693775209C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an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s the customer’s requirements into a potential computer-based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s a class what main activities will take place during this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585-AB9A-4D02-A2D8-E293CD3B81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&amp;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ge includes the follow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th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that the product meets the user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d providing user and technical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ing the product over to the custom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pending on which lifecycle is cho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9BE-19D7-4DC3-82A4-DD37E9BB4F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&amp;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he customer and users of your product. It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the actual benefits and costs of building and running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 review – this is where the stakeholders review how well you did in managing the product and product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support / services that is required could be outl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FAE8-A18D-4BB4-B6E4-6CE0641DDD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5:25:28Z</dcterms:created>
  <dc:creator>brendan.coulson</dc:creator>
  <dc:description/>
  <dc:language>en-US</dc:language>
  <cp:lastModifiedBy>brendan.coulson</cp:lastModifiedBy>
  <dcterms:modified xsi:type="dcterms:W3CDTF">2009-05-10T14:13:02Z</dcterms:modified>
  <cp:revision>18</cp:revision>
  <dc:subject/>
  <dc:title>IT Project – Project Lifecycle, methodologies and tools</dc:title>
</cp:coreProperties>
</file>