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BF15-8B69-4CB3-AC71-6AF233BE8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Interview the customer, Analyse the customer’s requirements, produce the specification, produce a business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Produce an overall design, design an input system, design an output system, design a processing system, produce design docu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DD9-ABD6-4EFC-ADC4-FF785238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551-0A3C-4B82-AFFD-DB156686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24B-6296-4642-96A7-5B6E27AA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53C-7C68-4D5D-8597-A3F6437A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6CD-C410-45ED-BA14-C7BDF5D4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56F-1CF2-4092-99FB-9B6EF61C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040-01FF-40D6-90AD-B4789190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DBF-329A-41F8-A268-560324F5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529-B63E-4538-A7A3-90391102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29F-B181-4CC1-AD4B-A1F0B91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AC4-A5BA-4326-8BB5-94EABC3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E89-A01F-450C-9764-1462AD2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8E4C-A545-4509-BF79-4484FBAA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rketingexec.com/content_images/1/defining-it-project-success.jpg&amp;imgrefurl=http://www.marketingexec.com/&amp;usg=__XMeoT-kBUB2yXy4IgO1XZ-g28ng=&amp;h=369&amp;w=416&amp;sz=111&amp;hl=en&amp;start=3&amp;um=1&amp;tbnid=XyW4oDehmbxImM:&amp;tbnh=111&amp;tbnw=125&amp;prev=/images%3Fq%3DIT%2BProject%26hl%3De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Project – Project Lifecycle, methodologies, tools, resources and 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781360"/>
            <a:ext cx="2395800" cy="21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D95-0954-4FFC-B921-5454B8430C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standard, documented way of tackling a compute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remember the following methodologies from the system analysis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922-0A26-4F31-A7D2-BAEAD66B93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ome other project methodologies that are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on the internet and research the PRINCE2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F0B-375D-4EC3-80E0-83B55066AD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ocess driven and divides up into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a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product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t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4FF-5056-461C-87F3-043E136F71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a consultancy uses their own methodology for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offer some benefits, however it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ise the customer to adopt th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ther related projects in order for deadlines etc.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blems: can be expensive and causes a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lock-in to the softwar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FFC-C436-4287-9F8A-47FCF1227A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with large in-house ICT departments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it is worthwhile to develop their own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usually carried out by taking a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and adapting it to suit their compan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F89-3ECF-4995-A1F3-9D8C3F7897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and complex projec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re are other tools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planning and schedul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n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pa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ing the internet research into th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management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E81-BAFA-41F1-A15F-8C018662FF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resource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throughout a project,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 some examples of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examples of the above with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0B7-0C0A-4C91-9254-CF2247EAAB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a number of other issues that can a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uccess of a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external factors i.e. the natur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’s business ma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slation and company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ling with conflict between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816-C050-41BC-AD5B-D39554140C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69228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ed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057-74CE-432C-9CF8-07D26EBC19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understanding into the various technicalities connected to project management.</a:t>
            </a:r>
            <a:br>
              <a:rPr sz="4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42100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DAA-51AD-4930-AA37-65520E626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can be broken down into stages. How you break it down is called a project life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06A-6BA3-4D3A-9737-80F664B140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various different project lifecycles that can be used to model your project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ere discussed during the system analys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447640" cy="23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604" t="40149" r="10141" b="25393"/>
          <a:stretch/>
        </p:blipFill>
        <p:spPr>
          <a:xfrm>
            <a:off x="5940360" y="2781360"/>
            <a:ext cx="2735280" cy="23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445-0EC3-4A75-9DA0-BDE7D321AE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stages of a typical project lifecycle consist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nd producing a spec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and design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nd tes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 might also include installation and maintenance -  depending on which lifecycle model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ng and re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528-EC5A-4DAA-946A-0E87E1825A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produce a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ing what the customer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include recording what the users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specification and a business case for going ahead with the new system, giving the potential 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9AB-FCAB-42CA-B7F1-0CFFB361A4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s the customer’s requirements into a potential computer-based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B2B-180D-48C0-8093-07ED1D2F50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&amp;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ge includes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hat the product meets the user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d providing user and technical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ing the product over to the custo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pending on which lifecycle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33D-C9F5-4020-B435-D96DA5A957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&amp;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he customer and users of your product. I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the actual benefits and costs of building and running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 review – this is where the stakeholders review how well you did in managing the product and product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support / services that is required could be outl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52F-10B1-47FA-A45D-FED2419929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25:28Z</dcterms:created>
  <dc:creator>brendan.coulson</dc:creator>
  <dc:description/>
  <dc:language>en-US</dc:language>
  <cp:lastModifiedBy>brendan.coulson</cp:lastModifiedBy>
  <dcterms:modified xsi:type="dcterms:W3CDTF">2009-05-10T14:13:02Z</dcterms:modified>
  <cp:revision>18</cp:revision>
  <dc:subject/>
  <dc:title>IT Project – Project Lifecycle, methodologies and tools</dc:title>
</cp:coreProperties>
</file>