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E59-86DF-4EE4-9664-F5EFD173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E1C-63E0-492E-8276-66F6130B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DC5-191F-4F30-A385-66F1DB26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2F7-A098-4546-A8D5-B89B32E3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D02D-7BDB-405A-A359-D6AE645E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028-C6F4-47CC-9442-506A534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A47D-2C14-48B2-B9EC-3013527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5233-8C03-4CAE-9E80-B9C6F4EE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F1EE-6B46-4F0D-8558-B5F3081A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F9EE-F643-4607-90D0-9E1FAAE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9886-CD94-432E-A33B-D861B4C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4A8-E2C0-4A69-9C2B-A5602C43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0F3D-8B25-40B8-912B-7E89FDE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5FFD-32C2-488E-B154-48187E1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034F-0980-4AA6-8813-AD377A18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BEF8-F5A0-4A4B-AA58-C7168DA0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A828-C347-4037-9ED4-E84335A4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A11-BE2F-4E45-BEC8-21E3C65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D22-23DA-4552-BDBD-948EEE6A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36C-D382-428A-BF03-AC49725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175-9986-4DBF-BC06-D1E35D94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380-7365-4DA8-8F57-2F5C15A6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D12-D8FC-43E5-A591-EC7AFC4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E9E-12F2-412B-915D-BD5E637D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36B8-228E-489A-97A6-8FDA2A4850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6D1B-8AA4-431D-8004-04474AD62E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Human Computer Intera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the last 20 years, the introduction of the graphical user interface (GUI) has revolutionised the ways in which users interact with computers, known as human computer interaction (HCI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completing this unit, you should be able to achieve these out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 about the impact of HCI on society, economy and cul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fundamental principles of interfac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design and produce simple interactive computer input and output based on HCI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compare and contrast, using HCI principles, the effectiveness of different designs of input and outpu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most recognised graphical user interface (GUI) is that used on PCs (personal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soft Windows was based on the earlier Macintosh mod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ows version was introduced in the mid-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rically, early HCI designs were restricted by the hardware. Users were required to type in lengthy code into the computer just to log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dore 64 in the mid 80s, BBC B Micro and Amstrad, all competing for the market share during the 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:\ prompt with operating systems such as MS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Command Line Edi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, operating system – C:\ prompt would appear on the screen, the user could create a structure such as copying, renaming and moving files (my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 with CLE, typed text was ignored until the Return key was hit; then the computer interpreted the command and a response appeared on the screen (or n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Early desig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 graduate Ivan Sutherland developed a program called the Sketchpad, which was inspired by research into how humans lea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s at Xerox WIMP model became available in the early 198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MP-windows, icons, menus and poi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p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1984 the Macintosh computer appe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s in the form of a computerised desktop, icons that were images, files, rubbish bin with the addition of a mouse, enabling the user to locate documents and put them in the bin and click on them to open them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esktop design has truly influenced how users interact with computer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e the tension between Macintosh and Microsoft regarding the development of their GU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the tension arose, when and what happened as a resul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e notes to share with group discu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22:51Z</dcterms:created>
  <dc:creator>IT Support</dc:creator>
  <dc:description/>
  <dc:language>en-US</dc:language>
  <cp:lastModifiedBy>IT Support</cp:lastModifiedBy>
  <dcterms:modified xsi:type="dcterms:W3CDTF">2009-01-24T10:05:12Z</dcterms:modified>
  <cp:revision>7</cp:revision>
  <dc:subject/>
  <dc:title>Human Computer Interaction</dc:title>
</cp:coreProperties>
</file>