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A69-64AC-49FA-B2EE-A963F322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BDD-E81C-4297-9906-60D61175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023-C585-4C42-B51D-712D3A16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AFD-CF66-478B-946F-6BDCEB8C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1A1-1713-416F-91EB-A727C641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DA12-015C-44EF-B541-8FFFE95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941A-E169-4562-9748-7808158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2C83-7BF6-4CB3-AB32-4C315816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14DB-BA37-4DA8-84FC-28F2306E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5684-218F-44A0-A89B-577092E3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7162-0EB9-4CE8-BAB0-8540C023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3E2-A0CC-41E6-A73C-BDCAAC54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AAF-3D78-44B9-8C76-9771789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4A6C-5375-40E8-B764-4EE620B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1213-A22F-4BA0-B830-6ED0B595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3E3-42E9-4B7A-9C99-AA4F1987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C7DD-B6AF-4ECB-AE21-D73323A7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265-1B89-4C78-B050-1B0F2D4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D10-34B2-4569-B37C-F9E69FC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12B-A6B2-4BB2-8AD7-14F24F5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A3A-3037-4F3B-BA0B-14EEE6C6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68F-31CA-40E6-9EBC-829EF01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20C-0A01-4467-BAA6-1741474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4EE-BB4E-4506-96D3-962267DF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8162-D351-499B-8FE5-7B180740C3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608-C6BF-42EF-87B8-9A31D4391B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b2b2b2"/>
                </a:solidFill>
                <a:latin typeface="Arial"/>
              </a:rPr>
              <a:t>Human Computer Interaction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the last 20 years, the introduction of the graphical user interface (GUI) has revolutionised the ways in which users interact with computers, known as human computer interaction (HCI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fter completing this unit, you should be able to achieve these outco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now about the impact of HCI on society, economy and cul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fundamental principles of interface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design and produce simple interactive computer input and output based on HCI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able to compare and contrast, using HCI principles, the effectiveness of different designs of input and outpu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Develop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ably the most recognised graphical user interface (GUI) is that used on PCs (personal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crosoft Windows was based on the earlier Macintosh mod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ows version was introduced in the mid-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rically, early HCI designs were restricted by the hardware. Users were required to type in lengthy code into the computer just to log 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dore 64 in the mid 80s, BBC B Micro and Amstrad, all competing for the market share during the 1980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:\ prompt with operating systems such as MS 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Command Line Edito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S, operating system – C:\ prompt would appear on the screen, the user could create a structure such as copying, renaming and moving files (my compu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ever with CLE, typed text was ignored until the Return key was hit; then the computer interpreted the command and a response appeared on the screen (or no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Early desig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 graduate Ivan Sutherland developed a program called the Sketchpad, which was inspired by research into how humans lear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s at Xerox WIMP model became available in the early 198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MP-windows, icons, menus and poin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App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1984 the Macintosh computer appea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s in the form of a computerised desktop, icons that were images, files, rubbish bin with the addition of a mouse, enabling the user to locate documents and put them in the bin and click on them to open them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esktop design has truly influenced how users interact with computer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Arial"/>
              </a:rPr>
              <a:t>Task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vestigate the tension between Macintosh and Microsoft regarding the development of their GU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the tension arose, when and what happened as a resul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pare notes to share with group discu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22:51Z</dcterms:created>
  <dc:creator>IT Support</dc:creator>
  <dc:description/>
  <dc:language>en-US</dc:language>
  <cp:lastModifiedBy>IT Support</cp:lastModifiedBy>
  <dcterms:modified xsi:type="dcterms:W3CDTF">2009-01-24T10:05:12Z</dcterms:modified>
  <cp:revision>7</cp:revision>
  <dc:subject/>
  <dc:title>Human Computer Interaction</dc:title>
</cp:coreProperties>
</file>