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231B-740E-447D-A294-287DB4E8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201-5852-48AD-B8A8-1669C197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304-F598-45E2-BCC3-88B7CCCB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E235-8842-4734-A797-E4E6057D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20C4-A9E7-465A-B363-B7B40D19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F474-02BD-469B-9916-B1DCA1C8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5D6F-5E2B-45A5-98DF-A8E3EA4F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7AB3-11CD-4B01-ADB9-ED4B6B6F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B09C-B0BC-438B-9DFE-B6BBFFAD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BA25-DB49-40D8-915E-322EA7A3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79F4-DD1F-4FCE-AFC7-FFC484D4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045-8208-4EB1-B193-FB395BE8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F05B-0BAC-463C-A4B0-4BAFEAFE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8D73-06EA-45C5-BF9C-53B03F0B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304D-48F8-41F5-BA69-AC40D7E7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945A-15C5-4130-9B31-1B708903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595A-7456-4B1F-AD8A-56B05539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648-C12E-4077-9D85-8DE9182D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BE5-C386-4E43-942F-9D27B684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B232-A587-4255-A88F-6FC8EECC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1D4-F547-478D-A1F8-D4FB0858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969-9F01-4E47-AA85-EBDB3336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990-7505-41C8-AAE6-E2CCA249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49F4-BDD4-4FE4-A218-6C65EA6F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F266-7F5A-4B7D-ABA2-D011E9A46C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B1EC-9467-40A2-8077-D48778B577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b2b2b2"/>
                </a:solidFill>
                <a:latin typeface="Arial"/>
              </a:rPr>
              <a:t>Human Computer Interactio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 the last 20 years, the introduction of the graphical user interface (GUI) has revolutionised the ways in which users interact with computers, known as human computer interaction (HCI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fter completing this unit, you should be able to achieve these outcom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now about the impact of HCI on society, economy and cult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derstand the fundamental principles of interface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able to design and produce simple interactive computer input and output based on HCI prin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able to compare and contrast, using HCI principles, the effectiveness of different designs of input and outpu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Develop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ably the most recognised graphical user interface (GUI) is that used on PCs (personal compu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crosoft Windows was based on the earlier Macintosh mod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ndows version was introduced in the mid-1980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istorically, early HCI designs were restricted by the hardware. Users were required to type in lengthy code into the computer just to log 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odore 64 in the mid 80s, BBC B Micro and Amstrad, all competing for the market share during the 1980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:\ prompt with operating systems such as MS 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Command Line Edit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S, operating system – C:\ prompt would appear on the screen, the user could create a structure such as copying, renaming and moving files (my compu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ever with CLE, typed text was ignored until the Return key was hit; then the computer interpreted the command and a response appeared on the screen (or no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Early desig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 graduate Ivan Sutherland developed a program called the Sketchpad, which was inspired by research into how humans lear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velopments at Xerox WIMP model became available in the early 198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MP-windows, icons, menus and poi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App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1984 the Macintosh computer appe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UIs in the form of a computerised desktop, icons that were images, files, rubbish bin with the addition of a mouse, enabling the user to locate documents and put them in the bin and click on them to open them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desktop design has truly influenced how users interact with computer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Task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vestigate the tension between Macintosh and Microsoft regarding the development of their GU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the tension arose, when and what happened as a resul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pare notes to share with group discuss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5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09:22:51Z</dcterms:created>
  <dc:creator>IT Support</dc:creator>
  <dc:description/>
  <dc:language>en-US</dc:language>
  <cp:lastModifiedBy>IT Support</cp:lastModifiedBy>
  <dcterms:modified xsi:type="dcterms:W3CDTF">2009-01-24T10:05:12Z</dcterms:modified>
  <cp:revision>7</cp:revision>
  <dc:subject/>
  <dc:title>Human Computer Interaction</dc:title>
</cp:coreProperties>
</file>