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CA8-43F0-4492-A1B4-4E8E0D4A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C52-C4D7-47F7-ACE6-FEC529F4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8E5-01BE-4323-91C4-2222A41D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073-9FCD-4ABF-8AB1-F0FCAE5A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3B1B-EE1B-4E16-8FF6-97FDEB05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4A63-ECD7-4B42-BDF1-B0E168C1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CF70-5E55-4D3D-8ED3-A91C1FE0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B2B5-9908-4786-B535-105F5594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E13B-37E1-44A6-A378-79FE59A3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D4E7-B55A-4F55-A6C1-276F3C33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3849-0596-48A3-AAC1-69AD1F0B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F16-9133-403B-9E76-C0997F40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9776-B527-4134-8D18-F3579759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A84C-EA5C-4662-916E-58F465A3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CFE8-793C-4F95-AB25-CCCBDF5F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E7FF-0500-4160-8CD7-D6F1BD4C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DB7F-2779-4D9A-ADE2-6F5FEA58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D88-2EE5-4EAB-8B75-224E5F3D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F8F-431A-47A5-9768-AD4470F1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361-F7F0-41B0-BC61-79933CA5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D32-3697-408E-AAB9-129B6A4D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B67-EBD4-44C2-98C0-3D693CE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47D-45A3-44AB-9B30-84BBD47B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B36-2383-412B-ACCE-707E0CE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E54D-F859-4B77-AD85-4B0DA76F28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DA38-8FA0-408F-8950-99AE2C6BB1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2b2b2"/>
                </a:solidFill>
                <a:latin typeface="Arial"/>
              </a:rPr>
              <a:t>Human Computer Interac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the last 20 years, the introduction of the graphical user interface (GUI) has revolutionised the ways in which users interact with computers, known as human computer interaction (HCI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fter completing this unit, you should be able to achieve these outco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now about the impact of HCI on society, economy and cul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stand the fundamental principles of interface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able to design and produce simple interactive computer input and output based on HCI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able to compare and contrast, using HCI principles, the effectiveness of different designs of input and outpu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Develop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ably the most recognised graphical user interface (GUI) is that used on PCs (personal comp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crosoft Windows was based on the earlier Macintosh mod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ows version was introduced in the mid-1980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orically, early HCI designs were restricted by the hardware. Users were required to type in lengthy code into the computer just to log 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odore 64 in the mid 80s, BBC B Micro and Amstrad, all competing for the market share during the 1980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:\ prompt with operating systems such as MS 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Command Line Edit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S, operating system – C:\ prompt would appear on the screen, the user could create a structure such as copying, renaming and moving files (my comp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ever with CLE, typed text was ignored until the Return key was hit; then the computer interpreted the command and a response appeared on the screen (or no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Early desig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 graduate Ivan Sutherland developed a program called the Sketchpad, which was inspired by research into how humans lear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velopments at Xerox WIMP model became available in the early 198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MP-windows, icons, menus and poi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Ap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1984 the Macintosh computer appe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UIs in the form of a computerised desktop, icons that were images, files, rubbish bin with the addition of a mouse, enabling the user to locate documents and put them in the bin and click on them to open them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esktop design has truly influenced how users interact with computer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ask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vestigate the tension between Macintosh and Microsoft regarding the development of their GU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the tension arose, when and what happened as a resul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pare notes to share with group discuss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09:22:51Z</dcterms:created>
  <dc:creator>IT Support</dc:creator>
  <dc:description/>
  <dc:language>en-US</dc:language>
  <cp:lastModifiedBy>IT Support</cp:lastModifiedBy>
  <dcterms:modified xsi:type="dcterms:W3CDTF">2009-01-24T10:05:12Z</dcterms:modified>
  <cp:revision>7</cp:revision>
  <dc:subject/>
  <dc:title>Human Computer Interaction</dc:title>
</cp:coreProperties>
</file>