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wmf" ContentType="image/x-wmf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FD628-8DE2-442A-B9C2-076E99E2CB7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E5FAF-C32B-441C-89CD-83F2ADF6016C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BE0B-94FA-4AC1-8D0E-6C2C5C999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06CF-E549-4DAB-8EB4-8E03CBF65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398B-EBE4-4FDA-B1A3-BFC356F4E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6AF3-8A60-46D3-9759-45985ACC0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97EA-2AF0-423E-89C6-118862B0F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02D4-3928-4150-90FE-0E10FF77F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6BBD-A7D9-47C4-AE72-993EA5A3D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32D8-1F6D-4638-B6B9-61C3BBF8F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B516-A040-4016-87D0-3150A267A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A003-89A9-463A-A116-97A7C9611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91A0-89F5-4FEB-8ED0-C7840647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3361-7059-4943-A9B9-B8663021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E-Computing/B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AD05F-1CFD-4844-81F0-FBBB670BA2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E-Computing/B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7924680" cy="289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Higher Education at Castle</a:t>
            </a:r>
            <a:br>
              <a:rPr sz="4000"/>
            </a:b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HND Computing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219320" y="441972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1219320" y="2852640"/>
            <a:ext cx="66294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Course Leader: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Dave Be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(0115 884228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david.bell@castlecollege.ac.u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Administrator: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Susan Butl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(0015 8842228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susan.butler@castlecollege.ac.uk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6" descr="an00790_"/>
          <p:cNvPicPr/>
          <p:nvPr/>
        </p:nvPicPr>
        <p:blipFill>
          <a:blip r:embed="rId1"/>
          <a:stretch/>
        </p:blipFill>
        <p:spPr>
          <a:xfrm>
            <a:off x="3352680" y="152280"/>
            <a:ext cx="2514600" cy="1295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logo"/>
          <p:cNvPicPr/>
          <p:nvPr/>
        </p:nvPicPr>
        <p:blipFill>
          <a:blip r:embed="rId2"/>
          <a:stretch/>
        </p:blipFill>
        <p:spPr>
          <a:xfrm>
            <a:off x="6804000" y="260280"/>
            <a:ext cx="2000160" cy="1000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2_13760"/>
          <p:cNvPicPr/>
          <p:nvPr/>
        </p:nvPicPr>
        <p:blipFill>
          <a:blip r:embed="rId3"/>
          <a:stretch/>
        </p:blipFill>
        <p:spPr>
          <a:xfrm>
            <a:off x="250920" y="260280"/>
            <a:ext cx="2765160" cy="11653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E-Computing/B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5" descr="groupprize"/>
          <p:cNvPicPr/>
          <p:nvPr/>
        </p:nvPicPr>
        <p:blipFill>
          <a:blip r:embed="rId1"/>
          <a:stretch/>
        </p:blipFill>
        <p:spPr>
          <a:xfrm>
            <a:off x="395280" y="476280"/>
            <a:ext cx="8408880" cy="52927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E-Computing/B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Entry Requirements /Applicat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772400" cy="38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Minimum of 80 UCAS tariff points for progressing students from Castle Colle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n other words – pass your Level 3 qualification with a reasonable gra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pply by UCAS form – select as one of your choi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ate applications can be accep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E-Computing/B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FINANCIAL COS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Applications to your Local LEA for grants and assist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tudent Loans available for full-time stu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For further advic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e Susan Butler – Student Services 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(Chilwel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E-Computing/B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ADVANTAGES OF STUDYING AT CASTLE COLLE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44280"/>
            <a:ext cx="777240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GOOD ACHIEV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Our students have a good record of achievement and have gained awards for their work at De Montfort in addition to high class honours degre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University accommodation is expensive.  Student Services will help and advise you in coping with rising HE fe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SUP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maller class sizes means much more individual support for students.  Regular contact with your tutors &amp; lectur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 WILL HELP YOU TO ACHIEVE YOUR AIMS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E-Computing/B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FURTHER INFO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e Montfort prospectuses &amp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astle College Course Handbook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re available from Student Servi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e myself, Pete Bilbie or Susan Butler for any further questions you may ha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alk to our second year students when they return in Octob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E-Computing/B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FINALL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Remember –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Higher Education is a passport to better jobs and higher sala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o consider us as one of your choi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YOU KNOW IT MAKES SENSE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E-Computing/B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Why do you need to </a:t>
            </a:r>
            <a:br>
              <a:rPr sz="4400"/>
            </a:b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know this now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eptember 200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UCAS Appl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Decisions on your future edu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hoices on Higher Education cour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hoices on Universities / Colle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" name="Picture 4" descr="bd00028_"/>
          <p:cNvPicPr/>
          <p:nvPr/>
        </p:nvPicPr>
        <p:blipFill>
          <a:blip r:embed="rId1"/>
          <a:stretch/>
        </p:blipFill>
        <p:spPr>
          <a:xfrm>
            <a:off x="7010280" y="838080"/>
            <a:ext cx="862200" cy="7621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E-Computing/B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Does Castle College run University Courses???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" name="Picture 4" descr="2_13760"/>
          <p:cNvPicPr/>
          <p:nvPr/>
        </p:nvPicPr>
        <p:blipFill>
          <a:blip r:embed="rId1"/>
          <a:stretch/>
        </p:blipFill>
        <p:spPr>
          <a:xfrm>
            <a:off x="685800" y="2057400"/>
            <a:ext cx="2765520" cy="116532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9"/>
          <p:cNvGrpSpPr/>
          <p:nvPr/>
        </p:nvGrpSpPr>
        <p:grpSpPr>
          <a:xfrm>
            <a:off x="3429000" y="2057400"/>
            <a:ext cx="3438360" cy="639720"/>
            <a:chOff x="3429000" y="2057400"/>
            <a:chExt cx="3438360" cy="639720"/>
          </a:xfrm>
        </p:grpSpPr>
        <p:grpSp>
          <p:nvGrpSpPr>
            <p:cNvPr id="64" name="Group 7"/>
            <p:cNvGrpSpPr/>
            <p:nvPr/>
          </p:nvGrpSpPr>
          <p:grpSpPr>
            <a:xfrm>
              <a:off x="3429000" y="2057400"/>
              <a:ext cx="3438360" cy="639720"/>
              <a:chOff x="3429000" y="2057400"/>
              <a:chExt cx="3438360" cy="639720"/>
            </a:xfrm>
          </p:grpSpPr>
          <p:sp>
            <p:nvSpPr>
              <p:cNvPr id="65" name="Rectangle 5"/>
              <p:cNvSpPr/>
              <p:nvPr/>
            </p:nvSpPr>
            <p:spPr>
              <a:xfrm>
                <a:off x="3429000" y="2057400"/>
                <a:ext cx="3438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Rectangle 6"/>
              <p:cNvSpPr/>
              <p:nvPr/>
            </p:nvSpPr>
            <p:spPr>
              <a:xfrm>
                <a:off x="3429000" y="2057400"/>
                <a:ext cx="34383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Arial"/>
                  </a:rPr>
                  <a:t>THE ASSOCIATE COLLEGE NETWORK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7" name="Rectangle 8"/>
            <p:cNvSpPr/>
            <p:nvPr/>
          </p:nvSpPr>
          <p:spPr>
            <a:xfrm>
              <a:off x="3429000" y="2057400"/>
              <a:ext cx="3438360" cy="6397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8" name="Group 14"/>
          <p:cNvGrpSpPr/>
          <p:nvPr/>
        </p:nvGrpSpPr>
        <p:grpSpPr>
          <a:xfrm>
            <a:off x="3505320" y="2666880"/>
            <a:ext cx="3438360" cy="730080"/>
            <a:chOff x="3505320" y="2666880"/>
            <a:chExt cx="3438360" cy="730080"/>
          </a:xfrm>
        </p:grpSpPr>
        <p:grpSp>
          <p:nvGrpSpPr>
            <p:cNvPr id="69" name="Group 12"/>
            <p:cNvGrpSpPr/>
            <p:nvPr/>
          </p:nvGrpSpPr>
          <p:grpSpPr>
            <a:xfrm>
              <a:off x="3505320" y="2666880"/>
              <a:ext cx="3438360" cy="730080"/>
              <a:chOff x="3505320" y="2666880"/>
              <a:chExt cx="3438360" cy="730080"/>
            </a:xfrm>
          </p:grpSpPr>
          <p:sp>
            <p:nvSpPr>
              <p:cNvPr id="70" name="Rectangle 10"/>
              <p:cNvSpPr/>
              <p:nvPr/>
            </p:nvSpPr>
            <p:spPr>
              <a:xfrm>
                <a:off x="3505320" y="2666880"/>
                <a:ext cx="3438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Rectangle 11"/>
              <p:cNvSpPr/>
              <p:nvPr/>
            </p:nvSpPr>
            <p:spPr>
              <a:xfrm>
                <a:off x="3505320" y="2666880"/>
                <a:ext cx="3438360" cy="73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Arial"/>
                  </a:rPr>
                  <a:t>CASTLE COLLEGE, NOTTINGHAM</a:t>
                </a:r>
                <a:br>
                  <a:rPr sz="900"/>
                </a:b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2" name="Rectangle 13"/>
            <p:cNvSpPr/>
            <p:nvPr/>
          </p:nvSpPr>
          <p:spPr>
            <a:xfrm>
              <a:off x="3505320" y="2666880"/>
              <a:ext cx="3438360" cy="73008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Text Box 17"/>
          <p:cNvSpPr/>
          <p:nvPr/>
        </p:nvSpPr>
        <p:spPr>
          <a:xfrm>
            <a:off x="838080" y="4038480"/>
            <a:ext cx="754380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YES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astle College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is a long-established associate college o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E MONTFORT UNIVERS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" name="Group 22"/>
          <p:cNvGrpSpPr/>
          <p:nvPr/>
        </p:nvGrpSpPr>
        <p:grpSpPr>
          <a:xfrm>
            <a:off x="685800" y="3429000"/>
            <a:ext cx="3438360" cy="304920"/>
            <a:chOff x="685800" y="3429000"/>
            <a:chExt cx="3438360" cy="304920"/>
          </a:xfrm>
        </p:grpSpPr>
        <p:grpSp>
          <p:nvGrpSpPr>
            <p:cNvPr id="75" name="Group 20"/>
            <p:cNvGrpSpPr/>
            <p:nvPr/>
          </p:nvGrpSpPr>
          <p:grpSpPr>
            <a:xfrm>
              <a:off x="685800" y="3429000"/>
              <a:ext cx="3438360" cy="304920"/>
              <a:chOff x="685800" y="3429000"/>
              <a:chExt cx="3438360" cy="304920"/>
            </a:xfrm>
          </p:grpSpPr>
          <p:sp>
            <p:nvSpPr>
              <p:cNvPr id="76" name="Rectangle 18"/>
              <p:cNvSpPr/>
              <p:nvPr/>
            </p:nvSpPr>
            <p:spPr>
              <a:xfrm>
                <a:off x="685800" y="3429000"/>
                <a:ext cx="3438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Rectangle 19"/>
              <p:cNvSpPr/>
              <p:nvPr/>
            </p:nvSpPr>
            <p:spPr>
              <a:xfrm>
                <a:off x="685800" y="3429000"/>
                <a:ext cx="34383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99"/>
                    </a:solidFill>
                    <a:latin typeface="Arial"/>
                  </a:rPr>
                  <a:t>UCAS Campus code: </a:t>
                </a:r>
                <a:r>
                  <a:rPr b="0" lang="en-US" sz="1200" spc="-1" strike="noStrike">
                    <a:solidFill>
                      <a:srgbClr val="000099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8" name="Rectangle 21"/>
            <p:cNvSpPr/>
            <p:nvPr/>
          </p:nvSpPr>
          <p:spPr>
            <a:xfrm>
              <a:off x="685800" y="3429000"/>
              <a:ext cx="3438360" cy="3049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9" name="Picture 23" descr="logo"/>
          <p:cNvPicPr/>
          <p:nvPr/>
        </p:nvPicPr>
        <p:blipFill>
          <a:blip r:embed="rId2"/>
          <a:stretch/>
        </p:blipFill>
        <p:spPr>
          <a:xfrm>
            <a:off x="6877080" y="2205000"/>
            <a:ext cx="2000160" cy="10000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E-Computing/B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What does Associate College mean?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You enrol as a student of De Montfort Universit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You have all the rights, privileges and access of any De Montfort stud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You also have the full support available at Castle Colle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We deliver the same course materi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E-Computing/B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4" descr="Class of 2006 HND"/>
          <p:cNvPicPr/>
          <p:nvPr/>
        </p:nvPicPr>
        <p:blipFill>
          <a:blip r:embed="rId1"/>
          <a:stretch/>
        </p:blipFill>
        <p:spPr>
          <a:xfrm>
            <a:off x="914400" y="476280"/>
            <a:ext cx="7315200" cy="58323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E-Computing/B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THE COURS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UTING</a:t>
            </a:r>
            <a:br>
              <a:rPr sz="3200"/>
            </a:b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DEXCEL (BTEC) HND/BSc/BSc Honou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UCAS Code: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HND 104G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, BSc G401</a:t>
            </a:r>
            <a:br>
              <a:rPr sz="28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hy This Course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 flexibility of gaining an industry recognised HND qualification after two year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vers a full range of computing subject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ptional choices allow specialis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Picture 6" descr="bs00100_"/>
          <p:cNvPicPr/>
          <p:nvPr/>
        </p:nvPicPr>
        <p:blipFill>
          <a:blip r:embed="rId1"/>
          <a:stretch/>
        </p:blipFill>
        <p:spPr>
          <a:xfrm>
            <a:off x="6477120" y="2925720"/>
            <a:ext cx="2514600" cy="1341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2_13760"/>
          <p:cNvPicPr/>
          <p:nvPr/>
        </p:nvPicPr>
        <p:blipFill>
          <a:blip r:embed="rId2"/>
          <a:stretch/>
        </p:blipFill>
        <p:spPr>
          <a:xfrm>
            <a:off x="0" y="189000"/>
            <a:ext cx="2556000" cy="1164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logo"/>
          <p:cNvPicPr/>
          <p:nvPr/>
        </p:nvPicPr>
        <p:blipFill>
          <a:blip r:embed="rId3"/>
          <a:stretch/>
        </p:blipFill>
        <p:spPr>
          <a:xfrm>
            <a:off x="6948360" y="189000"/>
            <a:ext cx="2000520" cy="10000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E-Computing/B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HND/BSc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U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714680"/>
            <a:ext cx="7772400" cy="43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HND after 2 years (Study at Castl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BSc after 4 years (Further 2 year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(Optional 1 year – fully paid work placemen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(2 year – Study at De Montfort – Leiceste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Teaching/Assessment</a:t>
            </a:r>
            <a:br>
              <a:rPr sz="2400"/>
            </a:b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These programmes use a variety of teaching methods including lectures, tutorials / groupwork, computer lab sessions and self-directed study.  Assessment by coursework, projects and exa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262673"/>
                </a:solidFill>
                <a:uFillTx/>
                <a:latin typeface="Arial"/>
                <a:ea typeface="Arial"/>
              </a:rPr>
              <a:t>HND IN COMPUTING</a:t>
            </a:r>
            <a:br>
              <a:rPr sz="2800"/>
            </a:br>
            <a:r>
              <a:rPr b="1" lang="en-US" sz="2800" spc="-1" strike="noStrike" u="sng">
                <a:solidFill>
                  <a:srgbClr val="262673"/>
                </a:solidFill>
                <a:uFillTx/>
                <a:latin typeface="Arial"/>
                <a:ea typeface="Arial"/>
              </a:rPr>
              <a:t>YEAR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CSCI 1412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Computer Techn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INFO 1408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Database Design 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Concep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INFO 1409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Systems Analysis &amp; 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Design Develo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CSCI 1604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Visual Web Development 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(in </a:t>
            </a:r>
            <a:r>
              <a:rPr b="0" lang="en-GB" sz="2800" spc="-1" strike="noStrike">
                <a:solidFill>
                  <a:srgbClr val="262673"/>
                </a:solidFill>
                <a:latin typeface="Arial"/>
                <a:ea typeface="Arial"/>
              </a:rPr>
              <a:t>ASP.net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 )</a:t>
            </a:r>
            <a:r>
              <a:rPr b="0" lang="en-GB" sz="24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262673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26267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26267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E-Computing/B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CPRJ 2402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Software Development Pro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INFO 2605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Interactive Systems Design and 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Professionalis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CSCI 2415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OO Programm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CSCI 2421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Operating Systems / Computing 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 or 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Systems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CSCI2608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Multimedia &amp; Intranet Technology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CSCI2414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Entertainment &amp; Games Computi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E-Computing/B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262673"/>
                </a:solidFill>
                <a:uFillTx/>
                <a:latin typeface="Arial"/>
                <a:ea typeface="Arial"/>
              </a:rPr>
              <a:t>HND IN COMPUTING</a:t>
            </a:r>
            <a:br>
              <a:rPr sz="2800"/>
            </a:br>
            <a:r>
              <a:rPr b="1" lang="en-US" sz="2800" spc="-1" strike="noStrike" u="sng">
                <a:solidFill>
                  <a:srgbClr val="262673"/>
                </a:solidFill>
                <a:uFillTx/>
                <a:latin typeface="Arial"/>
                <a:ea typeface="Arial"/>
              </a:rPr>
              <a:t>YEAR 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3T12:25:37Z</dcterms:created>
  <dc:creator>IT Department</dc:creator>
  <dc:description/>
  <dc:language>en-US</dc:language>
  <cp:lastModifiedBy>david.bell</cp:lastModifiedBy>
  <dcterms:modified xsi:type="dcterms:W3CDTF">2009-11-11T12:29:33Z</dcterms:modified>
  <cp:revision>98</cp:revision>
  <dc:subject/>
  <dc:title>AVCE – UNIT 14 Project Management</dc:title>
</cp:coreProperties>
</file>