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60FE-0FBA-422C-844F-1E80E47F69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8EDE-F961-49EB-AA2E-5C5D3DD894F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5827-39F1-438E-97C0-E37D39E8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CFAC-13DE-4765-9D2B-88542C81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A026-4403-4EF6-82CF-E576E060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15FD-319F-4605-ADC7-FA7894198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5714-6BC3-4BB9-A7AE-04576A25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13CC-EB8E-405C-B206-3137D1C5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40A1-26D2-4F5F-9781-32FD7C48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A9C3-5882-416D-9D3C-9B31F8EF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58E9-FD30-453F-A113-B1DF9C11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6503-EABB-4E99-A876-71FBE5A5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2759-154D-4D2D-BAD1-0CB3861D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C162-2258-4A8A-84B9-9B122776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9B0D-F80C-4B7E-A5DE-A59587F9F6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Higher Education at Castle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HND Comput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219320" y="44197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219320" y="2852640"/>
            <a:ext cx="66294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urse Leader: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ave B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0115 884228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avid.bell@castlecollege.ac.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dministrator: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usan Butl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0015 884222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usan.butler@castlecollege.ac.uk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6" descr="an00790_"/>
          <p:cNvPicPr/>
          <p:nvPr/>
        </p:nvPicPr>
        <p:blipFill>
          <a:blip r:embed="rId1"/>
          <a:stretch/>
        </p:blipFill>
        <p:spPr>
          <a:xfrm>
            <a:off x="3352680" y="152280"/>
            <a:ext cx="2514600" cy="129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logo"/>
          <p:cNvPicPr/>
          <p:nvPr/>
        </p:nvPicPr>
        <p:blipFill>
          <a:blip r:embed="rId2"/>
          <a:stretch/>
        </p:blipFill>
        <p:spPr>
          <a:xfrm>
            <a:off x="6804000" y="260280"/>
            <a:ext cx="2000160" cy="100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2_13760"/>
          <p:cNvPicPr/>
          <p:nvPr/>
        </p:nvPicPr>
        <p:blipFill>
          <a:blip r:embed="rId3"/>
          <a:stretch/>
        </p:blipFill>
        <p:spPr>
          <a:xfrm>
            <a:off x="250920" y="260280"/>
            <a:ext cx="2765160" cy="1165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5" descr="groupprize"/>
          <p:cNvPicPr/>
          <p:nvPr/>
        </p:nvPicPr>
        <p:blipFill>
          <a:blip r:embed="rId1"/>
          <a:stretch/>
        </p:blipFill>
        <p:spPr>
          <a:xfrm>
            <a:off x="395280" y="476280"/>
            <a:ext cx="8408880" cy="5292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Entry Requirements /Applic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inimum of 80 UCAS tariff points for progressing students from Castle Colle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 other words – pass your Level 3 qualification with a reasonable gr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pply by UCAS form – select as one of your cho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ate applications can be accep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FINANCIAL COS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pplications to your Local LEA for grants and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tudent Loans available for full-time stu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or further advi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e Susan Butler – Student Services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(Chilwel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DVANTAGES OF STUDYING AT CASTLE COLLE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OOD ACHIE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ur students have a good record of achievement and have gained awards for their work at De Montfort in addition to high class honours deg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niversity accommodation is expensive.  Student Services will help and advise you in coping with rising HE f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maller class sizes means much more individual support for students.  Regular contact with your tutors &amp; lectur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 WILL HELP YOU TO ACHIEVE YOUR AIMS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FURTHER INFO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 Montfort prospectuses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stle College Course Handbook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re available from Student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e myself, Pete Bilbie or Susan Butler for any further questions you may h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alk to our second year students when they return in Octo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FINAL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member 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igher Education is a passport to better jobs and higher sal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o consider us as one of your cho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YOU KNOW IT MAKES SENSE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Why do you need to 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know this n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ptember 200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CAS Ap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ecisions on your future 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hoices on Higher Education cour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hoices on Universities / Colle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4" descr="bd00028_"/>
          <p:cNvPicPr/>
          <p:nvPr/>
        </p:nvPicPr>
        <p:blipFill>
          <a:blip r:embed="rId1"/>
          <a:stretch/>
        </p:blipFill>
        <p:spPr>
          <a:xfrm>
            <a:off x="7010280" y="838080"/>
            <a:ext cx="862200" cy="762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Does Castle College run University Courses???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Picture 4" descr="2_13760"/>
          <p:cNvPicPr/>
          <p:nvPr/>
        </p:nvPicPr>
        <p:blipFill>
          <a:blip r:embed="rId1"/>
          <a:stretch/>
        </p:blipFill>
        <p:spPr>
          <a:xfrm>
            <a:off x="685800" y="2057400"/>
            <a:ext cx="2765520" cy="116532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9"/>
          <p:cNvGrpSpPr/>
          <p:nvPr/>
        </p:nvGrpSpPr>
        <p:grpSpPr>
          <a:xfrm>
            <a:off x="3429000" y="2057400"/>
            <a:ext cx="3438360" cy="639720"/>
            <a:chOff x="3429000" y="2057400"/>
            <a:chExt cx="3438360" cy="639720"/>
          </a:xfrm>
        </p:grpSpPr>
        <p:grpSp>
          <p:nvGrpSpPr>
            <p:cNvPr id="64" name="Group 7"/>
            <p:cNvGrpSpPr/>
            <p:nvPr/>
          </p:nvGrpSpPr>
          <p:grpSpPr>
            <a:xfrm>
              <a:off x="3429000" y="2057400"/>
              <a:ext cx="3438360" cy="639720"/>
              <a:chOff x="3429000" y="2057400"/>
              <a:chExt cx="3438360" cy="6397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429000" y="2057400"/>
                <a:ext cx="3438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429000" y="2057400"/>
                <a:ext cx="34383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Arial"/>
                  </a:rPr>
                  <a:t>THE ASSOCIATE COLLEGE NETWOR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" name="Rectangle 8"/>
            <p:cNvSpPr/>
            <p:nvPr/>
          </p:nvSpPr>
          <p:spPr>
            <a:xfrm>
              <a:off x="3429000" y="2057400"/>
              <a:ext cx="3438360" cy="6397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3505320" y="2666880"/>
            <a:ext cx="3438360" cy="730080"/>
            <a:chOff x="3505320" y="2666880"/>
            <a:chExt cx="3438360" cy="730080"/>
          </a:xfrm>
        </p:grpSpPr>
        <p:grpSp>
          <p:nvGrpSpPr>
            <p:cNvPr id="69" name="Group 12"/>
            <p:cNvGrpSpPr/>
            <p:nvPr/>
          </p:nvGrpSpPr>
          <p:grpSpPr>
            <a:xfrm>
              <a:off x="3505320" y="2666880"/>
              <a:ext cx="3438360" cy="730080"/>
              <a:chOff x="3505320" y="2666880"/>
              <a:chExt cx="3438360" cy="730080"/>
            </a:xfrm>
          </p:grpSpPr>
          <p:sp>
            <p:nvSpPr>
              <p:cNvPr id="70" name="Rectangle 10"/>
              <p:cNvSpPr/>
              <p:nvPr/>
            </p:nvSpPr>
            <p:spPr>
              <a:xfrm>
                <a:off x="3505320" y="2666880"/>
                <a:ext cx="3438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Rectangle 11"/>
              <p:cNvSpPr/>
              <p:nvPr/>
            </p:nvSpPr>
            <p:spPr>
              <a:xfrm>
                <a:off x="3505320" y="2666880"/>
                <a:ext cx="3438360" cy="73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CASTLE COLLEGE, NOTTINGHAM</a:t>
                </a:r>
                <a:br>
                  <a:rPr sz="900"/>
                </a:b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" name="Rectangle 13"/>
            <p:cNvSpPr/>
            <p:nvPr/>
          </p:nvSpPr>
          <p:spPr>
            <a:xfrm>
              <a:off x="3505320" y="2666880"/>
              <a:ext cx="3438360" cy="7300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Text Box 17"/>
          <p:cNvSpPr/>
          <p:nvPr/>
        </p:nvSpPr>
        <p:spPr>
          <a:xfrm>
            <a:off x="838080" y="4038480"/>
            <a:ext cx="754380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YES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astle Colleg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is a long-established associate college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 MONTFORT UN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Group 22"/>
          <p:cNvGrpSpPr/>
          <p:nvPr/>
        </p:nvGrpSpPr>
        <p:grpSpPr>
          <a:xfrm>
            <a:off x="685800" y="3429000"/>
            <a:ext cx="3438360" cy="304920"/>
            <a:chOff x="685800" y="3429000"/>
            <a:chExt cx="3438360" cy="304920"/>
          </a:xfrm>
        </p:grpSpPr>
        <p:grpSp>
          <p:nvGrpSpPr>
            <p:cNvPr id="75" name="Group 20"/>
            <p:cNvGrpSpPr/>
            <p:nvPr/>
          </p:nvGrpSpPr>
          <p:grpSpPr>
            <a:xfrm>
              <a:off x="685800" y="3429000"/>
              <a:ext cx="3438360" cy="304920"/>
              <a:chOff x="685800" y="3429000"/>
              <a:chExt cx="3438360" cy="304920"/>
            </a:xfrm>
          </p:grpSpPr>
          <p:sp>
            <p:nvSpPr>
              <p:cNvPr id="76" name="Rectangle 18"/>
              <p:cNvSpPr/>
              <p:nvPr/>
            </p:nvSpPr>
            <p:spPr>
              <a:xfrm>
                <a:off x="685800" y="3429000"/>
                <a:ext cx="3438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Rectangle 19"/>
              <p:cNvSpPr/>
              <p:nvPr/>
            </p:nvSpPr>
            <p:spPr>
              <a:xfrm>
                <a:off x="685800" y="3429000"/>
                <a:ext cx="3438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Arial"/>
                  </a:rPr>
                  <a:t>UCAS Campus code: </a:t>
                </a:r>
                <a:r>
                  <a:rPr b="0" lang="en-US" sz="1200" spc="-1" strike="noStrike">
                    <a:solidFill>
                      <a:srgbClr val="000099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" name="Rectangle 21"/>
            <p:cNvSpPr/>
            <p:nvPr/>
          </p:nvSpPr>
          <p:spPr>
            <a:xfrm>
              <a:off x="685800" y="3429000"/>
              <a:ext cx="3438360" cy="3049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9" name="Picture 23" descr="logo"/>
          <p:cNvPicPr/>
          <p:nvPr/>
        </p:nvPicPr>
        <p:blipFill>
          <a:blip r:embed="rId2"/>
          <a:stretch/>
        </p:blipFill>
        <p:spPr>
          <a:xfrm>
            <a:off x="6877080" y="2205000"/>
            <a:ext cx="2000160" cy="1000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What does Associate College mean?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enrol as a student of De Montfort Univers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have all the rights, privileges and access of any De Montfort stu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also have the full support available at Castle Colle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e deliver the same course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Class of 2006 HND"/>
          <p:cNvPicPr/>
          <p:nvPr/>
        </p:nvPicPr>
        <p:blipFill>
          <a:blip r:embed="rId1"/>
          <a:stretch/>
        </p:blipFill>
        <p:spPr>
          <a:xfrm>
            <a:off x="914400" y="476280"/>
            <a:ext cx="7315200" cy="5832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HE COUR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ING</a:t>
            </a:r>
            <a:br>
              <a:rPr sz="3200"/>
            </a:b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DEXCEL (BTEC) HND/BSc/BSc Hon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UCAS Code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ND 104G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, BSc G401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y This Course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flexibility of gaining an industry recognised HND qualification after two yea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vers a full range of computing subjec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ptional choices allow specialis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6" descr="bs00100_"/>
          <p:cNvPicPr/>
          <p:nvPr/>
        </p:nvPicPr>
        <p:blipFill>
          <a:blip r:embed="rId1"/>
          <a:stretch/>
        </p:blipFill>
        <p:spPr>
          <a:xfrm>
            <a:off x="6477120" y="2925720"/>
            <a:ext cx="2514600" cy="1341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2_13760"/>
          <p:cNvPicPr/>
          <p:nvPr/>
        </p:nvPicPr>
        <p:blipFill>
          <a:blip r:embed="rId2"/>
          <a:stretch/>
        </p:blipFill>
        <p:spPr>
          <a:xfrm>
            <a:off x="0" y="189000"/>
            <a:ext cx="2556000" cy="1164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logo"/>
          <p:cNvPicPr/>
          <p:nvPr/>
        </p:nvPicPr>
        <p:blipFill>
          <a:blip r:embed="rId3"/>
          <a:stretch/>
        </p:blipFill>
        <p:spPr>
          <a:xfrm>
            <a:off x="6948360" y="189000"/>
            <a:ext cx="2000520" cy="1000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HND/BSc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HND after 2 years (Study at Cast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BSc after 4 years (Further 2 yea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Optional 1 year – fully paid work place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2 year – Study at De Montfort – Leicest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eaching/Assessment</a:t>
            </a:r>
            <a:br>
              <a:rPr sz="2400"/>
            </a:b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These programmes use a variety of teaching methods including lectures, tutorials / groupwork, computer lab sessions and self-directed study.  Assessment by coursework, projects and ex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62673"/>
                </a:solidFill>
                <a:uFillTx/>
                <a:latin typeface="Arial"/>
                <a:ea typeface="Arial"/>
              </a:rPr>
              <a:t>HND IN COMPUTING</a:t>
            </a:r>
            <a:br>
              <a:rPr sz="2800"/>
            </a:br>
            <a:r>
              <a:rPr b="1" lang="en-US" sz="2800" spc="-1" strike="noStrike" u="sng">
                <a:solidFill>
                  <a:srgbClr val="262673"/>
                </a:solidFill>
                <a:uFillTx/>
                <a:latin typeface="Arial"/>
                <a:ea typeface="Arial"/>
              </a:rPr>
              <a:t>YEAR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CSCI 1412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Computer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INFO 1408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Database Design 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Concep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INFO 1409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Systems Analysis &amp; 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Desig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CSCI 1604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Visual Web Development 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(in </a:t>
            </a:r>
            <a:r>
              <a:rPr b="0" lang="en-GB" sz="2800" spc="-1" strike="noStrike">
                <a:solidFill>
                  <a:srgbClr val="262673"/>
                </a:solidFill>
                <a:latin typeface="Arial"/>
                <a:ea typeface="Arial"/>
              </a:rPr>
              <a:t>ASP.net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 )</a:t>
            </a:r>
            <a:r>
              <a:rPr b="0" lang="en-GB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26267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CPRJ 2402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Software Development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INFO 2605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Interactive Systems Design and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Professional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CSCI 2415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OO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CSCI 2421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Operating Systems / Computing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 or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Systems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CSCI2608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Multimedia &amp; Intranet Technology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CSCI2414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Entertainment &amp; Games Comput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62673"/>
                </a:solidFill>
                <a:uFillTx/>
                <a:latin typeface="Arial"/>
                <a:ea typeface="Arial"/>
              </a:rPr>
              <a:t>HND IN COMPUTING</a:t>
            </a:r>
            <a:br>
              <a:rPr sz="2800"/>
            </a:br>
            <a:r>
              <a:rPr b="1" lang="en-US" sz="2800" spc="-1" strike="noStrike" u="sng">
                <a:solidFill>
                  <a:srgbClr val="262673"/>
                </a:solidFill>
                <a:uFillTx/>
                <a:latin typeface="Arial"/>
                <a:ea typeface="Arial"/>
              </a:rPr>
              <a:t>YEAR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david.bell</cp:lastModifiedBy>
  <dcterms:modified xsi:type="dcterms:W3CDTF">2009-11-11T12:29:33Z</dcterms:modified>
  <cp:revision>98</cp:revision>
  <dc:subject/>
  <dc:title>AVCE – UNIT 14 Project Management</dc:title>
</cp:coreProperties>
</file>