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745B-F2F4-4D76-881F-55DB6F5DB2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8267-5370-49A5-8047-63F2741C2F5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019-F2BB-4C02-B1B8-C7B90F91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817-0D4D-49D2-8C97-3EAC4536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A23-CC70-460E-ADC4-2E3A2270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56F1-C2E3-4128-91F6-B824FD78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273-5014-49AC-A3AB-6620ED50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2EE-B5F0-4AB0-B4B1-E70CD3AA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11B-58AC-4037-9FDC-65F25B5D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6C6-3C43-4677-94B6-502C9BA8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034-82A8-4FB4-824B-E6A6401A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4BE-0951-47CF-822E-34709985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5CC-3BE1-464D-859E-B5629C7D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506-2A0E-49F3-A1F8-9F95C7C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0494-5727-46DC-A333-259B4F50E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igher Education at Castle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ND Compu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219320" y="285264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urse Leade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115 88422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dministrato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 Butl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015 88422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.butler@castlecollege.ac.uk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an00790_"/>
          <p:cNvPicPr/>
          <p:nvPr/>
        </p:nvPicPr>
        <p:blipFill>
          <a:blip r:embed="rId1"/>
          <a:stretch/>
        </p:blipFill>
        <p:spPr>
          <a:xfrm>
            <a:off x="3352680" y="152280"/>
            <a:ext cx="25146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ogo"/>
          <p:cNvPicPr/>
          <p:nvPr/>
        </p:nvPicPr>
        <p:blipFill>
          <a:blip r:embed="rId2"/>
          <a:stretch/>
        </p:blipFill>
        <p:spPr>
          <a:xfrm>
            <a:off x="6804000" y="260280"/>
            <a:ext cx="200016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_13760"/>
          <p:cNvPicPr/>
          <p:nvPr/>
        </p:nvPicPr>
        <p:blipFill>
          <a:blip r:embed="rId3"/>
          <a:stretch/>
        </p:blipFill>
        <p:spPr>
          <a:xfrm>
            <a:off x="250920" y="260280"/>
            <a:ext cx="2765160" cy="1165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groupprize"/>
          <p:cNvPicPr/>
          <p:nvPr/>
        </p:nvPicPr>
        <p:blipFill>
          <a:blip r:embed="rId1"/>
          <a:stretch/>
        </p:blipFill>
        <p:spPr>
          <a:xfrm>
            <a:off x="395280" y="476280"/>
            <a:ext cx="8408880" cy="529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ntry Requirements /App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nimum of 80 UCAS tariff points for progressing students from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other words – pass your Level 3 qualification with a reasonable g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by UCAS form – select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te applications can be acce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NCIAL C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pplications to your Local LEA for grants and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tudent Loans available for full-tim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r further adv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e Susan Butler – Student Services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(Chilw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VANTAGES OF STUDYING AT CASTLE COLLE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OOD ACHIE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udents have a good record of achievement and have gained awards for their work at De Montfort in addition to high class honours deg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iversity accommodation is expensive.  Student Services will help and advise you in coping with rising HE f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maller class sizes means much more individual support for students.  Regular contact with your tutors &amp; lectur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 WILL HELP YOU TO ACHIEVE YOUR AI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URTHER INF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 Montfort prospectuses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tle College Course Handboo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 available from Studen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e myself, Pete Bilbie or Susan Butler for any further questions you may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alk to our second year students when they return in Octo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L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member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er Education is a passport to better jobs and higher sa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 consider us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YOU KNOW IT MAKES SENSE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do you need to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know this n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ptember 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CAS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s on your future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Higher Education cou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Universities / Colle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bd00028_"/>
          <p:cNvPicPr/>
          <p:nvPr/>
        </p:nvPicPr>
        <p:blipFill>
          <a:blip r:embed="rId1"/>
          <a:stretch/>
        </p:blipFill>
        <p:spPr>
          <a:xfrm>
            <a:off x="7010280" y="838080"/>
            <a:ext cx="862200" cy="762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oes Castle College run University Courses??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2_13760"/>
          <p:cNvPicPr/>
          <p:nvPr/>
        </p:nvPicPr>
        <p:blipFill>
          <a:blip r:embed="rId1"/>
          <a:stretch/>
        </p:blipFill>
        <p:spPr>
          <a:xfrm>
            <a:off x="685800" y="2057400"/>
            <a:ext cx="27655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9"/>
          <p:cNvGrpSpPr/>
          <p:nvPr/>
        </p:nvGrpSpPr>
        <p:grpSpPr>
          <a:xfrm>
            <a:off x="3429000" y="2057400"/>
            <a:ext cx="3438360" cy="639720"/>
            <a:chOff x="3429000" y="2057400"/>
            <a:chExt cx="3438360" cy="639720"/>
          </a:xfrm>
        </p:grpSpPr>
        <p:grpSp>
          <p:nvGrpSpPr>
            <p:cNvPr id="64" name="Group 7"/>
            <p:cNvGrpSpPr/>
            <p:nvPr/>
          </p:nvGrpSpPr>
          <p:grpSpPr>
            <a:xfrm>
              <a:off x="3429000" y="2057400"/>
              <a:ext cx="3438360" cy="639720"/>
              <a:chOff x="3429000" y="2057400"/>
              <a:chExt cx="3438360" cy="6397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429000" y="20574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429000" y="2057400"/>
                <a:ext cx="34383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THE ASSOCIATE COLLEGE NETWOR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Rectangle 8"/>
            <p:cNvSpPr/>
            <p:nvPr/>
          </p:nvSpPr>
          <p:spPr>
            <a:xfrm>
              <a:off x="3429000" y="2057400"/>
              <a:ext cx="3438360" cy="6397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3505320" y="2666880"/>
            <a:ext cx="3438360" cy="730080"/>
            <a:chOff x="3505320" y="2666880"/>
            <a:chExt cx="3438360" cy="730080"/>
          </a:xfrm>
        </p:grpSpPr>
        <p:grpSp>
          <p:nvGrpSpPr>
            <p:cNvPr id="69" name="Group 12"/>
            <p:cNvGrpSpPr/>
            <p:nvPr/>
          </p:nvGrpSpPr>
          <p:grpSpPr>
            <a:xfrm>
              <a:off x="3505320" y="2666880"/>
              <a:ext cx="3438360" cy="730080"/>
              <a:chOff x="3505320" y="2666880"/>
              <a:chExt cx="3438360" cy="730080"/>
            </a:xfrm>
          </p:grpSpPr>
          <p:sp>
            <p:nvSpPr>
              <p:cNvPr id="70" name="Rectangle 10"/>
              <p:cNvSpPr/>
              <p:nvPr/>
            </p:nvSpPr>
            <p:spPr>
              <a:xfrm>
                <a:off x="3505320" y="266688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11"/>
              <p:cNvSpPr/>
              <p:nvPr/>
            </p:nvSpPr>
            <p:spPr>
              <a:xfrm>
                <a:off x="3505320" y="2666880"/>
                <a:ext cx="343836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CASTLE COLLEGE, NOTTINGHAM</a:t>
                </a:r>
                <a:br>
                  <a:rPr sz="900"/>
                </a:b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" name="Rectangle 13"/>
            <p:cNvSpPr/>
            <p:nvPr/>
          </p:nvSpPr>
          <p:spPr>
            <a:xfrm>
              <a:off x="3505320" y="2666880"/>
              <a:ext cx="3438360" cy="730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Text Box 17"/>
          <p:cNvSpPr/>
          <p:nvPr/>
        </p:nvSpPr>
        <p:spPr>
          <a:xfrm>
            <a:off x="838080" y="4038480"/>
            <a:ext cx="7543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Y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stle Colleg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s a long-established associate colleg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 MONTFORT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Group 22"/>
          <p:cNvGrpSpPr/>
          <p:nvPr/>
        </p:nvGrpSpPr>
        <p:grpSpPr>
          <a:xfrm>
            <a:off x="685800" y="3429000"/>
            <a:ext cx="3438360" cy="304920"/>
            <a:chOff x="685800" y="3429000"/>
            <a:chExt cx="3438360" cy="304920"/>
          </a:xfrm>
        </p:grpSpPr>
        <p:grpSp>
          <p:nvGrpSpPr>
            <p:cNvPr id="75" name="Group 20"/>
            <p:cNvGrpSpPr/>
            <p:nvPr/>
          </p:nvGrpSpPr>
          <p:grpSpPr>
            <a:xfrm>
              <a:off x="685800" y="3429000"/>
              <a:ext cx="3438360" cy="304920"/>
              <a:chOff x="685800" y="3429000"/>
              <a:chExt cx="3438360" cy="304920"/>
            </a:xfrm>
          </p:grpSpPr>
          <p:sp>
            <p:nvSpPr>
              <p:cNvPr id="76" name="Rectangle 18"/>
              <p:cNvSpPr/>
              <p:nvPr/>
            </p:nvSpPr>
            <p:spPr>
              <a:xfrm>
                <a:off x="685800" y="34290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19"/>
              <p:cNvSpPr/>
              <p:nvPr/>
            </p:nvSpPr>
            <p:spPr>
              <a:xfrm>
                <a:off x="685800" y="3429000"/>
                <a:ext cx="3438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UCAS Campus code: </a:t>
                </a: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Rectangle 21"/>
            <p:cNvSpPr/>
            <p:nvPr/>
          </p:nvSpPr>
          <p:spPr>
            <a:xfrm>
              <a:off x="685800" y="3429000"/>
              <a:ext cx="3438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Picture 23" descr="logo"/>
          <p:cNvPicPr/>
          <p:nvPr/>
        </p:nvPicPr>
        <p:blipFill>
          <a:blip r:embed="rId2"/>
          <a:stretch/>
        </p:blipFill>
        <p:spPr>
          <a:xfrm>
            <a:off x="6877080" y="2205000"/>
            <a:ext cx="200016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does Associate College mean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enrol as a student of De Montfort Un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have all the rights, privileges and access of any De Montfort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also have the full support available at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 deliver the same course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Class of 2006 HND"/>
          <p:cNvPicPr/>
          <p:nvPr/>
        </p:nvPicPr>
        <p:blipFill>
          <a:blip r:embed="rId1"/>
          <a:stretch/>
        </p:blipFill>
        <p:spPr>
          <a:xfrm>
            <a:off x="914400" y="476280"/>
            <a:ext cx="7315200" cy="583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COUR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br>
              <a:rPr sz="32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DEXCEL (BTEC) HND/BSc/BSc Hon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CAS Code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ND 104G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BSc G401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This Course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flexibility of gaining an industry recognised HND qualification after two yea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vers a full range of computing subj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ptional choices allow specialis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bs00100_"/>
          <p:cNvPicPr/>
          <p:nvPr/>
        </p:nvPicPr>
        <p:blipFill>
          <a:blip r:embed="rId1"/>
          <a:stretch/>
        </p:blipFill>
        <p:spPr>
          <a:xfrm>
            <a:off x="6477120" y="2925720"/>
            <a:ext cx="2514600" cy="134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2_13760"/>
          <p:cNvPicPr/>
          <p:nvPr/>
        </p:nvPicPr>
        <p:blipFill>
          <a:blip r:embed="rId2"/>
          <a:stretch/>
        </p:blipFill>
        <p:spPr>
          <a:xfrm>
            <a:off x="0" y="189000"/>
            <a:ext cx="2556000" cy="116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"/>
          <p:cNvPicPr/>
          <p:nvPr/>
        </p:nvPicPr>
        <p:blipFill>
          <a:blip r:embed="rId3"/>
          <a:stretch/>
        </p:blipFill>
        <p:spPr>
          <a:xfrm>
            <a:off x="6948360" y="189000"/>
            <a:ext cx="200052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ND/BSc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ND after 2 years (Study at Cast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Sc after 4 years (Further 2 y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Optional 1 year – fully paid work plac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2 year – Study at De Montfort – Leices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eaching/Assessment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se programmes use a variety of teaching methods including lectures, tutorials / groupwork, computer lab sessions and self-directed study.  Assessment by coursework, projects and ex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412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mputer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8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atabase Design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9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Systems Analysis &amp;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esig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604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Visual Web Development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(in </a:t>
            </a:r>
            <a:r>
              <a:rPr b="0" lang="en-GB" sz="2800" spc="-1" strike="noStrike">
                <a:solidFill>
                  <a:srgbClr val="262673"/>
                </a:solidFill>
                <a:latin typeface="Arial"/>
                <a:ea typeface="Arial"/>
              </a:rPr>
              <a:t>ASP.net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 )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6267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PRJ 2402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oftware Developmen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FO 260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teractive Systems Design and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Professional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1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O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21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perating Systems / Computing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 or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ystems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608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Multimedia &amp; Intranet Technology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414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Entertainment &amp; Games Compu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david.bell</cp:lastModifiedBy>
  <dcterms:modified xsi:type="dcterms:W3CDTF">2009-11-11T12:29:33Z</dcterms:modified>
  <cp:revision>98</cp:revision>
  <dc:subject/>
  <dc:title>AVCE – UNIT 14 Project Management</dc:title>
</cp:coreProperties>
</file>