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C8B5-EC17-407E-B4D7-BC96ED5160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DA3F-6B1E-4DB2-AB7D-793634B5F5A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261-2B12-4374-B44A-E21643A7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18F-835E-4369-BF2D-4A252DC7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9F5-8453-49D2-ABF7-FEE5A549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3EA-9356-4344-98F3-AFE9067A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AEC-B67A-4E0F-930D-F3CEAD91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399-802B-4E69-B30F-E6A830C8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C915-59A3-4B3F-B49C-257A97E0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66E-21FE-42EF-B757-8E4C0AB2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926-80E1-4F17-A936-E53093A4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5DF-D76E-4497-A320-F433165C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DFF-B8C0-45C3-B65C-77F13CCF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51C-2386-49D8-8098-01FF26A3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C9CE-DFC8-4FFB-AAAD-00CE16B065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igher Education at Castle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ND Comput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19320" y="4419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219320" y="2852640"/>
            <a:ext cx="6629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urse Leader: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ave B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0115 884228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avid.bell@castlecollege.ac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dministrator: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usan Butl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0015 884222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usan.butler@castlecollege.ac.uk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an00790_"/>
          <p:cNvPicPr/>
          <p:nvPr/>
        </p:nvPicPr>
        <p:blipFill>
          <a:blip r:embed="rId1"/>
          <a:stretch/>
        </p:blipFill>
        <p:spPr>
          <a:xfrm>
            <a:off x="3352680" y="152280"/>
            <a:ext cx="2514600" cy="12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ogo"/>
          <p:cNvPicPr/>
          <p:nvPr/>
        </p:nvPicPr>
        <p:blipFill>
          <a:blip r:embed="rId2"/>
          <a:stretch/>
        </p:blipFill>
        <p:spPr>
          <a:xfrm>
            <a:off x="6804000" y="260280"/>
            <a:ext cx="2000160" cy="100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2_13760"/>
          <p:cNvPicPr/>
          <p:nvPr/>
        </p:nvPicPr>
        <p:blipFill>
          <a:blip r:embed="rId3"/>
          <a:stretch/>
        </p:blipFill>
        <p:spPr>
          <a:xfrm>
            <a:off x="250920" y="260280"/>
            <a:ext cx="2765160" cy="1165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groupprize"/>
          <p:cNvPicPr/>
          <p:nvPr/>
        </p:nvPicPr>
        <p:blipFill>
          <a:blip r:embed="rId1"/>
          <a:stretch/>
        </p:blipFill>
        <p:spPr>
          <a:xfrm>
            <a:off x="395280" y="476280"/>
            <a:ext cx="8408880" cy="5292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Entry Requirements /Applic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inimum of 80 UCAS tariff points for progressing students from Castle Colle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other words – pass your Level 3 qualification with a reasonable gr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ply by UCAS form – select as one of your cho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te applications can be accep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INANCIAL COS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pplications to your Local LEA for grants and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tudent Loans available for full-time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r further adv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e Susan Butler – Student Services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(Chilwe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VANTAGES OF STUDYING AT CASTLE COLLE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OOD ACHIE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r students have a good record of achievement and have gained awards for their work at De Montfort in addition to high class honours deg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iversity accommodation is expensive.  Student Services will help and advise you in coping with rising HE f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maller class sizes means much more individual support for students.  Regular contact with your tutors &amp; lectur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 WILL HELP YOU TO ACHIEVE YOUR AIM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URTHER INF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 Montfort prospectuses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tle College Course Handboo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re available from Student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e myself, Pete Bilbie or Susan Butler for any further questions you may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alk to our second year students when they return in Octo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INAL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member 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igher Education is a passport to better jobs and higher sal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o consider us as one of your cho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YOU KNOW IT MAKES SENSE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Why do you need to 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know this n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ptember 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CAS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cisions on your future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oices on Higher Education cour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oices on Universities / Colle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4" descr="bd00028_"/>
          <p:cNvPicPr/>
          <p:nvPr/>
        </p:nvPicPr>
        <p:blipFill>
          <a:blip r:embed="rId1"/>
          <a:stretch/>
        </p:blipFill>
        <p:spPr>
          <a:xfrm>
            <a:off x="7010280" y="838080"/>
            <a:ext cx="862200" cy="762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Does Castle College run University Courses??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2_13760"/>
          <p:cNvPicPr/>
          <p:nvPr/>
        </p:nvPicPr>
        <p:blipFill>
          <a:blip r:embed="rId1"/>
          <a:stretch/>
        </p:blipFill>
        <p:spPr>
          <a:xfrm>
            <a:off x="685800" y="2057400"/>
            <a:ext cx="2765520" cy="116532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9"/>
          <p:cNvGrpSpPr/>
          <p:nvPr/>
        </p:nvGrpSpPr>
        <p:grpSpPr>
          <a:xfrm>
            <a:off x="3429000" y="2057400"/>
            <a:ext cx="3438360" cy="639720"/>
            <a:chOff x="3429000" y="2057400"/>
            <a:chExt cx="3438360" cy="639720"/>
          </a:xfrm>
        </p:grpSpPr>
        <p:grpSp>
          <p:nvGrpSpPr>
            <p:cNvPr id="64" name="Group 7"/>
            <p:cNvGrpSpPr/>
            <p:nvPr/>
          </p:nvGrpSpPr>
          <p:grpSpPr>
            <a:xfrm>
              <a:off x="3429000" y="2057400"/>
              <a:ext cx="3438360" cy="639720"/>
              <a:chOff x="3429000" y="2057400"/>
              <a:chExt cx="3438360" cy="6397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429000" y="2057400"/>
                <a:ext cx="343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429000" y="2057400"/>
                <a:ext cx="34383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THE ASSOCIATE COLLEGE NETWOR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" name="Rectangle 8"/>
            <p:cNvSpPr/>
            <p:nvPr/>
          </p:nvSpPr>
          <p:spPr>
            <a:xfrm>
              <a:off x="3429000" y="2057400"/>
              <a:ext cx="3438360" cy="6397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3505320" y="2666880"/>
            <a:ext cx="3438360" cy="730080"/>
            <a:chOff x="3505320" y="2666880"/>
            <a:chExt cx="3438360" cy="730080"/>
          </a:xfrm>
        </p:grpSpPr>
        <p:grpSp>
          <p:nvGrpSpPr>
            <p:cNvPr id="69" name="Group 12"/>
            <p:cNvGrpSpPr/>
            <p:nvPr/>
          </p:nvGrpSpPr>
          <p:grpSpPr>
            <a:xfrm>
              <a:off x="3505320" y="2666880"/>
              <a:ext cx="3438360" cy="730080"/>
              <a:chOff x="3505320" y="2666880"/>
              <a:chExt cx="3438360" cy="730080"/>
            </a:xfrm>
          </p:grpSpPr>
          <p:sp>
            <p:nvSpPr>
              <p:cNvPr id="70" name="Rectangle 10"/>
              <p:cNvSpPr/>
              <p:nvPr/>
            </p:nvSpPr>
            <p:spPr>
              <a:xfrm>
                <a:off x="3505320" y="2666880"/>
                <a:ext cx="343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11"/>
              <p:cNvSpPr/>
              <p:nvPr/>
            </p:nvSpPr>
            <p:spPr>
              <a:xfrm>
                <a:off x="3505320" y="2666880"/>
                <a:ext cx="3438360" cy="73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CASTLE COLLEGE, NOTTINGHAM</a:t>
                </a:r>
                <a:br>
                  <a:rPr sz="900"/>
                </a:b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" name="Rectangle 13"/>
            <p:cNvSpPr/>
            <p:nvPr/>
          </p:nvSpPr>
          <p:spPr>
            <a:xfrm>
              <a:off x="3505320" y="2666880"/>
              <a:ext cx="3438360" cy="730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Text Box 17"/>
          <p:cNvSpPr/>
          <p:nvPr/>
        </p:nvSpPr>
        <p:spPr>
          <a:xfrm>
            <a:off x="838080" y="4038480"/>
            <a:ext cx="75438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YES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stle Colleg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s a long-established associate college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 MONTFORT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Group 22"/>
          <p:cNvGrpSpPr/>
          <p:nvPr/>
        </p:nvGrpSpPr>
        <p:grpSpPr>
          <a:xfrm>
            <a:off x="685800" y="3429000"/>
            <a:ext cx="3438360" cy="304920"/>
            <a:chOff x="685800" y="3429000"/>
            <a:chExt cx="3438360" cy="304920"/>
          </a:xfrm>
        </p:grpSpPr>
        <p:grpSp>
          <p:nvGrpSpPr>
            <p:cNvPr id="75" name="Group 20"/>
            <p:cNvGrpSpPr/>
            <p:nvPr/>
          </p:nvGrpSpPr>
          <p:grpSpPr>
            <a:xfrm>
              <a:off x="685800" y="3429000"/>
              <a:ext cx="3438360" cy="304920"/>
              <a:chOff x="685800" y="3429000"/>
              <a:chExt cx="3438360" cy="304920"/>
            </a:xfrm>
          </p:grpSpPr>
          <p:sp>
            <p:nvSpPr>
              <p:cNvPr id="76" name="Rectangle 18"/>
              <p:cNvSpPr/>
              <p:nvPr/>
            </p:nvSpPr>
            <p:spPr>
              <a:xfrm>
                <a:off x="685800" y="3429000"/>
                <a:ext cx="343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19"/>
              <p:cNvSpPr/>
              <p:nvPr/>
            </p:nvSpPr>
            <p:spPr>
              <a:xfrm>
                <a:off x="685800" y="3429000"/>
                <a:ext cx="3438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UCAS Campus code: </a:t>
                </a: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" name="Rectangle 21"/>
            <p:cNvSpPr/>
            <p:nvPr/>
          </p:nvSpPr>
          <p:spPr>
            <a:xfrm>
              <a:off x="685800" y="3429000"/>
              <a:ext cx="343836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" name="Picture 23" descr="logo"/>
          <p:cNvPicPr/>
          <p:nvPr/>
        </p:nvPicPr>
        <p:blipFill>
          <a:blip r:embed="rId2"/>
          <a:stretch/>
        </p:blipFill>
        <p:spPr>
          <a:xfrm>
            <a:off x="6877080" y="2205000"/>
            <a:ext cx="2000160" cy="1000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What does Associate College mean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enrol as a student of De Montfort Univers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have all the rights, privileges and access of any De Montfort 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also have the full support available at Castle Colle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e deliver the same course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Class of 2006 HND"/>
          <p:cNvPicPr/>
          <p:nvPr/>
        </p:nvPicPr>
        <p:blipFill>
          <a:blip r:embed="rId1"/>
          <a:stretch/>
        </p:blipFill>
        <p:spPr>
          <a:xfrm>
            <a:off x="914400" y="476280"/>
            <a:ext cx="7315200" cy="5832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COUR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ING</a:t>
            </a:r>
            <a:br>
              <a:rPr sz="32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DEXCEL (BTEC) HND/BSc/BSc Hon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CAS Code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ND 104G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BSc G401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y This Course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flexibility of gaining an industry recognised HND qualification after two yea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vers a full range of computing subjec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ptional choices allow specialis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6" descr="bs00100_"/>
          <p:cNvPicPr/>
          <p:nvPr/>
        </p:nvPicPr>
        <p:blipFill>
          <a:blip r:embed="rId1"/>
          <a:stretch/>
        </p:blipFill>
        <p:spPr>
          <a:xfrm>
            <a:off x="6477120" y="2925720"/>
            <a:ext cx="2514600" cy="1341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2_13760"/>
          <p:cNvPicPr/>
          <p:nvPr/>
        </p:nvPicPr>
        <p:blipFill>
          <a:blip r:embed="rId2"/>
          <a:stretch/>
        </p:blipFill>
        <p:spPr>
          <a:xfrm>
            <a:off x="0" y="189000"/>
            <a:ext cx="2556000" cy="116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ogo"/>
          <p:cNvPicPr/>
          <p:nvPr/>
        </p:nvPicPr>
        <p:blipFill>
          <a:blip r:embed="rId3"/>
          <a:stretch/>
        </p:blipFill>
        <p:spPr>
          <a:xfrm>
            <a:off x="6948360" y="189000"/>
            <a:ext cx="2000520" cy="1000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HND/BSc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HND after 2 years (Study at Cast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BSc after 4 years (Further 2 yea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Optional 1 year – fully paid work place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2 year – Study at De Montfort – Leicest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eaching/Assessment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ese programmes use a variety of teaching methods including lectures, tutorials / groupwork, computer lab sessions and self-directed study.  Assessment by coursework, projects and ex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HND IN COMPUTING</a:t>
            </a:r>
            <a:br>
              <a:rPr sz="2800"/>
            </a:b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YEAR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SCI 1412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omputer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INFO 1408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Database Design 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INFO 1409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Systems Analysis &amp; 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Desig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SCI 1604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Visual Web Development 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(in </a:t>
            </a:r>
            <a:r>
              <a:rPr b="0" lang="en-GB" sz="2800" spc="-1" strike="noStrike">
                <a:solidFill>
                  <a:srgbClr val="262673"/>
                </a:solidFill>
                <a:latin typeface="Arial"/>
                <a:ea typeface="Arial"/>
              </a:rPr>
              <a:t>ASP.net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 )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26267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PRJ 2402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Software Developmen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INFO 2605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Interactive Systems Design and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Professional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 2415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OO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 2421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Operating Systems / Computing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 or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Systems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2608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Multimedia &amp; Intranet Technology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2414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Entertainment &amp; Games Comput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HND IN COMPUTING</a:t>
            </a:r>
            <a:br>
              <a:rPr sz="2800"/>
            </a:b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YEAR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david.bell</cp:lastModifiedBy>
  <dcterms:modified xsi:type="dcterms:W3CDTF">2009-11-11T12:29:33Z</dcterms:modified>
  <cp:revision>98</cp:revision>
  <dc:subject/>
  <dc:title>AVCE – UNIT 14 Project Management</dc:title>
</cp:coreProperties>
</file>