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8EF4-1A9C-4807-A5BE-94978F4327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5C76-17E7-4FA4-A7BE-128F918A32A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BB66-7846-4E35-8484-B92FAC578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2B73-CB50-40CD-8A57-36AB832D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2A8A-6F60-4D96-B580-B249AF9A2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B493-225D-4DEA-8411-DEEC0E0B3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A0EBF-0DB7-416E-9D82-5684C3BE9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5F40-2695-4147-8D09-0CE3EC91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678F-1FBF-4363-825E-608DADD4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D230B-B0D9-4686-B1E6-110FDC26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F1B0-29D2-4292-85F6-873B61AD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57EA-52C7-4722-AA2D-DA6DEBC6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0F0B-B4BF-4ECB-8FE3-28F71D12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248D-13A6-4F1C-861D-BE7AFD17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0364-7386-4A64-AD6A-3FE26490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62D07-5A56-44A8-B81B-3B73DBD0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D036-39CD-4DC5-9950-BF1AE2E2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D88CB-D192-4867-86F7-A70A48D36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960B1-DF59-495B-B02B-32DC87936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4FF7-EBEC-4456-B4E1-D008891D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3F2A-0C0B-4846-8A89-AF835659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F820-94F3-4216-81F1-EFD26C9D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AF1D-8864-404E-A11D-7BD69A88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09B0-7858-4432-9B44-BF93B771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7BF9-B573-4F2E-967B-E48DADF7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D891-4A19-4382-BB05-A4FFAED8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F5E8-C81B-4179-A3DA-D168EAEBA0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4B72-4210-4107-87C4-C291CE531C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A711-D6CD-4ECA-81BB-5676EB193D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7ff"/>
                </a:solidFill>
                <a:latin typeface="Arial"/>
              </a:rPr>
              <a:t>Principles of Software Design and Development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51000" y="3908160"/>
            <a:ext cx="6642000" cy="17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OPS / REPIT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Write a For Next Loop that counts from 50 to 20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Write a For Next Loop that counts from 10 to 0 in steps of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08BF-755C-49EE-8556-84D03D075B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ap the use of loops – While &amp; 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 at the format of the For…Next Lo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an we use the For loo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se of ST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539640" y="62064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RECA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484280"/>
            <a:ext cx="78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m Counter as Inte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nter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 While Counter &lt;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nter = Counter +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m Counter as Inte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nter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nter = Counter +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op Until Counter &gt;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716F-DAC4-4CD5-B8AA-F6241CBC9E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The For…Next Loo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the loop to work we need to know three things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en the loop will sta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en the loop will e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ere the loop is up to at a given poi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ashing the dishes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Dim TotalNoOfDishes as Integ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Dim CurrentDishNo as Integ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TotalNoOfDishes = 1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For CurrentDishNo = 1 To TotalNoOfDish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wash a dish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EDE3-A513-42B1-A507-3433B2E98F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The For…Next Loo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asic syntax for a ‘For loop’ 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&lt;count&gt; = &lt;start value&gt; To &lt;end value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cute code stat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xt &lt;value of count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9976-A430-4484-B5A3-00887C90D5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The For…Next Loop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m valFrom As Integer = txtFrom.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m valTo As Integer = txtTo.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m count As Inte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or count = valFrom To val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stTest.Items.Add(cou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e Use of STE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Counter = 1 to 5 Step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'code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loop three times, through the values 1, 3 and 5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p forces the loop (in this example) to make increments of 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es the following code do?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Counter = 5 to 1 Step -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'code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483920"/>
            <a:ext cx="854064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 the code for the following For Next loop so that it starts with a value of 1 and ends with 10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m Counter as Inte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Counter = _____  To 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'code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will be the value of Temp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m StartValue As Inte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m EndValue As Inte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m Counter As Inte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m Temp As Inte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rtValue = 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ndValue = StartValue *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mp =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r Counter = StartValue To EndVa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mp = Temp +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david.bell</cp:lastModifiedBy>
  <dcterms:modified xsi:type="dcterms:W3CDTF">2010-02-22T14:13:22Z</dcterms:modified>
  <cp:revision>47</cp:revision>
  <dc:subject/>
  <dc:title>Computer Platforms Week 1</dc:title>
</cp:coreProperties>
</file>