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3CC9-D6E0-4A12-A24B-15DFC3CF2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5E40-3CB4-4565-9519-E607A8FEAB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B85-101F-47EF-B39A-B6E56FE0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DDB-D013-4898-BC8C-24CDD831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2BC-A964-4F8F-AADE-D653DC3D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ACE-F23D-40B5-AEE4-BCD553E7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B292-F2AE-48B7-9BAE-A72FC6B3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FB2D-3216-466A-B228-1F66E43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FC3F-0E9D-431B-AF32-E900D40F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5463-A74D-4064-A2CA-20A4D9DC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FE33-70CB-4CFE-AD03-1AA257C6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0754-9A61-4E1C-B181-334C5451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59DC-BF1B-4C63-BEC5-6924F997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FE8-4FED-4850-B07A-0B3D6036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2EF4-70A3-41CA-96A8-E4CFF59A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71A4-7046-4C31-BB79-8CDBA35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6E84-638E-4AE6-90F4-B1205298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59F5-CFDD-4B90-BF45-FB05C188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C1B9-2A6C-4CF4-8786-82784655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42C-2B5F-4669-84C4-EFFDE314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DED-BF83-4477-897F-CEA9C42C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6A8-D47C-43C9-AF22-4F0C136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2CB-A111-4893-A2D1-86D854F8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BEB-7535-40B6-AF1B-7B9BE3A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BAF-3DED-4B54-B014-4C9D8C6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9A4-80D4-444F-9580-644B4F4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49ED-3A64-4114-858F-868FCA91EC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83E7-7DD4-4C41-B74D-2D248B2A71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6D62-6B62-40CD-B2B5-8679F2AB9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51000" y="3908160"/>
            <a:ext cx="66420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OOPS / REPI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rite a For Next Loop that counts from 50 to 2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Write a For Next Loop that counts from 10 to 0 in steps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22D9-7AB5-432C-A363-48F881261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p the use of loops – While &amp;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at the format of the For…Next L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we use the For lo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se of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62064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8428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While Counter &l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nter = Counter +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op Until Counter &gt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B220-6350-4303-87CE-6E81A7D0A6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the loop to work we need to know three thing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sta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the loop will 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 loop is up to at a given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hing the dish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TotalNoOfDishes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Dim CurrentDishNo as Integ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TotalNoOfDishes = 1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For CurrentDishNo = 1 To TotalNoOfDish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wash a dis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2F50-9BA7-44B4-9302-A6EF4F8DC1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sic syntax for a ‘For loop’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&lt;count&gt; = &lt;start value&gt; To &lt;end valu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cute code stat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&lt;value of count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tec National - 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4C39-7B7F-40BD-927A-C3F5D189DA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The For…Next Loop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From As Integer = txtFrom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valTo As Integer = txtTo.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 count As Inte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count = valFrom To val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stTest.Items.Add(cou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Use of STE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1 to 5 Step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uld loop three times, through the values 1, 3 and 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forces the loop (in this example) to make increments of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the following code do?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ounter = 5 to 1 Step 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he code for the following For Next loop so that it starts with a value of 1 and ends with 1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Counter = _____  To 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'code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will be the value of Temp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Start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EndValue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Counter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m Temp As Inte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Value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Value = StartValue *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Counter = StartValue To End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 = Temp +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david.bell</cp:lastModifiedBy>
  <dcterms:modified xsi:type="dcterms:W3CDTF">2010-02-22T14:13:22Z</dcterms:modified>
  <cp:revision>47</cp:revision>
  <dc:subject/>
  <dc:title>Computer Platforms Week 1</dc:title>
</cp:coreProperties>
</file>