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B89C-4895-41BA-9959-CB39ABAC9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E2DF-57BE-45E0-91AD-100EBBAEB3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8DA-F5F6-4134-ABC3-31910083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EA1-9DA7-41D4-9DAC-8C89B0F2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37A-988D-48C5-9E8B-52A06883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AF5-F2CD-4FA8-AE82-F43D3B39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4564-F89D-455D-B15F-0D95FCA3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A255-5A63-494E-9713-18E3B076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7798-8437-42DE-8A1B-9649A66F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A6F5-96CF-43C8-9A06-CEE35B25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67CC-2816-450E-AB70-630BE2E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075-F6D4-41E2-B181-7AD55D83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C8A0-6E6B-4983-9366-03B85CC4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D0C-BCC5-463A-8D67-22DFE062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4610-0DDB-460E-B66A-E27D9135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5E15-8694-4631-B5BD-8742199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9B7-272A-4F8C-8EED-5941D6FD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FD70-8008-48CC-BC9E-4FE73F1D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9A31-C5D3-44C4-A9CE-EB36ACFE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D3B-89B6-4059-A9D8-C0565FA7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B1D-90E6-4D3D-AC31-2F506066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288-E453-453E-A34E-F09BCAA9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1E6-381B-4CF2-A8FA-110CFFAE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EE1-3EEF-48F6-987C-BBD4C2DC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DBA-EC5F-451F-BA0D-DE1EC19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CAF-BAF7-4D4B-A973-F5791374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895A-87B1-4AE5-AEF1-EC61910DAD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4453-7F23-4AA7-BC67-E9F818ECA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1083-1529-408D-AEC6-EDA763881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rite a For Next Loop that counts from 50 to 2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rite a For Next Loop that counts from 10 to 0 in steps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2C89-A558-46C6-BB1F-192AED07EC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 the use of loops – While &amp;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of the For…Next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use the For lo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78C-FB88-404C-A779-4062D6777E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loop to work we need to know three thing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st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 loop is up to at a given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hing the dish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TotalNoOfDishes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CurrentDishNo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otalNoOfDishes = 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For CurrentDishNo = 1 To TotalNoOfDish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wash a dis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E38-B841-425A-A86D-F30D1F47C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syntax for a ‘For loop’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&lt;count&gt; = &lt;start value&gt; To &lt;end valu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code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&lt;value of coun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DF15-CAE0-4EF6-9842-362C9744DD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From As Integer = txtFrom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To As Integer = txtTo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count = valFrom To v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stTest.Items.Add(cou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Use of ST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1 to 5 Ste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loop three times, through the values 1, 3 and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forces the loop (in this example) to make increments of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e following code do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ounter = 5 to 1 Step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ode for the following For Next loop so that it starts with a value of 1 and ends with 1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_____  To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will be the value of Tem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tart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End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Temp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Value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Value = StartValue *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Counter = StartValue To End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Temp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4:13:22Z</dcterms:modified>
  <cp:revision>47</cp:revision>
  <dc:subject/>
  <dc:title>Computer Platforms Week 1</dc:title>
</cp:coreProperties>
</file>