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C226-6CFF-49F9-8A5B-AA656547AD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77BD-BEE9-4C05-B7B7-F01939AE83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8E9-713B-4260-B3D4-FE6BC97E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60E-A5A6-4371-9F53-9824C61F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93A-3FE7-4106-A737-41148220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266-57C0-4A72-801D-577C79CC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4662-A9C3-4CDB-86FF-52C0B950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7DE9-E0BF-4661-B17C-9A689FDC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DEDC-359B-4ABB-85DA-ACC44521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2E36-01E8-40EA-BAC8-F4FA6287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CDE2-B292-43AC-8DED-198E771F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9ED5-E6F8-4C93-BF1D-6EFA575E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FB31-A6D8-4FB4-9814-E2F84757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D2E-DC5C-4194-9992-39EB4C2A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BE2F-E2B2-4093-B9EA-B1D5796E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5660-785F-4686-AB4D-F8894CC1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409F-8A23-447A-8B4C-E38CD16F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F1AD-A505-4A14-8E87-9C3201C4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A703-964A-4B41-828B-2F83A96E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14E-1F5A-44F1-93AD-F6244111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5BAF-3FD8-461A-814F-0E32304C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A0E-5DB0-490C-AE89-57C8DE4D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62F-17D6-4EF8-ACDA-19147442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0C2-6B47-4567-98C6-5FB28EC5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F49-D9BD-4B6C-BF5E-128C5B69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7EC-4C27-4CE3-B236-5DD2C2F2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D8EA-7D81-49F7-8845-216BAA3148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D3DC-46AB-4163-93ED-6C6D42CA28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244E-F090-4916-9AAC-EF2746D71A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1000" y="3908160"/>
            <a:ext cx="6642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PS / REPI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Write a For Next Loop that counts from 50 to 2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Write a For Next Loop that counts from 10 to 0 in steps of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99ED-E397-4FE2-9134-8ECBAC3F8D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p the use of loops – While &amp;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format of the For…Next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we use the For lo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39640" y="620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8428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op Until Counter &gt;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C567-5678-4B78-B547-5D0934E798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e loop to work we need to know three thing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 loop will st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 loop will 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the loop is up to at a given 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ashing the dish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Dim TotalNoOfDishes as Integ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Dim CurrentDishNo as Integ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TotalNoOfDishes = 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For CurrentDishNo = 1 To TotalNoOfDish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wash a dis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A4B6-B839-4FF8-95FA-FCFF3F9123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sic syntax for a ‘For loop’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&lt;count&gt; = &lt;start value&gt; To &lt;end valu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e code stat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&lt;value of count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9048-ED41-440E-8427-DF18825787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valFrom As Integer = txtFrom.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valTo As Integer = txtTo.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count As Inte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count = valFrom To val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stTest.Items.Add(cou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Use of STE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unter = 1 to 5 Step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loop three times, through the values 1, 3 and 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 forces the loop (in this example) to make increments of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the following code do?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Counter = 5 to 1 Step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code for the following For Next loop so that it starts with a value of 1 and ends with 10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unter = _____  To 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will be the value of Tem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StartValue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EndValue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Temp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Value 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Value = StartValue *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Counter = StartValue To End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 = Temp +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id.bell</cp:lastModifiedBy>
  <dcterms:modified xsi:type="dcterms:W3CDTF">2010-02-22T14:13:22Z</dcterms:modified>
  <cp:revision>47</cp:revision>
  <dc:subject/>
  <dc:title>Computer Platforms Week 1</dc:title>
</cp:coreProperties>
</file>