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339B-808C-4721-840E-CC2C6C88D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FABB-C265-4828-AA33-A785B45E09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F98-3A64-4B1C-81E3-A2E3CD7C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D48-E658-4182-AA52-BDDC8CFD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8FE-866B-4CC9-94BF-4B033640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0FE-58B6-45A9-A102-79CFF944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7C52-6870-43E9-9A1A-C7413661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B3AF-69DB-4D5F-966C-995F7067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985A-572F-4F71-8D32-5603DF83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CB4C-7FF8-4D9C-88B2-F195B6D7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2FD0-7A29-4978-944E-EFAEEC85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34FB-A7E3-4DDD-BED1-0E033574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AD31-75CE-4236-A091-6AB8E60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262-DF15-4E5C-A2DB-FA5167F4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2E56-3058-4D67-AD0D-7CF5D94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6F66-C1E4-4432-95FB-133E883E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F75B-7314-4CC0-9ACD-2F33044C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D10F-56F5-4D9D-BE0C-DFF5368E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9C25-23A2-4F4E-B5F9-019A4BED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152-F60D-4D79-8FBE-96CB5EF4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C07-9E36-46B9-A26C-B62B5304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195-F5A3-44C4-A816-E099E9BE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C30-0142-4C91-878A-3082699E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BB6-949F-49A1-8748-F2031719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2E0-92F3-49DA-ACA5-5CE0B07E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B14-7FC7-46A6-BE58-D1F2CF0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6373-3DCF-4392-A0D8-C100486956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1383-FFA8-4868-B583-0E02BF2488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F18E-B197-4946-BE9E-F5C29A6814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rite a For Next Loop that counts from 50 to 2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Write a For Next Loop that counts from 10 to 0 in steps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94DD-7439-4717-8219-5465549C39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p the use of loops – While &amp;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of the For…Next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we use the For lo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E440-8F3A-4EB8-9E85-6FA44136E9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loop to work we need to know three thing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st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 loop is up to at a given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shing the dish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TotalNoOfDishes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CurrentDishNo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TotalNoOfDishes = 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For CurrentDishNo = 1 To TotalNoOfDish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wash a dis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8119-CCC5-459F-B900-7594700083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ic syntax for a ‘For loop’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&lt;count&gt; = &lt;start value&gt; To &lt;end valu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code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&lt;value of coun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F113-3C6E-4F60-A73F-3E4311CEEA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From As Integer = txtFrom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To As Integer = txtTo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count = valFrom To v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stTest.Items.Add(cou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Use of STE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1 to 5 Ste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loop three times, through the values 1, 3 and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forces the loop (in this example) to make increments of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e following code do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Counter = 5 to 1 Step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ode for the following For Next loop so that it starts with a value of 1 and ends with 10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_____  To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will be the value of Tem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Start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End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Temp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Value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Value = StartValue *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Counter = StartValue To End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Temp +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4:13:22Z</dcterms:modified>
  <cp:revision>47</cp:revision>
  <dc:subject/>
  <dc:title>Computer Platforms Week 1</dc:title>
</cp:coreProperties>
</file>