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41D-F726-4630-BAC9-F43DC9754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2858-9E31-47C8-BD50-C7092DC2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BCB-0D3A-4FFF-96B1-FAABE333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518D-B105-4EA9-AE4D-8F00BD19F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3F14-1CC2-4E7D-9B8E-F0963BDFA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98DC-1A90-4BDB-9739-2A9B6F088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7D62-5C3F-4DE5-8341-013C81993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69A05-1A2B-4D4E-B0AF-EFF2A686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843C-2615-4377-9EB7-F542FAC2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F032E-532D-4F8F-8650-7C80E21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2105-ED9D-41EA-BDEC-515C7228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F7CA0-F61F-4E31-A456-1ED73D3B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755B4-30CD-407D-9ECF-2D269AE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971EE-DAB2-4780-AF4C-1C82D15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1AAD-2892-4DA3-80B6-2AFF3133F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71FC-5312-413F-8EFE-2027491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DEB83-D1A1-42B6-BEFB-789E625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C0F9-F702-4402-93CB-386F9E1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512A-D1D0-416F-8DA7-3BE05673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0E1EF-1B54-4260-87E1-0C50998D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612A-9DED-4601-9B6F-6017CD12C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AC79-E116-4F1F-89B0-978600945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812ED-8CEB-4E52-BAC8-DB018906F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6BDE-75A4-47EF-8A2E-A363FEBAE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E035-730F-4530-A511-5CDBC8AA6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5EED-2B8D-4E66-BBC4-19D75A079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CEF2-ECFF-4F70-8D09-3818D4A6B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114E-8C40-44A2-878B-948433D98173}" type="slidenum">
              <a:rPr b="0" lang="en-US" sz="2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astl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B02-2D0A-42C2-8192-5E7EBF2481F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2222"/>
                </a:solidFill>
                <a:latin typeface="Arial"/>
                <a:ea typeface="Times New Roman"/>
              </a:rPr>
              <a:t>Unit 20: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Unit Descript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6FEB-46ED-4CC2-9A67-06AE2C587EF5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A programming language is used by a programmer to develop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vent driven application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xample event driven languag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A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6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B24-181B-4209-A66E-E2CE331C4D30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me advantages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Programmer has control of where to place code and how to star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i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uitability for GUI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n event driven language makes use of GUI controls to trigger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implicity of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isual programming makes application layout much easier to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chieve.  Code can simply be attached to various control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Effective testing too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EC71-FBA3-4CA3-AA96-1ED65F9B122C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disadvantage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Can be slo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Loads of processing power is taken due to the need of the event loo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More processing is required due to the trigger functions as they match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he type of event with the event handler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3C9-4FD7-4C79-B148-20BFE4361896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d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1CE-2E5C-4B27-A586-159E1368A75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20EA-EB47-4B2B-A090-04EDBA2219BC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event driven progra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s are typically used with GUI operating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events are </a:t>
            </a: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riggered</a:t>
            </a: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 by a user using an OS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v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Key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i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other software can you think of that is event driven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preadsheets, Databases, the lists go on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4F76-6B55-4D3D-AF6E-51545AEB0EF9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An event is anything that happens to an object when the program i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n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is an object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ontrols are objects, what controls can you think of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Butt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Li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Pictures etc.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CE82-3D0A-4B8B-9CEB-511ED8E48F4F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Page setup (Microsoft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http://download.microsoft.com/documents/australia/education/resources/images/PageSetup.gif"/>
          <p:cNvPicPr/>
          <p:nvPr/>
        </p:nvPicPr>
        <p:blipFill>
          <a:blip r:embed="rId1"/>
          <a:stretch/>
        </p:blipFill>
        <p:spPr>
          <a:xfrm>
            <a:off x="2514600" y="1295280"/>
            <a:ext cx="4095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071-B15F-493A-B978-8DA01479C0E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handler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st objects have a large variety of possible events, i.e. Click, doubl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, mouse move etc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handler is the subroutine (procedure) that holds the code tha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s when an event has occurr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ivate Sub btnDisplayMessage_Click(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sgBox (“Hello World”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triggers selects the appropriate event handler that determine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code is execut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part of the code shows the trigger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AF1E-6EA0-49D7-894A-1864BEF0CEB8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Challen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MouseUp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The King of Rock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MouseMove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People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29200" y="1371600"/>
            <a:ext cx="3505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hange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Hello Life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lick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Rock on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4635" t="28435" r="54446" b="40551"/>
          <a:stretch/>
        </p:blipFill>
        <p:spPr>
          <a:xfrm>
            <a:off x="4343400" y="342900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0E3-AF50-425D-8C7B-BBF65A703EF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ming languages need to have event loop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se loops are needed to keep testing the user interface to dete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ether anything has happened, i.e. A mouse click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 the programmer is not normally aware of this kind of loop. A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loop is part of an event driven program’s make u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re are other kinds of loops that the programmer will use, this is th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ame principle, however it is not programmed into an application by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 programmer – it comes as part of the environ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E33F-C17A-43C1-AADC-DC1C9B5F0CF7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the key characteristic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hese are the key characteristics of event driven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languag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handl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rigger func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Forms (which contain control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4-27T12:47:49Z</dcterms:modified>
  <cp:revision>229</cp:revision>
  <dc:subject>Chapter One</dc:subject>
  <dc:title>Linux+ Guide to Linux Certification</dc:title>
</cp:coreProperties>
</file>