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BDD3-4012-4775-A9BA-45F22D776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305E-6324-4950-BFD7-7EE36E33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774-4178-4D4B-8CF3-3FBB6622D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78C3E-20D2-4CF2-B859-EB65C8C6C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9E83-9479-4A56-AE77-F18172D1D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A560-141E-416B-BF10-D3288B776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5DF0-B164-4015-81A5-0ADB059FE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E8BD3-090C-4FA2-9D09-9646B41B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ECB1F-40F8-4857-8374-C5611FB1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62350-9F47-4106-B70C-AC2FC5B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D3353-48F8-4CAB-8D3A-8484AED2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A7960-5737-48FC-8202-2BDFF954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9AF4C-B7CF-485F-8251-59C51C4D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24E45-AA9D-4920-87C7-24A3AC43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5A62-4D0E-4D65-9583-FD401E0E4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B08EB-0702-4D81-A39D-96C5E5C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87F75-83BF-4A84-B386-470F440B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F0602-4BC2-48A7-93E1-5471105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BFE08-E42F-4269-B481-CAC5651D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8B156-D112-44B9-892F-ED8BE84A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B71E-9088-4750-B254-B142AD68C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1AE1-DDAC-404C-8697-87ABF70D7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0D75-59AC-48D3-BDE1-9A7D82739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C6FE-A069-49F7-8784-81DC8EE9F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92B6D-9451-49D2-9CB4-A4A3C917E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BED6-0E8B-4676-BE3D-E42CEE86B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829A-6F27-4DC7-8120-32D7369B4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C61D-8DA0-440F-8FAF-0FA3063DBC89}" type="slidenum">
              <a:rPr b="0" lang="en-US" sz="2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astle Colle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00A9-1530-4FA1-B62A-D30CE9862F6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9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2222"/>
                </a:solidFill>
                <a:latin typeface="Arial"/>
                <a:ea typeface="Times New Roman"/>
              </a:rPr>
              <a:t>Unit 20: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Unit Descript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0715-297D-4D7A-8D17-BBEBBE37FBBE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gramming languag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A programming language is used by a programmer to develop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vent driven application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Example event driven languag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.ne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C#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A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B6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1BFA-5BA7-46FC-84C8-7B0E5555A70F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ome advantages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Programmer has control of where to place code and how to star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i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uitability for GUI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n event driven language makes use of GUI controls to trigger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Simplicity of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Visual programming makes application layout much easier to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achieve.  Code can simply be attached to various control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22222"/>
                </a:solidFill>
                <a:latin typeface="Arial"/>
              </a:rPr>
              <a:t>Effective testing too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9470-DB5E-49C5-9470-BD65F58BA91C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 disadvantage of event driven programm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Can be slo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Loads of processing power is taken due to the need of the event loo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More processing is required due to the trigger functions as they match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he type of event with the event handler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EE5-B614-4F85-860E-BFCFDF665EA5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d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ed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ed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35E-A2AE-4487-B7F3-8B3F397824F2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what is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efine what is an ev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into event handlers and trig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even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Look at example applications and langu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key characteristics of an event driven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2222"/>
                </a:solidFill>
                <a:latin typeface="Arial"/>
              </a:rPr>
              <a:t>Discuss advantages and disadvantages of event driven program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AE50-67D1-4AFF-B58B-B3DECCD6E2D5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event driven progra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s are typically used with GUI operating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events are </a:t>
            </a: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riggered</a:t>
            </a: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 by a user using an OS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v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Key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i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other software can you think of that is event driven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preadsheets, Databases, the lists go on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C6F2-6031-4EC1-B2D9-CCDBF2BC3DC9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An event is anything that happens to an object when the program i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n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is an object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ontrols are objects, what controls can you think of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Butt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Li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Pictures etc...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D47-F6FC-423B-A585-A19BD7E9EE27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Page setup (Microsoft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http://download.microsoft.com/documents/australia/education/resources/images/PageSetup.gif"/>
          <p:cNvPicPr/>
          <p:nvPr/>
        </p:nvPicPr>
        <p:blipFill>
          <a:blip r:embed="rId1"/>
          <a:stretch/>
        </p:blipFill>
        <p:spPr>
          <a:xfrm>
            <a:off x="2514600" y="1295280"/>
            <a:ext cx="4095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787-355A-4482-9B38-74A9CF76F95F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Define what an event handler 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Most objects have a large variety of possible events, i.e. Click, doubl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click, mouse move etc..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handler is the subroutine (procedure) that holds the code that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runs when an event has occurr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ivate Sub btnDisplayMessage_Click(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sgBox (“Hello World”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triggers selects the appropriate event handler that determines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code is executed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at part of the code shows the trigger?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8174-E0DD-4E72-80F8-DB10F3679E24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Challen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Close_MouseUp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The King of Rock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Click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World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Private Sub btnMessage_MouseMove(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MsgBox ("Hello People"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22222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29200" y="1371600"/>
            <a:ext cx="3505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hange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Hello Life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Sub txtEnterText_Click(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sgBox ("Rock on"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14635" t="28435" r="54446" b="40551"/>
          <a:stretch/>
        </p:blipFill>
        <p:spPr>
          <a:xfrm>
            <a:off x="4343400" y="3429000"/>
            <a:ext cx="4267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2692-F5BF-4836-A94E-A8FD13D55297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driven programming languages need to have event loop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se loops are needed to keep testing the user interface to dete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whether anything has happened, i.e. A mouse click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 the programmer is not normally aware of this kind of loop. A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event loop is part of an event driven program’s make up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re are other kinds of loops that the programmer will use, this is the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same principle, however it is not programmed into an application by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22222"/>
                </a:solidFill>
                <a:latin typeface="Arial"/>
              </a:rPr>
              <a:t>the programmer – it comes as part of the environ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stle Colle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00E9-37EC-4902-819A-8B94A264CE5D}" type="slidenum">
              <a:rPr b="0" lang="en-US" sz="20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are the key characteristic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These are the key characteristics of event driven programm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22222"/>
                </a:solidFill>
                <a:latin typeface="Arial"/>
              </a:rPr>
              <a:t>languag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handl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Trigger func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Event loop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222222"/>
                </a:solidFill>
                <a:latin typeface="Arial"/>
              </a:rPr>
              <a:t>Forms (which contain control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0-04-27T12:47:49Z</dcterms:modified>
  <cp:revision>229</cp:revision>
  <dc:subject>Chapter One</dc:subject>
  <dc:title>Linux+ Guide to Linux Certification</dc:title>
</cp:coreProperties>
</file>