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C262-BB82-4E1E-9681-366DA775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6FA8-2AF2-437C-B981-099842476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A45F-F07F-4BBB-B5DD-405850F97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29EC2-BA5E-45BE-BAFC-9C57C4416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6CA0-A1FD-471E-833F-30777895F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FC28-4328-4816-96DC-8ED4E965A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269B-F4BD-4955-BDAC-183DAA229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267CD-E0A5-490F-9816-E624B138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2313-C034-46A3-807D-71386426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2ED01-906E-4A27-90F4-0617A35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9CD52-FC3D-4429-AA20-6E637BA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2E7FA-6769-4522-A7EC-3401886D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EF9BF-3D59-4475-B308-65116DC4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E470-8A30-46D0-B948-1E09D0E2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F4BA-0BE2-4854-BAF9-66C3574A2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70CC6-6C16-46E6-962C-3AC40A9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E20C-EB90-4930-B251-47B4E87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E362E-06D2-48EA-BCDA-EED7522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70B55-37F0-45B9-8CC8-0216E3C2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AE13-782E-440A-88BF-3E1D6BAF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A9AC-5D83-40B6-8CDE-C5E9FBA34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70372-EA28-4FDA-825E-4E587AD45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7ABC-6BE4-480C-B927-271A7CD2B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D339-DCF2-4949-82CD-7D06FB63C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D1FE-88A5-4CBD-B303-783F39329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5DF9-EA3C-43FE-AB83-5949B3966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4220-B259-4DA5-832D-E2463C44D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1DD9-99AA-4996-8757-3A099387A70F}" type="slidenum">
              <a:rPr b="0" lang="en-US" sz="2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astl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1057-6983-48E0-B5C0-A161F7C4E9B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2222"/>
                </a:solidFill>
                <a:latin typeface="Arial"/>
                <a:ea typeface="Times New Roman"/>
              </a:rPr>
              <a:t>Unit 20: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Unit Descript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150A-AFCC-4766-8CBF-C5519BA99C83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A programming language is used by a programmer to develop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vent driven application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xample event driven languag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A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6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3C7-AB88-44BC-B45C-40BA3E9D8121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me advantages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Programmer has control of where to place code and how to star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i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uitability for GUI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n event driven language makes use of GUI controls to trigger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implicity of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isual programming makes application layout much easier to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chieve.  Code can simply be attached to various control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Effective testing too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4A23-5EE8-47C5-B9DD-B4A773F80853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disadvantage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Can be slo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Loads of processing power is taken due to the need of the event loo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More processing is required due to the trigger functions as they match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he type of event with the event handler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BDDB-50D6-4956-8522-BE615A801688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d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F06-B6C6-4D0D-92D5-4FF48639E384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E395-1857-41D4-913C-BF16DC60824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event driven progra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s are typically used with GUI operating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events are </a:t>
            </a: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riggered</a:t>
            </a: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 by a user using an OS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v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Key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i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other software can you think of that is event driven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preadsheets, Databases, the lists go on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AECA-48F2-45E4-AC75-E754FD5496BE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An event is anything that happens to an object when the program i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n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is an object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ontrols are objects, what controls can you think of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Butt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Li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Pictures etc.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CF6D-A089-40F9-A145-7035855027A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Page setup (Microsoft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http://download.microsoft.com/documents/australia/education/resources/images/PageSetup.gif"/>
          <p:cNvPicPr/>
          <p:nvPr/>
        </p:nvPicPr>
        <p:blipFill>
          <a:blip r:embed="rId1"/>
          <a:stretch/>
        </p:blipFill>
        <p:spPr>
          <a:xfrm>
            <a:off x="2514600" y="1295280"/>
            <a:ext cx="4095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371-BE4C-494A-8676-BFFC6E5DDBFA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handler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st objects have a large variety of possible events, i.e. Click, doubl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, mouse move etc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handler is the subroutine (procedure) that holds the code tha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s when an event has occurr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ivate Sub btnDisplayMessage_Click(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sgBox (“Hello World”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triggers selects the appropriate event handler that determine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code is execut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part of the code shows the trigger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F05C-ED34-4B89-BD1D-1B95902ACFD6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Challen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MouseUp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The King of Rock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MouseMove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People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29200" y="1371600"/>
            <a:ext cx="3505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hange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Hello Life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lick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Rock on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4635" t="28435" r="54446" b="40551"/>
          <a:stretch/>
        </p:blipFill>
        <p:spPr>
          <a:xfrm>
            <a:off x="4343400" y="342900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CDA-0D4F-4213-A702-3522B53B054E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ming languages need to have event loop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se loops are needed to keep testing the user interface to dete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ether anything has happened, i.e. A mouse click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 the programmer is not normally aware of this kind of loop. A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loop is part of an event driven program’s make u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re are other kinds of loops that the programmer will use, this is th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ame principle, however it is not programmed into an application by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 programmer – it comes as part of the environ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F05E-9401-47A2-8C82-693F1A531141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the key characteristic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hese are the key characteristics of event driven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languag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handl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rigger func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Forms (which contain control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4-27T12:47:49Z</dcterms:modified>
  <cp:revision>229</cp:revision>
  <dc:subject>Chapter One</dc:subject>
  <dc:title>Linux+ Guide to Linux Certification</dc:title>
</cp:coreProperties>
</file>