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3B052-7188-4EC4-AEF4-F051EE328D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45EBE-ACA6-4B3D-ABA2-B03A050B20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F6CDE-10C9-4BE4-B05D-8B7E8FC214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95A058-3053-4E97-ABB9-D0F68FA62A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335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2F18DA-DC1F-40D5-A423-67BE1DF755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335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20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A9A2EE-EADF-4A93-98FA-F35E9A70D8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644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958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335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644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958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258968-C1C3-4007-A26E-F0F318007D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DF9C3E-FBCA-4C39-AB57-73F579113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CD7E00-0341-4A3D-BA7D-736C8BE52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F38A24-E4C6-492E-A998-B1D69E29F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C5159D-8BBC-48ED-B4BE-E48602B25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23DF1C-9319-4207-B27E-C70297812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533520" y="38052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46CA7B-A3E5-47C8-89DD-A72B5B331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335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697F68-34D5-435F-B00E-B8264C011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7D2033-0E9B-4C46-83E9-BB13F7EB5C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20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F61F61-7EC8-48E5-B715-3D9C030F4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335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2A4F1A-3B58-481A-B42B-A28B0246E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335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417170-05B7-4830-B9BA-A4E3BD71A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335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20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5040C6-D7B3-4087-915B-81FB2ECAA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644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958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335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644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958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BAEC68-FF33-4779-AA1B-C36A08B3A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59667B-875F-42BF-B52F-BEE9B18018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37C777-ACF7-430D-82B7-AB29E455AA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ACE48D-FD50-4AAC-9A1B-FA11BF2943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533520" y="38052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50E767-4A9E-4ED4-9072-09BD289F65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335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C7CE62-1CB2-426A-9491-87511F13AC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20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438967-3309-42E7-992C-118963FCC5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335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257F3C-EA34-4A90-8D6F-F90AA56A76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533520" y="6324120"/>
            <a:ext cx="58672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2222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Castle Colle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324120"/>
            <a:ext cx="2057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2222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7D7FF-4F98-48D1-80D0-5A42369689A7}" type="slidenum">
              <a:rPr b="0" lang="en-US" sz="2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2222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Castle Colle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2222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46B18-67A3-418E-871E-4A3750FF25F3}" type="slidenum"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959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120" y="1447920"/>
            <a:ext cx="80010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222222"/>
                </a:solidFill>
                <a:latin typeface="Arial"/>
                <a:ea typeface="Times New Roman"/>
              </a:rPr>
              <a:t>Unit 20: Event Driven Programming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09120" y="4419360"/>
            <a:ext cx="807732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222222"/>
                </a:solidFill>
                <a:latin typeface="Arial"/>
              </a:rPr>
              <a:t>Unit Descriptor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22222"/>
                </a:solidFill>
                <a:latin typeface="Arial"/>
              </a:rPr>
              <a:t>Castle Colleg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C96F5-9BFC-497C-90D4-CF36EE8B6BF0}" type="slidenum">
              <a:rPr b="0" lang="en-US" sz="20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Programming languages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22222"/>
                </a:solidFill>
                <a:latin typeface="Arial"/>
              </a:rPr>
              <a:t>A programming language is used by a programmer to develop </a:t>
            </a: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22222"/>
                </a:solidFill>
                <a:latin typeface="Arial"/>
              </a:rPr>
              <a:t>event driven applications.</a:t>
            </a: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22222"/>
                </a:solidFill>
                <a:latin typeface="Arial"/>
              </a:rPr>
              <a:t>Example event driven languages</a:t>
            </a: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222222"/>
                </a:solidFill>
                <a:latin typeface="Arial"/>
              </a:rPr>
              <a:t>VB.net</a:t>
            </a: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222222"/>
                </a:solidFill>
                <a:latin typeface="Arial"/>
              </a:rPr>
              <a:t>C#</a:t>
            </a: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222222"/>
                </a:solidFill>
                <a:latin typeface="Arial"/>
              </a:rPr>
              <a:t>VBA</a:t>
            </a: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222222"/>
                </a:solidFill>
                <a:latin typeface="Arial"/>
              </a:rPr>
              <a:t>VB6</a:t>
            </a: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222222"/>
                </a:solidFill>
                <a:latin typeface="Arial"/>
              </a:rPr>
              <a:t>Etc.</a:t>
            </a: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1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22222"/>
                </a:solidFill>
                <a:latin typeface="Arial"/>
              </a:rPr>
              <a:t>Castle Colleg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82A18-8B94-4BD1-96A9-B1D5A4988C14}" type="slidenum">
              <a:rPr b="0" lang="en-US" sz="20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Some advantages of event driven programming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22222"/>
                </a:solidFill>
                <a:latin typeface="Arial"/>
              </a:rPr>
              <a:t>Flexibility</a:t>
            </a: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222222"/>
                </a:solidFill>
                <a:latin typeface="Arial"/>
              </a:rPr>
              <a:t>Programmer has control of where to place code and how to start </a:t>
            </a: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222222"/>
                </a:solidFill>
                <a:latin typeface="Arial"/>
              </a:rPr>
              <a:t>it.</a:t>
            </a: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  <a:p>
            <a:pPr marL="45720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22222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222222"/>
                </a:solidFill>
                <a:latin typeface="Arial"/>
              </a:rPr>
              <a:t>Suitability for GUI</a:t>
            </a: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222222"/>
                </a:solidFill>
                <a:latin typeface="Arial"/>
              </a:rPr>
              <a:t>An event driven language makes use of GUI controls to trigger </a:t>
            </a: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222222"/>
                </a:solidFill>
                <a:latin typeface="Arial"/>
              </a:rPr>
              <a:t>Events.</a:t>
            </a: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  <a:p>
            <a:pPr marL="45720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22222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222222"/>
                </a:solidFill>
                <a:latin typeface="Arial"/>
              </a:rPr>
              <a:t>Simplicity of programming</a:t>
            </a: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222222"/>
                </a:solidFill>
                <a:latin typeface="Arial"/>
              </a:rPr>
              <a:t>Visual programming makes application layout much easier to </a:t>
            </a: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222222"/>
                </a:solidFill>
                <a:latin typeface="Arial"/>
              </a:rPr>
              <a:t>achieve.  Code can simply be attached to various controls.</a:t>
            </a: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222222"/>
                </a:solidFill>
                <a:latin typeface="Arial"/>
              </a:rPr>
              <a:t>Effective testing tools</a:t>
            </a: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5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1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1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" dur="500"/>
                                        <p:tgtEl>
                                          <p:spTgt spid="13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22222"/>
                </a:solidFill>
                <a:latin typeface="Arial"/>
              </a:rPr>
              <a:t>Castle Colleg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42154-5823-43E1-8102-6D6EA714B4D1}" type="slidenum">
              <a:rPr b="0" lang="en-US" sz="20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A disadvantage of event driven programming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22222"/>
                </a:solidFill>
                <a:latin typeface="Arial"/>
              </a:rPr>
              <a:t>Can be slow</a:t>
            </a: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222222"/>
                </a:solidFill>
                <a:latin typeface="Arial"/>
              </a:rPr>
              <a:t>Loads of processing power is taken due to the need of the event loop.</a:t>
            </a: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222222"/>
                </a:solidFill>
                <a:latin typeface="Arial"/>
              </a:rPr>
              <a:t>More processing is required due to the trigger functions as they match </a:t>
            </a: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222222"/>
                </a:solidFill>
                <a:latin typeface="Arial"/>
              </a:rPr>
              <a:t>the type of event with the event handler.</a:t>
            </a: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22222"/>
                </a:solidFill>
                <a:latin typeface="Arial"/>
              </a:rPr>
              <a:t>Castle Colleg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EA16E-9536-49E7-9DF6-8B127BC9DAD4}" type="slidenum">
              <a:rPr b="0" lang="en-US" sz="20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Conclusion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222222"/>
                </a:solidFill>
                <a:latin typeface="Arial"/>
              </a:rPr>
              <a:t>Discussed what is an event driven program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222222"/>
                </a:solidFill>
                <a:latin typeface="Arial"/>
              </a:rPr>
              <a:t>Defined what is an event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222222"/>
                </a:solidFill>
                <a:latin typeface="Arial"/>
              </a:rPr>
              <a:t>Looked into event handlers and trigger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222222"/>
                </a:solidFill>
                <a:latin typeface="Arial"/>
              </a:rPr>
              <a:t>Discussed event loop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222222"/>
                </a:solidFill>
                <a:latin typeface="Arial"/>
              </a:rPr>
              <a:t>Looked at example applications and language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222222"/>
                </a:solidFill>
                <a:latin typeface="Arial"/>
              </a:rPr>
              <a:t>Discussed key characteristics of an event driven program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222222"/>
                </a:solidFill>
                <a:latin typeface="Arial"/>
              </a:rPr>
              <a:t>Discussed advantages and disadvantages of event driven programming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22222"/>
                </a:solidFill>
                <a:latin typeface="Arial"/>
              </a:rPr>
              <a:t>Castle Colleg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3FB56-E92B-48F1-81F5-DAEC74518036}" type="slidenum">
              <a:rPr b="0" lang="en-US" sz="20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Aims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222222"/>
                </a:solidFill>
                <a:latin typeface="Arial"/>
              </a:rPr>
              <a:t>Discuss what is an event driven program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222222"/>
                </a:solidFill>
                <a:latin typeface="Arial"/>
              </a:rPr>
              <a:t>Define what is an event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222222"/>
                </a:solidFill>
                <a:latin typeface="Arial"/>
              </a:rPr>
              <a:t>Look into event handlers and trigger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222222"/>
                </a:solidFill>
                <a:latin typeface="Arial"/>
              </a:rPr>
              <a:t>Discuss event loop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222222"/>
                </a:solidFill>
                <a:latin typeface="Arial"/>
              </a:rPr>
              <a:t>Look at example applications and language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222222"/>
                </a:solidFill>
                <a:latin typeface="Arial"/>
              </a:rPr>
              <a:t>Discuss key characteristics of an event driven program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222222"/>
                </a:solidFill>
                <a:latin typeface="Arial"/>
              </a:rPr>
              <a:t>Discuss advantages and disadvantages of event driven programming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22222"/>
                </a:solidFill>
                <a:latin typeface="Arial"/>
              </a:rPr>
              <a:t>Castle Colleg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7744B-72C3-4B51-910A-C7029AC36D70}" type="slidenum">
              <a:rPr b="0" lang="en-US" sz="20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What are event driven programs?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22222"/>
                </a:solidFill>
                <a:latin typeface="Arial"/>
              </a:rPr>
              <a:t>Event driven programs are typically used with GUI operating </a:t>
            </a: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22222"/>
                </a:solidFill>
                <a:latin typeface="Arial"/>
              </a:rPr>
              <a:t>systems</a:t>
            </a: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22222"/>
                </a:solidFill>
                <a:latin typeface="Arial"/>
              </a:rPr>
              <a:t>What events are </a:t>
            </a:r>
            <a:r>
              <a:rPr b="1" lang="en-GB" sz="2000" spc="-1" strike="noStrike">
                <a:solidFill>
                  <a:srgbClr val="222222"/>
                </a:solidFill>
                <a:latin typeface="Arial"/>
              </a:rPr>
              <a:t>triggered</a:t>
            </a:r>
            <a:r>
              <a:rPr b="0" lang="en-GB" sz="2000" spc="-1" strike="noStrike">
                <a:solidFill>
                  <a:srgbClr val="222222"/>
                </a:solidFill>
                <a:latin typeface="Arial"/>
              </a:rPr>
              <a:t> by a user using an OS?</a:t>
            </a: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22222"/>
                </a:solidFill>
                <a:latin typeface="Arial"/>
              </a:rPr>
              <a:t>Clicks</a:t>
            </a: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22222"/>
                </a:solidFill>
                <a:latin typeface="Arial"/>
              </a:rPr>
              <a:t>Movements</a:t>
            </a: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22222"/>
                </a:solidFill>
                <a:latin typeface="Arial"/>
              </a:rPr>
              <a:t>Keys</a:t>
            </a: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22222"/>
                </a:solidFill>
                <a:latin typeface="Arial"/>
              </a:rPr>
              <a:t>Timer</a:t>
            </a: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22222"/>
                </a:solidFill>
                <a:latin typeface="Arial"/>
              </a:rPr>
              <a:t>What other software can you think of that is event driven?</a:t>
            </a: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22222"/>
                </a:solidFill>
                <a:latin typeface="Arial"/>
              </a:rPr>
              <a:t>Spreadsheets, Databases, the lists go on.....</a:t>
            </a: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22222"/>
                </a:solidFill>
                <a:latin typeface="Arial"/>
              </a:rPr>
              <a:t>Castle Colleg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C9A1E-AE08-49F7-A6C4-E9D0E4C17E9A}" type="slidenum">
              <a:rPr b="0" lang="en-US" sz="20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222222"/>
                </a:solidFill>
                <a:latin typeface="Arial"/>
              </a:rPr>
              <a:t>Define what an event is?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22222"/>
                </a:solidFill>
                <a:latin typeface="Arial"/>
              </a:rPr>
              <a:t>An event is anything that happens to an object when the program is </a:t>
            </a: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22222"/>
                </a:solidFill>
                <a:latin typeface="Arial"/>
              </a:rPr>
              <a:t>running.</a:t>
            </a: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22222"/>
                </a:solidFill>
                <a:latin typeface="Arial"/>
              </a:rPr>
              <a:t>What is an object?</a:t>
            </a: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22222"/>
                </a:solidFill>
                <a:latin typeface="Arial"/>
              </a:rPr>
              <a:t>Controls are objects, what controls can you think of?</a:t>
            </a: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22222"/>
                </a:solidFill>
                <a:latin typeface="Arial"/>
              </a:rPr>
              <a:t>Form</a:t>
            </a: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22222"/>
                </a:solidFill>
                <a:latin typeface="Arial"/>
              </a:rPr>
              <a:t>Buttons</a:t>
            </a: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22222"/>
                </a:solidFill>
                <a:latin typeface="Arial"/>
              </a:rPr>
              <a:t>Lists</a:t>
            </a: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22222"/>
                </a:solidFill>
                <a:latin typeface="Arial"/>
              </a:rPr>
              <a:t>Pictures etc......</a:t>
            </a: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22222"/>
                </a:solidFill>
                <a:latin typeface="Arial"/>
              </a:rPr>
              <a:t>Castle Colleg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1E2C0-00BA-4348-831D-BB3B7E602CDD}" type="slidenum">
              <a:rPr b="0" lang="en-US" sz="20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222222"/>
                </a:solidFill>
                <a:latin typeface="Arial"/>
              </a:rPr>
              <a:t>Page setup (Microsoft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pic>
        <p:nvPicPr>
          <p:cNvPr id="105" name="Picture 2" descr="http://download.microsoft.com/documents/australia/education/resources/images/PageSetup.gif"/>
          <p:cNvPicPr/>
          <p:nvPr/>
        </p:nvPicPr>
        <p:blipFill>
          <a:blip r:embed="rId1"/>
          <a:stretch/>
        </p:blipFill>
        <p:spPr>
          <a:xfrm>
            <a:off x="2514600" y="1295280"/>
            <a:ext cx="409572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22222"/>
                </a:solidFill>
                <a:latin typeface="Arial"/>
              </a:rPr>
              <a:t>Castle Colleg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8E4D2-F92D-4B94-9273-B2464AAEAB88}" type="slidenum">
              <a:rPr b="0" lang="en-US" sz="20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222222"/>
                </a:solidFill>
                <a:latin typeface="Arial"/>
              </a:rPr>
              <a:t>Define what an event handler is?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22222"/>
                </a:solidFill>
                <a:latin typeface="Arial"/>
              </a:rPr>
              <a:t>Most objects have a large variety of possible events, i.e. Click, double </a:t>
            </a: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22222"/>
                </a:solidFill>
                <a:latin typeface="Arial"/>
              </a:rPr>
              <a:t>click, mouse move etc...</a:t>
            </a: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22222"/>
                </a:solidFill>
                <a:latin typeface="Arial"/>
              </a:rPr>
              <a:t>Event handler is the subroutine (procedure) that holds the code that </a:t>
            </a: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22222"/>
                </a:solidFill>
                <a:latin typeface="Arial"/>
              </a:rPr>
              <a:t>runs when an event has occurred.</a:t>
            </a: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22222"/>
                </a:solidFill>
                <a:latin typeface="Arial"/>
              </a:rPr>
              <a:t>Private Sub btnDisplayMessage_Click()</a:t>
            </a: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22222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22222"/>
                </a:solidFill>
                <a:latin typeface="Arial"/>
              </a:rPr>
              <a:t>MsgBox (“Hello World”)</a:t>
            </a: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22222"/>
                </a:solidFill>
                <a:latin typeface="Arial"/>
              </a:rPr>
              <a:t>End Sub</a:t>
            </a: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22222"/>
                </a:solidFill>
                <a:latin typeface="Arial"/>
              </a:rPr>
              <a:t>Event triggers selects the appropriate event handler that determines </a:t>
            </a: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22222"/>
                </a:solidFill>
                <a:latin typeface="Arial"/>
              </a:rPr>
              <a:t>what code is executed.</a:t>
            </a: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22222"/>
                </a:solidFill>
                <a:latin typeface="Arial"/>
              </a:rPr>
              <a:t>What part of the code shows the trigger?</a:t>
            </a: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10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10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22222"/>
                </a:solidFill>
                <a:latin typeface="Arial"/>
              </a:rPr>
              <a:t>Castle Colleg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B33E5-CBD7-4E3E-9DA9-53391E93DD45}" type="slidenum">
              <a:rPr b="0" lang="en-US" sz="20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222222"/>
                </a:solidFill>
                <a:latin typeface="Arial"/>
              </a:rPr>
              <a:t>Event Challenge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35053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22222"/>
                </a:solidFill>
                <a:latin typeface="Arial"/>
              </a:rPr>
              <a:t>Private Sub btnClose_Click()</a:t>
            </a:r>
            <a:endParaRPr b="0" lang="en-US" sz="14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22222"/>
                </a:solidFill>
                <a:latin typeface="Arial"/>
              </a:rPr>
              <a:t>    </a:t>
            </a:r>
            <a:r>
              <a:rPr b="0" lang="en-GB" sz="1400" spc="-1" strike="noStrike">
                <a:solidFill>
                  <a:srgbClr val="222222"/>
                </a:solidFill>
                <a:latin typeface="Arial"/>
              </a:rPr>
              <a:t>MsgBox ("Hello World")</a:t>
            </a:r>
            <a:endParaRPr b="0" lang="en-US" sz="14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22222"/>
                </a:solidFill>
                <a:latin typeface="Arial"/>
              </a:rPr>
              <a:t>End Sub</a:t>
            </a:r>
            <a:endParaRPr b="0" lang="en-US" sz="14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22222"/>
                </a:solidFill>
                <a:latin typeface="Arial"/>
              </a:rPr>
              <a:t>Private Sub btnClose_MouseUp()</a:t>
            </a:r>
            <a:endParaRPr b="0" lang="en-US" sz="14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22222"/>
                </a:solidFill>
                <a:latin typeface="Arial"/>
              </a:rPr>
              <a:t>    </a:t>
            </a:r>
            <a:r>
              <a:rPr b="0" lang="en-GB" sz="1400" spc="-1" strike="noStrike">
                <a:solidFill>
                  <a:srgbClr val="222222"/>
                </a:solidFill>
                <a:latin typeface="Arial"/>
              </a:rPr>
              <a:t>MsgBox ("The King of Rock")</a:t>
            </a:r>
            <a:endParaRPr b="0" lang="en-US" sz="14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22222"/>
                </a:solidFill>
                <a:latin typeface="Arial"/>
              </a:rPr>
              <a:t>End Sub</a:t>
            </a:r>
            <a:endParaRPr b="0" lang="en-US" sz="14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22222"/>
                </a:solidFill>
                <a:latin typeface="Arial"/>
              </a:rPr>
              <a:t>Private Sub btnMessage_Click()</a:t>
            </a:r>
            <a:endParaRPr b="0" lang="en-US" sz="14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22222"/>
                </a:solidFill>
                <a:latin typeface="Arial"/>
              </a:rPr>
              <a:t>    </a:t>
            </a:r>
            <a:r>
              <a:rPr b="0" lang="en-GB" sz="1400" spc="-1" strike="noStrike">
                <a:solidFill>
                  <a:srgbClr val="222222"/>
                </a:solidFill>
                <a:latin typeface="Arial"/>
              </a:rPr>
              <a:t>MsgBox ("Hello World")</a:t>
            </a:r>
            <a:endParaRPr b="0" lang="en-US" sz="14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22222"/>
                </a:solidFill>
                <a:latin typeface="Arial"/>
              </a:rPr>
              <a:t>End Sub</a:t>
            </a:r>
            <a:endParaRPr b="0" lang="en-US" sz="14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22222"/>
                </a:solidFill>
                <a:latin typeface="Arial"/>
              </a:rPr>
              <a:t>Private Sub btnMessage_MouseMove()</a:t>
            </a:r>
            <a:endParaRPr b="0" lang="en-US" sz="14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22222"/>
                </a:solidFill>
                <a:latin typeface="Arial"/>
              </a:rPr>
              <a:t>    </a:t>
            </a:r>
            <a:r>
              <a:rPr b="0" lang="en-GB" sz="1400" spc="-1" strike="noStrike">
                <a:solidFill>
                  <a:srgbClr val="222222"/>
                </a:solidFill>
                <a:latin typeface="Arial"/>
              </a:rPr>
              <a:t>MsgBox ("Hello People")</a:t>
            </a:r>
            <a:endParaRPr b="0" lang="en-US" sz="14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22222"/>
                </a:solidFill>
                <a:latin typeface="Arial"/>
              </a:rPr>
              <a:t>End Sub</a:t>
            </a:r>
            <a:endParaRPr b="0" lang="en-US" sz="14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14" name="TextBox 6"/>
          <p:cNvSpPr/>
          <p:nvPr/>
        </p:nvSpPr>
        <p:spPr>
          <a:xfrm>
            <a:off x="5029200" y="1371600"/>
            <a:ext cx="350532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rivate Sub txtEnterText_Change(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sgBox ("Hello Life"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nd Su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rivate Sub txtEnterText_Click(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sgBox ("Rock on"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nd Su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5" name="Picture 7" descr=""/>
          <p:cNvPicPr/>
          <p:nvPr/>
        </p:nvPicPr>
        <p:blipFill>
          <a:blip r:embed="rId1"/>
          <a:srcRect l="14635" t="28435" r="54446" b="40551"/>
          <a:stretch/>
        </p:blipFill>
        <p:spPr>
          <a:xfrm>
            <a:off x="4343400" y="3429000"/>
            <a:ext cx="426708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22222"/>
                </a:solidFill>
                <a:latin typeface="Arial"/>
              </a:rPr>
              <a:t>Castle Colleg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6D907-3E42-4B3C-BF2E-FA4AE6F75999}" type="slidenum">
              <a:rPr b="0" lang="en-US" sz="20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222222"/>
                </a:solidFill>
                <a:latin typeface="Arial"/>
              </a:rPr>
              <a:t>Event loops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22222"/>
                </a:solidFill>
                <a:latin typeface="Arial"/>
              </a:rPr>
              <a:t>Event driven programming languages need to have event loops.</a:t>
            </a: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22222"/>
                </a:solidFill>
                <a:latin typeface="Arial"/>
              </a:rPr>
              <a:t>These loops are needed to keep testing the user interface to detect</a:t>
            </a: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22222"/>
                </a:solidFill>
                <a:latin typeface="Arial"/>
              </a:rPr>
              <a:t>whether anything has happened, i.e. A mouse click.</a:t>
            </a: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22222"/>
                </a:solidFill>
                <a:latin typeface="Arial"/>
              </a:rPr>
              <a:t>Even the programmer is not normally aware of this kind of loop. An</a:t>
            </a: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22222"/>
                </a:solidFill>
                <a:latin typeface="Arial"/>
              </a:rPr>
              <a:t>event loop is part of an event driven program’s make up.</a:t>
            </a: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22222"/>
                </a:solidFill>
                <a:latin typeface="Arial"/>
              </a:rPr>
              <a:t>There are other kinds of loops that the programmer will use, this is the </a:t>
            </a: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22222"/>
                </a:solidFill>
                <a:latin typeface="Arial"/>
              </a:rPr>
              <a:t>same principle, however it is not programmed into an application by </a:t>
            </a: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22222"/>
                </a:solidFill>
                <a:latin typeface="Arial"/>
              </a:rPr>
              <a:t>the programmer – it comes as part of the environment.</a:t>
            </a: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1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1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1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22222"/>
                </a:solidFill>
                <a:latin typeface="Arial"/>
              </a:rPr>
              <a:t>Castle Colleg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8D891-1C37-4C94-8900-F239E68023B1}" type="slidenum">
              <a:rPr b="0" lang="en-US" sz="20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What are the key characteristics?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22222"/>
                </a:solidFill>
                <a:latin typeface="Arial"/>
              </a:rPr>
              <a:t>These are the key characteristics of event driven programming</a:t>
            </a: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22222"/>
                </a:solidFill>
                <a:latin typeface="Arial"/>
              </a:rPr>
              <a:t>languages.</a:t>
            </a: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222222"/>
                </a:solidFill>
                <a:latin typeface="Arial"/>
              </a:rPr>
              <a:t>Event handlers</a:t>
            </a: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222222"/>
                </a:solidFill>
                <a:latin typeface="Arial"/>
              </a:rPr>
              <a:t>Trigger functions</a:t>
            </a: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222222"/>
                </a:solidFill>
                <a:latin typeface="Arial"/>
              </a:rPr>
              <a:t>Event loops</a:t>
            </a: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222222"/>
                </a:solidFill>
                <a:latin typeface="Arial"/>
              </a:rPr>
              <a:t>Forms (which contain controls)</a:t>
            </a: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7T23:29:22Z</dcterms:created>
  <dc:creator/>
  <dc:description/>
  <dc:language>en-US</dc:language>
  <cp:lastModifiedBy/>
  <dcterms:modified xsi:type="dcterms:W3CDTF">2010-04-27T12:47:49Z</dcterms:modified>
  <cp:revision>229</cp:revision>
  <dc:subject>Chapter One</dc:subject>
  <dc:title>Linux+ Guide to Linux Certification</dc:title>
</cp:coreProperties>
</file>