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8A77180-8A8D-48B9-8F40-52FCADE329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C8EC335-0A5A-4228-B14B-6A1811AA36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7C4A3F2B-E9E8-4EDE-B5C2-656D9FA817E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AC05AF9-9CC7-4E9D-B3E6-A33650B73A1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5E26C7-A979-41BA-B80F-663218F3A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71824-1AAB-474D-A134-FE9C8A466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0AC15-E2C8-4F05-91F6-93B2FC995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1FB55-B8AA-4054-B0DA-0399A730F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32E46-5F0A-4039-874E-147BFA07E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65F3F-50E1-4385-B597-B793B45DB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6DF03-F695-491F-AE52-88A873E48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623E3F5-EB9A-46A1-83D6-0F8D6B28E5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72037-35E5-4559-81F9-E50598FC0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928A0-2A69-4CE0-82A8-341EDBD34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5444F-7708-4CAC-88A8-F43317B5A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77BAF-A070-423A-B636-B9FC57349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8AC9E3-366C-4A6D-A20A-4DE610A0EB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2C9D2CD-15D8-4B5B-842A-222E19DA90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0FBFA25-09D7-46B2-85BD-8EFF098B5B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DC0BD89-2366-422C-BDDC-EE5EAA8763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FCBD10F-AFA0-40CD-94CB-5192750132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F891927-2E03-424B-B996-D7D49AC5D2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8287347-CDC8-4A49-833B-B8AC52EB66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39915D7-67D2-4405-B249-20807563E5C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3126-6679-4E77-A2E2-25F1A7045BC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9521-B108-40FF-A2DB-D6F30F6190D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dfdef6"/>
                </a:solidFill>
                <a:latin typeface="Arial"/>
              </a:rPr>
              <a:t>Economy</a:t>
            </a:r>
            <a:endParaRPr b="0" lang="en-US" sz="54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rapid developments in computers and the features offered have changes the way the economy operat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utomation by interacting with computers enables greater productivity, which equals reduced cos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range and accessibility of interfaces and the devices where they feature support employees in the way in which they are able to interact with computers – adjusting a robotic machine to cut sheet met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Productivity per individual</a:t>
            </a:r>
            <a:endParaRPr b="0" lang="en-US" sz="4400" spc="-1" strike="noStrike">
              <a:solidFill>
                <a:srgbClr val="dfdef6"/>
              </a:solidFill>
              <a:latin typeface="Arial"/>
            </a:endParaRPr>
          </a:p>
        </p:txBody>
      </p:sp>
      <p:sp>
        <p:nvSpPr>
          <p:cNvPr id="518"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the world of business, time is mone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rs being able to more quickly and efficiently input and respond to commands through interfaces results in greater productivit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takes considerable less time and expertise to analyse data and produce a graph using a wizard than to produce one without a wizard or indeed without a comput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457200" y="836280"/>
            <a:ext cx="8229600" cy="5297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developing HCI you will need to consider how to reduce the amount of effort or knowledge for the user to input and whether the use of text readers might be beneficia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T voice message which relays a text message sent to a land line. Although the message is somewhat inhuman it does allow the recipient to listen to a message while carrying out another task.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Automatic Judgment of output</a:t>
            </a:r>
            <a:endParaRPr b="0" lang="en-US" sz="4400" spc="-1" strike="noStrike">
              <a:solidFill>
                <a:srgbClr val="dfdef6"/>
              </a:solidFill>
              <a:latin typeface="Arial"/>
            </a:endParaRPr>
          </a:p>
        </p:txBody>
      </p:sp>
      <p:sp>
        <p:nvSpPr>
          <p:cNvPr id="521"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rading of produce: apples, eggs or potatoes by size and weight: they pass along a conveyer belt containing holes- a predetermined grade of produce drops through the hole, thus batching items of equal siz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mputers are used to measure overall output: nuclear industry, processes use online monitoring systems to test chemical makeup and ensure qual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Voice Input</a:t>
            </a:r>
            <a:endParaRPr b="0" lang="en-US" sz="4400" spc="-1" strike="noStrike">
              <a:solidFill>
                <a:srgbClr val="dfdef6"/>
              </a:solidFill>
              <a:latin typeface="Arial"/>
            </a:endParaRPr>
          </a:p>
        </p:txBody>
      </p:sp>
      <p:sp>
        <p:nvSpPr>
          <p:cNvPr id="523" name="PlaceHolder 2"/>
          <p:cNvSpPr>
            <a:spLocks noGrp="1"/>
          </p:cNvSpPr>
          <p:nvPr>
            <p:ph/>
          </p:nvPr>
        </p:nvSpPr>
        <p:spPr>
          <a:xfrm>
            <a:off x="457200" y="1412640"/>
            <a:ext cx="822960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oice input has provided organisations with the opportunity to reduce the need fo rcall centre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lephone banking: uses automated voice input to request, record and relay bank account details for fielding.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tility suppliers – meter reading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PS (global satellite systems) respond to voice input – GPS instructs the user to turn right, go left etc.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 example of the user being part of the proce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5" name="PlaceHolder 2"/>
          <p:cNvSpPr>
            <a:spLocks noGrp="1"/>
          </p:cNvSpPr>
          <p:nvPr>
            <p:ph/>
          </p:nvPr>
        </p:nvSpPr>
        <p:spPr>
          <a:xfrm>
            <a:off x="457200" y="1341000"/>
            <a:ext cx="8229600" cy="47926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hat is thought inpu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Working environment</a:t>
            </a:r>
            <a:endParaRPr b="0" lang="en-US" sz="4400" spc="-1" strike="noStrike">
              <a:solidFill>
                <a:srgbClr val="dfdef6"/>
              </a:solidFill>
              <a:latin typeface="Arial"/>
            </a:endParaRPr>
          </a:p>
        </p:txBody>
      </p:sp>
      <p:sp>
        <p:nvSpPr>
          <p:cNvPr id="527" name="PlaceHolder 2"/>
          <p:cNvSpPr>
            <a:spLocks noGrp="1"/>
          </p:cNvSpPr>
          <p:nvPr>
            <p:ph/>
          </p:nvPr>
        </p:nvSpPr>
        <p:spPr>
          <a:xfrm>
            <a:off x="457200" y="1341000"/>
            <a:ext cx="8229600" cy="4792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mployees are experiences an ever changing working environment because of advances in technology. In the 1980s fax machines had only just been introduced, mobile phones were the size of bricks and very rare and most administrative tasks were carried out manually with little help from comput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hift in environment</a:t>
            </a: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me and remote work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obile communications – PDAs, mobile phones, wireless internet connection, Bluetoo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4T11:23:36Z</dcterms:created>
  <dc:creator>IT Support</dc:creator>
  <dc:description/>
  <dc:language>en-US</dc:language>
  <cp:lastModifiedBy>IT Support</cp:lastModifiedBy>
  <dcterms:modified xsi:type="dcterms:W3CDTF">2009-01-24T12:14:22Z</dcterms:modified>
  <cp:revision>6</cp:revision>
  <dc:subject/>
  <dc:title>Economy</dc:title>
</cp:coreProperties>
</file>