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B3314D2-EBD4-4D5C-B07C-B413E40AD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657971A-A3F3-4528-84C1-B519CEA6A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EAF18E0-048E-4458-96A6-0FF2CDC401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CD4277C-BB3F-47B6-A476-6DB167290F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DA11D-6DCD-4ACF-B58C-72FE4DCB2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13A07-0DFC-40B9-A5B8-9A9779B7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C25D0-73EB-4AFB-80C6-137549623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A9C2C-79C4-4723-BC01-0D9FB4C1F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4F6DF-EADC-456B-98ED-022B89134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4D554-478F-4464-9625-26C85DBD8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B83C1-56F8-40C2-90C5-E143E98EE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2099414-CB7C-4B7E-860A-E095C62D4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2A41-708D-40B5-B1FA-F48844FF1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3A155-20AB-484C-9BBA-81D1518D6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9E23D-4ADF-42CF-B61E-0A3AD8F21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21F09-8DE9-4339-A8DE-65E843445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0A99A-CD93-43CA-A5E1-85560921B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4DDE709-55E3-489E-800D-9AA2A4581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555FFC-4EA7-4C08-B1E2-4761E4E78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10B522F-135B-42B7-B283-11E21B61B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72EEF52-D29D-47EB-9BB3-A2FD7EE3E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DEE29D7-540E-4EBC-A40D-B9BBE0D1D2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6F979D7-95D5-4AC6-8C94-431EF9BE2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303B52D-0506-40F9-94DD-CF03765F120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701A-DC21-45D3-8301-63DB1CCB8E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BB1A-4B8A-4D3D-B450-D24209FAB8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dfdef6"/>
                </a:solidFill>
                <a:latin typeface="Arial"/>
              </a:rPr>
              <a:t>Economy</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pid developments in computers and the features offered have changes the way the economy operat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utomation by interacting with computers enables greater productivity, which equals reduced cos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nge and accessibility of interfaces and the devices where they feature support employees in the way in which they are able to interact with computers – adjusting a robotic machine to cut sheet me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roductivity per individual</a:t>
            </a:r>
            <a:endParaRPr b="0" lang="en-US" sz="4400" spc="-1" strike="noStrike">
              <a:solidFill>
                <a:srgbClr val="dfdef6"/>
              </a:solidFill>
              <a:latin typeface="Arial"/>
            </a:endParaRPr>
          </a:p>
        </p:txBody>
      </p:sp>
      <p:sp>
        <p:nvSpPr>
          <p:cNvPr id="5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world of business, time is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rs being able to more quickly and efficiently input and respond to commands through interfaces results in greater productiv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takes considerable less time and expertise to analyse data and produce a graph using a wizard than to produce one without a wizard or indeed without a compu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836280"/>
            <a:ext cx="8229600" cy="529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developing HCI you will need to consider how to reduce the amount of effort or knowledge for the user to input and whether the use of text readers might be benefic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T voice message which relays a text message sent to a land line. Although the message is somewhat inhuman it does allow the recipient to listen to a message while carrying out another tas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Automatic Judgment of output</a:t>
            </a:r>
            <a:endParaRPr b="0" lang="en-US" sz="4400" spc="-1" strike="noStrike">
              <a:solidFill>
                <a:srgbClr val="dfdef6"/>
              </a:solidFill>
              <a:latin typeface="Arial"/>
            </a:endParaRPr>
          </a:p>
        </p:txBody>
      </p:sp>
      <p:sp>
        <p:nvSpPr>
          <p:cNvPr id="521"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ading of produce: apples, eggs or potatoes by size and weight: they pass along a conveyer belt containing holes- a predetermined grade of produce drops through the hole, thus batching items of equal siz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puters are used to measure overall output: nuclear industry, processes use online monitoring systems to test chemical makeup and ensure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Voice Input</a:t>
            </a:r>
            <a:endParaRPr b="0" lang="en-US" sz="4400" spc="-1" strike="noStrike">
              <a:solidFill>
                <a:srgbClr val="dfdef6"/>
              </a:solidFill>
              <a:latin typeface="Arial"/>
            </a:endParaRPr>
          </a:p>
        </p:txBody>
      </p:sp>
      <p:sp>
        <p:nvSpPr>
          <p:cNvPr id="523"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oice input has provided organisations with the opportunity to reduce the need fo rcall centr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phone banking: uses automated voice input to request, record and relay bank account details for fielding.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ty suppliers – meter read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PS (global satellite systems) respond to voice input – GPS instructs the user to turn right, go left et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example of the user being part of the pro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at is thought inpu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Working environment</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es are experiences an ever changing working environment because of advances in technology. In the 1980s fax machines had only just been introduced, mobile phones were the size of bricks and very rare and most administrative tasks were carried out manually with little help from compu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hift in environment</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me and remote wor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bile communications – PDAs, mobile phones, wireless internet connection, Blueto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23:36Z</dcterms:created>
  <dc:creator>IT Support</dc:creator>
  <dc:description/>
  <dc:language>en-US</dc:language>
  <cp:lastModifiedBy>IT Support</cp:lastModifiedBy>
  <dcterms:modified xsi:type="dcterms:W3CDTF">2009-01-24T12:14:22Z</dcterms:modified>
  <cp:revision>6</cp:revision>
  <dc:subject/>
  <dc:title>Economy</dc:title>
</cp:coreProperties>
</file>