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C3A-7264-415C-B37D-BBB0408F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A6C-23B0-4C4A-9547-1AB95270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D81-2DF0-4FC9-B85D-4DA5C28A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C22-2F4B-4962-A19F-1DC7D616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662-AA85-43F1-85E5-C2067D0D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473-E55B-4738-B435-ACCBCB6A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458-D0FB-45EB-A67B-C1D24195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352-4E02-4AC1-BE25-5CB952D1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1CF3-B525-43EA-A202-93A767ED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12EA-2392-4129-B746-79AA359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ED6-C3E0-4204-B606-B998882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51BE-381D-4840-B6AA-7AC210D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FDD5-FC02-4D7F-AE55-D26E35299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ing and Produ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fied input might rely on mouse use only, some users prefer to use the keyboard, some may not wish to use the mouse at 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best to offer your user a choice, so that there is more than one way of carrying out the same 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re is going to be more than one user then there is the likely to be more than one prefer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ny Microsoft command there are often at least four different ways to carry it out .g. to save a file: File, Save; Ctrl S; Shift F12; the Save icon on the toolb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ouse button to use, how many clicks are required to activate the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need to ensure your system responds in a consistent way-does the user click softly or do they hit the keys firm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ept keyboard / Joyst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ncept keyboard or overlay has keys that are preset to specific functions – images or symbols to guide the us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ce invaders: Ctrl + Shift + arrow k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joystick is an input device which can be used for playing video games. They are easy to use and no specialist knowledge or dexterity is needed to play a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signs for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s are also needed for other devices such as mobile phones and PDAs (personal digital assistant) , hand held computer, as well as voice activated systems for DAB (digital audio broadcasting) radios, which require no tuning and provide a clearer, crisper s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active white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teractive whiteboard has a list of menus which are activated by the mouse or touching the board with a special pen or using your fi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menus are used to access many of the features available on a computer with additional features such as writing on the board, underlining text and saving note pages f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void producing an interface that is not accessible for a user with a disability, you might consider designing an interface what uses speech-activated software. However you will need to consider how easy it will be to use if your user has a lisp. Would the interface work at all? Would it respond different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the appearance and usability of your interface for users with visual impair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 how you could enhance your interface for those with a physical disability who may require adaptive or assistive technology. Remote control devices may be an o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pop out effect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me at least 5 different methods for giving instructions to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RSI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es a concept keyboard o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ive some examples of where output devices do not require a P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48:30Z</dcterms:created>
  <dc:creator>IT Support</dc:creator>
  <dc:description/>
  <dc:language>en-US</dc:language>
  <cp:lastModifiedBy>IT Support</cp:lastModifiedBy>
  <dcterms:modified xsi:type="dcterms:W3CDTF">2009-01-26T21:18:24Z</dcterms:modified>
  <cp:revision>8</cp:revision>
  <dc:subject/>
  <dc:title>Designing and Producing</dc:title>
</cp:coreProperties>
</file>