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ABB3-8BF9-4BC4-84EA-3BA258054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FBB0-38C8-46AA-8272-5A7B65F7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B255-BDE4-4199-AF6B-989C9785E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054E-A1E7-4B75-9749-F3532D302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04EE-0845-4F4D-A048-CF90CF39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EA8F-D76B-4A03-91E0-A9F27A9F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6C29-0639-44E5-91C5-D0E42AEB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4F74-C3DB-458C-94C5-67A7FE6C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EFE6-DE8E-481B-9F25-9B8EBF19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3A0A-55A7-4F27-9427-7292A216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A899-FF4B-4694-9EB8-2E9C0731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618F-117B-441A-AC5A-266E247B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545D-10A4-4DF7-ACEA-0C579EE3B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signing and Produ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ified input might rely on mouse use only, some users prefer to use the keyboard, some may not wish to use the mouse at a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 best to offer your user a choice, so that there is more than one way of carrying out the same a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there is going to be more than one user then there is the likely to be more than one prefere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any Microsoft command there are often at least four different ways to carry it out .g. to save a file: File, Save; Ctrl S; Shift F12; the Save icon on the toolb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mouse button to use, how many clicks are required to activate the com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will need to ensure your system responds in a consistent way-does the user click softly or do they hit the keys firm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cept keyboard / Joyst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concept keyboard or overlay has keys that are preset to specific functions – images or symbols to guide the us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ace invaders: Ctrl + Shift + arrow ke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joystick is an input device which can be used for playing video games. They are easy to use and no specialist knowledge or dexterity is needed to play a g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signs for 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s are also needed for other devices such as mobile phones and PDAs (personal digital assistant) , hand held computer, as well as voice activated systems for DAB (digital audio broadcasting) radios, which require no tuning and provide a clearer, crisper sou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active white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 interactive whiteboard has a list of menus which are activated by the mouse or touching the board with a special pen or using your fing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menus are used to access many of the features available on a computer with additional features such as writing on the board, underlining text and saving note pages for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pecia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avoid producing an interface that is not accessible for a user with a disability, you might consider designing an interface what uses speech-activated software. However you will need to consider how easy it will be to use if your user has a lisp. Would the interface work at all? Would it respond different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ider how you could enhance the appearance and usability of your interface for users with visual impair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ider how you could enhance your interface for those with a physical disability who may require adaptive or assistive technology. Remote control devices may be an op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es pop out effect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me at least 5 different methods for giving instructions to a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es RSI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es a concept keyboard off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ive some examples of where output devices do not require a P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8:48:30Z</dcterms:created>
  <dc:creator>IT Support</dc:creator>
  <dc:description/>
  <dc:language>en-US</dc:language>
  <cp:lastModifiedBy>IT Support</cp:lastModifiedBy>
  <dcterms:modified xsi:type="dcterms:W3CDTF">2009-01-26T21:18:24Z</dcterms:modified>
  <cp:revision>8</cp:revision>
  <dc:subject/>
  <dc:title>Designing and Producing</dc:title>
</cp:coreProperties>
</file>