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8B8-9FD4-45CE-AC6C-966541DE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1F3-5DD3-46AD-B095-43F397FD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C9D-8D52-4D1C-B702-7B904462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760-4EC9-4D3A-81E9-117CD1E0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BE2-DF84-497A-A6E4-D686E1AB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489-3E7E-4E99-B0C9-10EA3795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CE6-6261-49FB-8621-211C6760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7DC-7DB9-40E3-9071-5D5D4CC3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AE9-5770-4234-9421-F2209DE4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D94-4C96-4E96-990E-38D3A2C9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888-BDDC-4C73-B4B4-EE89C2D3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5AB-2EEB-40C4-92BD-9B267E58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B1F1-F4BC-432D-87A5-EBF0E3531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ing and Produ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ied input might rely on mouse use only, some users prefer to use the keyboard, some may not wish to use the mouse at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best to offer your user a choice, so that there is more than one way of carrying out the same 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re is going to be more than one user then there is the likely to be more than one prefer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ny Microsoft command there are often at least four different ways to carry it out .g. to save a file: File, Save; Ctrl S; Shift F12; the Save icon on the toolb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ouse button to use, how many clicks are required to activate the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need to ensure your system responds in a consistent way-does the user click softly or do they hit the keys firm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ept keyboard / Joy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ncept keyboard or overlay has keys that are preset to specific functions – images or symbols to guide the us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ce invaders: Ctrl + Shift + arrow k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joystick is an input device which can be used for playing video games. They are easy to use and no specialist knowledge or dexterity is needed to play a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s fo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s are also needed for other devices such as mobile phones and PDAs (personal digital assistant) , hand held computer, as well as voice activated systems for DAB (digital audio broadcasting) radios, which require no tuning and provide a clearer, crisper s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active white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teractive whiteboard has a list of menus which are activated by the mouse or touching the board with a special pen or using your fi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menus are used to access many of the features available on a computer with additional features such as writing on the board, underlining text and saving note pages fo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void producing an interface that is not accessible for a user with a disability, you might consider designing an interface what uses speech-activated software. However you will need to consider how easy it will be to use if your user has a lisp. Would the interface work at all? Would it respond differen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how you could enhance the appearance and usability of your interface for users with visual impair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how you could enhance your interface for those with a physical disability who may require adaptive or assistive technology. Remote control devices may be an o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pop out effect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 at least 5 different methods for giving instructions to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RSI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a concept keyboard o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 some examples of where output devices do not require a P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48:30Z</dcterms:created>
  <dc:creator>IT Support</dc:creator>
  <dc:description/>
  <dc:language>en-US</dc:language>
  <cp:lastModifiedBy>IT Support</cp:lastModifiedBy>
  <dcterms:modified xsi:type="dcterms:W3CDTF">2009-01-26T21:18:24Z</dcterms:modified>
  <cp:revision>8</cp:revision>
  <dc:subject/>
  <dc:title>Designing and Producing</dc:title>
</cp:coreProperties>
</file>