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83A-248F-4D42-858B-BFCD1E5B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755-97F8-44D8-B419-982A734C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1F6-1AC3-4EBC-8274-18CC098D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F12-AAE8-4EDE-97EC-16F8128D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415-D795-4091-869D-378982E4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29C-139A-4A87-93B6-EB983CD4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58E-2297-45F1-A384-CB838BCD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405-72F4-4F09-B1B1-C8568BE4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B6D-13AF-4F49-B6CA-48A9CE2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F87-DCE5-424F-A1D4-75C2BB4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1D2-5FF1-4526-B72A-F7EA357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A31-3F83-4D2B-8979-41F28E3F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FC34-BE34-48B9-A0D5-6983099D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ing and Produ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ied input might rely on mouse use only, some users prefer to use the keyboard, some may not wish to use the mous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best to offer your user a choice, so that there is more than one way of carrying out the same 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is going to be more than one user then there is the likely to be more than one pre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ny Microsoft command there are often at least four different ways to carry it out .g. to save a file: File, Save; Ctrl S; Shift F12; the Save icon on the toolb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ouse button to use, how many clicks are required to activate the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need to ensure your system responds in a consistent way-does the user click softly or do they hit the keys firm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ept keyboard / Joy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ncept keyboard or overlay has keys that are preset to specific functions – images or symbols to guide the us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ce invaders: Ctrl + Shift + arrow k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joystick is an input device which can be used for playing video games. They are easy to use and no specialist knowledge or dexterity is needed to 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s fo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s are also needed for other devices such as mobile phones and PDAs (personal digital assistant) , hand held computer, as well as voice activated systems for DAB (digital audio broadcasting) radios, which require no tuning and provide a clearer, crisper s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active white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teractive whiteboard has a list of menus which are activated by the mouse or touching the board with a special pen or using your fi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menus are used to access many of the features available on a computer with additional features such as writing on the board, underlining text and saving note pages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void producing an interface that is not accessible for a user with a disability, you might consider designing an interface what uses speech-activated software. However you will need to consider how easy it will be to use if your user has a lisp. Would the interface work at all? Would it respond differen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the appearance and usability of your interface for users with visual impair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your interface for those with a physical disability who may require adaptive or assistive technology. Remote control devices may be an o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pop out effec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at least 5 different methods for giving instructions 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RSI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a concept keyboard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some examples of where output devices do not require a P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48:30Z</dcterms:created>
  <dc:creator>IT Support</dc:creator>
  <dc:description/>
  <dc:language>en-US</dc:language>
  <cp:lastModifiedBy>IT Support</cp:lastModifiedBy>
  <dcterms:modified xsi:type="dcterms:W3CDTF">2009-01-26T21:18:24Z</dcterms:modified>
  <cp:revision>8</cp:revision>
  <dc:subject/>
  <dc:title>Designing and Producing</dc:title>
</cp:coreProperties>
</file>