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5F7-D298-44ED-AFC4-E0B06756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D13-2B36-47EA-A427-61A6BFEF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3D8-0C52-4795-AC28-54BA097F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B1B-E115-4F6B-89D5-3C7C0797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5FF-65B4-45BA-A233-E9775EE5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B3D7-CC75-4178-9D08-ECAE0B74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691-9A55-4FAA-A41F-349B0B23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1303-CBE0-4F2D-A070-DD7187C6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725-94C6-46BC-8EBB-15B8DAF1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E53-A8C8-4449-AE49-9E427E42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681-D593-4301-BF60-5ED3E836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13E-EC3A-4FA2-9FFB-CD65FD62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DFCB-BBFE-416D-AD8F-9E55A010E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igning and Produ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fied input might rely on mouse use only, some users prefer to use the keyboard, some may not wish to use the mouse at 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best to offer your user a choice, so that there is more than one way of carrying out the same 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re is going to be more than one user then there is the likely to be more than one prefer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ny Microsoft command there are often at least four different ways to carry it out .g. to save a file: File, Save; Ctrl S; Shift F12; the Save icon on the toolb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ouse button to use, how many clicks are required to activate the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need to ensure your system responds in a consistent way-does the user click softly or do they hit the keys firm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ept keyboard / Joy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ncept keyboard or overlay has keys that are preset to specific functions – images or symbols to guide the us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ce invaders: Ctrl + Shift + arrow k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joystick is an input device which can be used for playing video games. They are easy to use and no specialist knowledge or dexterity is needed to play a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igns for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s are also needed for other devices such as mobile phones and PDAs (personal digital assistant) , hand held computer, as well as voice activated systems for DAB (digital audio broadcasting) radios, which require no tuning and provide a clearer, crisper s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active white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teractive whiteboard has a list of menus which are activated by the mouse or touching the board with a special pen or using your fi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menus are used to access many of the features available on a computer with additional features such as writing on the board, underlining text and saving note pages for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void producing an interface that is not accessible for a user with a disability, you might consider designing an interface what uses speech-activated software. However you will need to consider how easy it will be to use if your user has a lisp. Would the interface work at all? Would it respond differen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how you could enhance the appearance and usability of your interface for users with visual impair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how you could enhance your interface for those with a physical disability who may require adaptive or assistive technology. Remote control devices may be an o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pop out effect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 at least 5 different methods for giving instructions to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RSI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a concept keyboard o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ve some examples of where output devices do not require a P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48:30Z</dcterms:created>
  <dc:creator>IT Support</dc:creator>
  <dc:description/>
  <dc:language>en-US</dc:language>
  <cp:lastModifiedBy>IT Support</cp:lastModifiedBy>
  <dcterms:modified xsi:type="dcterms:W3CDTF">2009-01-26T21:18:24Z</dcterms:modified>
  <cp:revision>8</cp:revision>
  <dc:subject/>
  <dc:title>Designing and Producing</dc:title>
</cp:coreProperties>
</file>