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F60B5-E6F9-4272-B6A0-CD1525B2511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DC659-C78F-4B33-9025-B5A5AB8C992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12AC-7F75-47D5-BEDE-67DD345A3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B341-080B-4375-AB8D-D3E4E7D4B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F791-944F-403F-A19F-36D4AD270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6017-4D76-4D7B-B89C-A5960C63B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BA1E7-C211-4503-9DCF-B68A8760F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38832-AAEF-4871-AFC8-4395AA916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A00D4-BC0A-4A23-B876-A8AF3DE2D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CA267-BD18-4A26-9D95-FD567471E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4B896-0BDD-4E7B-99DB-951D6D235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5C76E-DA96-4ABD-8B6C-E2A60939A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E029B-6A54-44C6-8943-37F5788D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A441-A459-46AD-AD25-1DD3C3EF6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0C9A7-0546-4F71-8231-077B7596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C7942-144B-4159-B998-7E377122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81BDE-C244-40DC-ABC8-8535D8DC0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6ED3F-8765-41E9-B205-F14C5ECD7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5FC24-39E0-4574-955C-669B75444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2C85-AD77-4A2E-AE03-55984EEE6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58FF-A074-4F06-A61F-700661E61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8145-540C-4511-961A-745AF537F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32D6-96F1-497A-B49A-19976021E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5EB2-E184-40F1-B7D6-58FDC8F5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FD9E-39AC-4BB2-9B43-320A60B3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9EBF-5716-43F0-BD76-A3028F1C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Btec National - Principles of Software Develo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5A9E9-203A-4127-9572-11DA42DBCF4E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Btec National - Principles of Software Develo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6949E-EDA1-410E-9B5C-7602D5661536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4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1B4B9-F4CF-4CA6-B28F-80640FC5FFA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Principles of Software Design and Develop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Data typ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15716-3CF7-45D2-B5D9-EDFC36E3A10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scuss what are data types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ain knowledge into the different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scuss the benefits of having different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tec National - 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6051D-DCDE-4CF1-8F43-A4BBAFE65FD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hat are data type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ata types is an attribute of data that is used to inform the computer what data will be held within the vari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y using a data type it will place constraints on the variable by only allowing certain values to be held within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ata types have their own set of operations which can be utilised to achieve a op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tec National - 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3A094-497A-4AAD-86D3-AA1B1D80C97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87280" y="3284280"/>
            <a:ext cx="188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t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539640" y="227664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What data types can you think of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4356000" y="3213000"/>
            <a:ext cx="1882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te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3132000" y="260280"/>
            <a:ext cx="1882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oole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3059280" y="4581360"/>
            <a:ext cx="1882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ng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6443640" y="4221000"/>
            <a:ext cx="1882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u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10"/>
          <p:cNvSpPr/>
          <p:nvPr/>
        </p:nvSpPr>
        <p:spPr>
          <a:xfrm>
            <a:off x="5651640" y="549360"/>
            <a:ext cx="1882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h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13"/>
          <p:cNvSpPr/>
          <p:nvPr/>
        </p:nvSpPr>
        <p:spPr>
          <a:xfrm>
            <a:off x="395280" y="476280"/>
            <a:ext cx="1882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y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tec National - 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622AC-2BFA-4423-9F4C-7CD8054F555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as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sing the internet research into the different types identified on the previous p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ry to find out the benefits of using each of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seful site: http://msdn.microsoft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tec National - 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93475-45D2-4754-8767-CEF48D00903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scussed what are data types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ained knowledge into the different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scussed the benefits of having different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2:34:30Z</dcterms:created>
  <dc:creator>brendan.coulson</dc:creator>
  <dc:description/>
  <dc:language>en-US</dc:language>
  <cp:lastModifiedBy>IT Department</cp:lastModifiedBy>
  <dcterms:modified xsi:type="dcterms:W3CDTF">2009-11-08T21:45:27Z</dcterms:modified>
  <cp:revision>37</cp:revision>
  <dc:subject/>
  <dc:title>Computer Platforms Week 1</dc:title>
</cp:coreProperties>
</file>