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FDFB-018E-4770-9C84-DCEB3A6EE6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85FD-7D41-40CB-9C55-747F9C77790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4CD-D1CB-467B-A454-D52D1701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603-D8C9-4206-AECA-77A2BF6C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7047-FC1B-49AE-AF9A-BF734CE0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4E3D-8C29-4054-A225-812F584C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3BE7-76FC-4FE3-895D-B95A7956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DA83-C9B5-4E41-A650-B045C3C3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68D5-3602-4AD2-94E9-A9220655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D75A-00BE-4AAC-B27A-4E8B9D67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B483-A709-40EC-9846-114D81B1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121A-EDF8-4DCC-886D-FA970655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8D59-D459-4F50-B5D2-E6AA2D42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7FB-7303-4767-AD80-4031D8E2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F6D9-98FA-44DD-BE49-61C1D4A3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D88B-5291-4275-A65B-C07E645C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55AF-76C7-4313-BD3E-CCEB81F2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31B9-1A24-4605-8AA6-2DA801DD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6C9A-4EE5-45CD-8A71-478174A4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3F0-F347-46AA-BD44-5920C4FF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BB6B-4264-4D31-91C2-9CE99B1C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15C-D84E-4578-80E3-6263B499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23F-62DF-414E-9F35-32F6E20A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5CB6-7445-4699-AC2C-DC667877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FD5-37F2-4CE9-A90D-8BDB1692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56C1-1334-4B35-B7FA-4B1D7CCC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2C26-1B47-486D-B97C-C50712FF7F1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198A-77C5-4CFE-A31D-4A73CCF6AB9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2DEA-A60E-49C0-9563-68BC159B9D5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01E5-CADF-434C-A2DF-449526076BC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 what are data type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ain knowledge into the different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 the benefits of having different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9BFE-A0CB-45F4-983E-F3AD4C727D0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at are data typ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types is an attribute of data that is used to inform the computer what data will be held within the vari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y using a data type it will place constraints on the variable by only allowing certain values to be held withi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types have their own set of operations which can be utilised to achieve a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44C0-01C9-493E-B761-DF5E0FD17A5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3284280"/>
            <a:ext cx="188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539640" y="2276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at data types can you think of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356000" y="3213000"/>
            <a:ext cx="188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te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132000" y="260280"/>
            <a:ext cx="188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ole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059280" y="4581360"/>
            <a:ext cx="188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6443640" y="4221000"/>
            <a:ext cx="188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u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5651640" y="549360"/>
            <a:ext cx="188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395280" y="476280"/>
            <a:ext cx="188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y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7E81-6B9F-4106-AFC4-3FC56FF1B99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the internet research into the different types identified on the previous p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y to find out the benefits of using each of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ful site: http://msdn.microsoft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09A8-9497-48A7-BE11-8559EFBC80F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ed what are data type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ained knowledge into the different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cussed the benefits of having different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IT Department</cp:lastModifiedBy>
  <dcterms:modified xsi:type="dcterms:W3CDTF">2009-11-08T21:45:27Z</dcterms:modified>
  <cp:revision>37</cp:revision>
  <dc:subject/>
  <dc:title>Computer Platforms Week 1</dc:title>
</cp:coreProperties>
</file>