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114F-0A40-45BB-BFAC-0150949268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7372-DC43-466F-BC7A-F02A441169B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2598-15C9-4BEB-A51D-4D351A76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C0A7-37D9-4C86-AEFB-21D59992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B1ED-F711-4426-8AAC-49EDECAB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E95-2316-4511-A799-6CDF72A3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574F-FC4C-4D31-9822-9B4425A6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5CD2-2881-46D8-AEE4-FAA00ADD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93A9-1530-4DB5-96B7-C49175F3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F7FA-3531-4826-B00E-A525AC9D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CCE2-D6B9-4F7E-8652-00DB7FFD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D7C9-18B1-4B4B-91A9-BCFCEFD0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4142-F105-4547-B29B-C4093B8B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1D3-B760-41CB-83B6-C8EDC8C4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1354-AB03-433A-B4C7-34B54FE7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674B-0502-4414-B207-385DCCBF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C966-A1B1-4081-A500-20643DDA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D615-0EB6-4827-9B43-E59A8085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A2B0-0D80-442E-BB8A-51ABA1BC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D706-2EA6-4AD7-B7F6-51ADAEC4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8E56-251E-4465-ADB7-0D88B779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681C-915E-4479-94E3-44F22DB3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5020-F293-408E-A2FE-3D19CB45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786-EEDC-4AF6-A80E-F0FFD5CD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0E17-A039-4AA7-99E2-361DF250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0DB-E537-47AB-B0D1-74F17DB6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0BFD-BD4D-4E45-9171-9ECEB9D3B31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1C3B-3634-4973-A2F9-451CDC5885A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B243-9EC5-4212-B815-B0EB037F792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8763-CF90-4E2A-9D1B-1D1278C5A68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uss what are data type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ain knowledge into the different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uss the benefits of having different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94D7-8469-4834-848B-54E0A96CE3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are data typ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types is an attribute of data that is used to inform the computer what data will be held within the vari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y using a data type it will place constraints on the variable by only allowing certain values to be held withi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types have their own set of operations which can be utilised to achieve a 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092B-D64C-48E5-B0DB-BB428105C6F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3284280"/>
            <a:ext cx="188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539640" y="2276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at data types can you think of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356000" y="3213000"/>
            <a:ext cx="188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te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132000" y="260280"/>
            <a:ext cx="188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ole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059280" y="4581360"/>
            <a:ext cx="188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6443640" y="4221000"/>
            <a:ext cx="188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u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5651640" y="549360"/>
            <a:ext cx="188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395280" y="476280"/>
            <a:ext cx="188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y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E146-D581-4D7D-A43F-84437B606C9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the internet research into the different types identified on the previous p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y to find out the benefits of using each of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ful site: http://msdn.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BF70-5AC4-44DE-B0CA-BF3D1B27928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ussed what are data type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ained knowledge into the different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ussed the benefits of having different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IT Department</cp:lastModifiedBy>
  <dcterms:modified xsi:type="dcterms:W3CDTF">2009-11-08T21:45:27Z</dcterms:modified>
  <cp:revision>37</cp:revision>
  <dc:subject/>
  <dc:title>Computer Platforms Week 1</dc:title>
</cp:coreProperties>
</file>