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3CB9-BFE6-4C66-B229-FC98CECEF3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EAAF-3A01-42D0-A9E3-BF46EC44A11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F4F4-2904-4426-AE89-E8573F08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1AE8-4680-45F1-8ABA-0CC71876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858F-2E2F-4539-B9D4-3C19D42B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FF8B-E36D-40C5-BC96-966D0F76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01EB-91EB-4F9A-A413-BC135325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5897-0CB8-4104-9ADD-B0CD22F4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B872-8798-4C37-B043-B562F8EB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AAE2-5B0C-412F-A5C2-2C846C32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7E59-12D9-4F0D-90EB-804BC413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1567-AD42-4EF0-9BCD-2AEF7D69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A340-86FD-4C01-948A-E9C0B9C4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EC95-C860-451B-8FC5-F2F81105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DF2D-43A8-4BC1-BB04-659C5002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DBBE-76DB-4D7E-A3D6-327D6270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3FA0-6E8E-434E-84E3-5342D080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17AC-8ED7-473A-BD9C-AA0CAF22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BFF2-58D6-484D-B724-EA3546C2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BC1C-A4CB-4984-9BF5-41E6502C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493A-E318-4F0C-9173-5BBC20A4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228A-215B-46BD-94C8-EC61DD54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4DBD-FE7F-4377-B0B9-A29C9975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2BC3-BEBD-48EF-B6D2-A0F9BB54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C08F-3522-47D5-828D-ECE954AA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7FB8-4622-426C-9A72-CE6F8CB8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4D38-97B4-409D-B1B4-250AC252912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9311-B23B-491C-A0DB-457EE73DD54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4A88-B9D2-422D-B3C2-ADCEE857680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1A02-AEAF-4BF8-B397-27FB0CABC13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cuss what are data types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ain knowledge into the different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cuss the benefits of having different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A0C4-EB93-44CC-9CF4-052C3501876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are data typ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types is an attribute of data that is used to inform the computer what data will be held within the vari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y using a data type it will place constraints on the variable by only allowing certain values to be held within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types have their own set of operations which can be utilised to achieve a 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CBA4-EBD8-4F26-A9E7-36C81D03A33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3284280"/>
            <a:ext cx="188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539640" y="2276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hat data types can you think of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356000" y="3213000"/>
            <a:ext cx="188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te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3132000" y="260280"/>
            <a:ext cx="188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ole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3059280" y="4581360"/>
            <a:ext cx="188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6443640" y="4221000"/>
            <a:ext cx="188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u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5651640" y="549360"/>
            <a:ext cx="188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395280" y="476280"/>
            <a:ext cx="188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y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EBEE-3008-4BCB-B1A4-918D42668E4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ing the internet research into the different types identified on the previous p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y to find out the benefits of using each of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ful site: http://msdn.microsof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DD2B-28FD-41BE-997C-E8CC66ADC72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cussed what are data types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ained knowledge into the different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cussed the benefits of having different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IT Department</cp:lastModifiedBy>
  <dcterms:modified xsi:type="dcterms:W3CDTF">2009-11-08T21:45:27Z</dcterms:modified>
  <cp:revision>37</cp:revision>
  <dc:subject/>
  <dc:title>Computer Platforms Week 1</dc:title>
</cp:coreProperties>
</file>