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8.png" ContentType="image/png"/>
  <Override PartName="/ppt/media/image1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2FC8-2B73-4458-8217-3F566DE1EB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E727-16AD-45E0-8644-1DF7BD974F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</a:rPr>
              <a:t>Photo credit: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©2007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0920" y="71280"/>
            <a:ext cx="56530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70920" y="71280"/>
            <a:ext cx="56530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4488" r="0" b="0"/>
          <a:stretch/>
        </p:blipFill>
        <p:spPr>
          <a:xfrm>
            <a:off x="971640" y="44280"/>
            <a:ext cx="8064360" cy="54007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rcRect l="0" t="0" r="0" b="15742"/>
          <a:stretch/>
        </p:blipFill>
        <p:spPr>
          <a:xfrm>
            <a:off x="0" y="404640"/>
            <a:ext cx="9144000" cy="57787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-34920" y="-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"/>
          <p:cNvGraphicFramePr/>
          <p:nvPr/>
        </p:nvGraphicFramePr>
        <p:xfrm>
          <a:off x="179280" y="189000"/>
          <a:ext cx="492120" cy="666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189000"/>
                    <a:ext cx="492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" name="" descr=""/>
          <p:cNvPicPr/>
          <p:nvPr/>
        </p:nvPicPr>
        <p:blipFill>
          <a:blip r:embed="rId8"/>
          <a:stretch/>
        </p:blipFill>
        <p:spPr>
          <a:xfrm>
            <a:off x="1547640" y="6154560"/>
            <a:ext cx="395640" cy="3207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9"/>
          <a:stretch/>
        </p:blipFill>
        <p:spPr>
          <a:xfrm>
            <a:off x="5146560" y="5877000"/>
            <a:ext cx="360360" cy="3142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0"/>
          <a:stretch/>
        </p:blipFill>
        <p:spPr>
          <a:xfrm>
            <a:off x="1106640" y="5859360"/>
            <a:ext cx="298440" cy="3272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581800" y="587052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0066"/>
                </a:solidFill>
                <a:latin typeface="Arial"/>
                <a:ea typeface="Arial"/>
              </a:rPr>
              <a:t>Teacher’s notes included in the Notes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260360" y="5870520"/>
            <a:ext cx="38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0066"/>
                </a:solidFill>
                <a:latin typeface="Arial"/>
                <a:ea typeface="Arial"/>
              </a:rPr>
              <a:t>Flash activity. These activities are not edi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979640" y="618660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0066"/>
                </a:solidFill>
                <a:latin typeface="Arial"/>
                <a:ea typeface="Arial"/>
              </a:rPr>
              <a:t>Web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8800" y="551664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66"/>
                </a:solidFill>
                <a:latin typeface="Arial"/>
                <a:ea typeface="Arial"/>
              </a:rPr>
              <a:t>Icons ke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16520" y="5538960"/>
            <a:ext cx="50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66"/>
                </a:solidFill>
                <a:latin typeface="Arial"/>
                <a:ea typeface="Arial"/>
              </a:rPr>
              <a:t>For more detailed instructions, see the </a:t>
            </a:r>
            <a:r>
              <a:rPr b="1" i="1" lang="en-US" sz="1200" spc="-1" strike="noStrike">
                <a:solidFill>
                  <a:srgbClr val="010066"/>
                </a:solidFill>
                <a:latin typeface="Arial"/>
                <a:ea typeface="Arial"/>
              </a:rPr>
              <a:t>Getting Started</a:t>
            </a:r>
            <a:r>
              <a:rPr b="1" lang="en-US" sz="1200" spc="-1" strike="noStrike">
                <a:solidFill>
                  <a:srgbClr val="010066"/>
                </a:solidFill>
                <a:latin typeface="Arial"/>
                <a:ea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372360" y="666900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53920" y="665496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E1D9-E9E2-475F-A2CF-2DAF7B83A17A}" type="slidenum">
              <a:rPr b="0" lang="en-US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5b0091"/>
                </a:solidFill>
                <a:latin typeface="Arial"/>
              </a:rPr>
              <a:t> of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666900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3920" y="665496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9453-50B8-408E-82E8-A01220692375}" type="slidenum">
              <a:rPr b="0" lang="en-US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5b0091"/>
                </a:solidFill>
                <a:latin typeface="Arial"/>
              </a:rPr>
              <a:t> of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097680"/>
            <a:ext cx="638280" cy="571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05640" y="609444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57200" y="3030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Flow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5600" y="3855960"/>
            <a:ext cx="29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0091"/>
                </a:solidFill>
                <a:latin typeface="Arial"/>
              </a:rPr>
              <a:t>ICT in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More matching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6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395280" y="1873080"/>
          <a:ext cx="8496360" cy="4077000"/>
        </p:xfrm>
        <a:graphic>
          <a:graphicData uri="http://schemas.openxmlformats.org/drawingml/2006/table">
            <a:tbl>
              <a:tblPr/>
              <a:tblGrid>
                <a:gridCol w="1150920"/>
                <a:gridCol w="1585800"/>
                <a:gridCol w="1295640"/>
                <a:gridCol w="2160360"/>
                <a:gridCol w="1150920"/>
                <a:gridCol w="115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 new membership rec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Personal 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s record and allocates unique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mb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1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 new event rec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s record and allocates unique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2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 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Advertise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-mail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ail merge event details and name, send to e-mail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Advert e-m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Inputs, outputs and processe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0000" y="898560"/>
            <a:ext cx="816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ok at this table. Data flow diagrams convey all the sam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ormation, but in a way that is much easier to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8240" y="6111720"/>
            <a:ext cx="76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091"/>
                </a:solidFill>
                <a:latin typeface="Arial"/>
              </a:rPr>
              <a:t>What other advantages do data flow diagram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50920" y="2249640"/>
          <a:ext cx="8713800" cy="3771720"/>
        </p:xfrm>
        <a:graphic>
          <a:graphicData uri="http://schemas.openxmlformats.org/drawingml/2006/table">
            <a:tbl>
              <a:tblPr/>
              <a:tblGrid>
                <a:gridCol w="1173240"/>
                <a:gridCol w="1566720"/>
                <a:gridCol w="1568520"/>
                <a:gridCol w="1452600"/>
                <a:gridCol w="1682640"/>
                <a:gridCol w="127008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Find overdue me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Today’s 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Search for members who joined a year ag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mbership reminder names and ad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3 – overdues 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 reminder let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Names and addresses, reminder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ai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Personalized reminder let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58920" y="898560"/>
            <a:ext cx="86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table describes the data inputs, outputs and processing for the next two operations: finding overdue members and sending out a reminder letter to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1520" y="6140520"/>
            <a:ext cx="76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091"/>
                </a:solidFill>
                <a:latin typeface="Arial"/>
              </a:rPr>
              <a:t>How could you make this into a data flow diag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Membership renewal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8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419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55087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reate a dataflow diagram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8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1280" y="712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0360" y="898560"/>
            <a:ext cx="8645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ata flow diagrams are a useful way to show the movement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f data within 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agrams are constructed with external entities, process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data s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rows show the way that data moves within 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s show the data that is being m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you have a number of small diagrams, you can create on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rger diagram by combining the duplicate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You an also denote duplicate entries by adding a line to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ymb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01080" y="5877000"/>
            <a:ext cx="9716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Learning objective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2008080"/>
            <a:ext cx="633744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Understand that data flow diagrams show the flow of data within 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Be able to identify the main elements in a dataflow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Be able to understand data flow diagrams and construct your own dia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05640" y="609444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72360" y="666756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2480" y="665316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9198-1283-4353-AC5D-DAED619C2CCE}" type="slidenum">
              <a:rPr b="0" lang="en-US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5b0091"/>
                </a:solidFill>
                <a:latin typeface="Arial"/>
              </a:rPr>
              <a:t> of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189000"/>
          <a:ext cx="49212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189000"/>
                    <a:ext cx="492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9228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898560"/>
            <a:ext cx="52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 new leisure centre has just opened and lots of people are eager to jo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177336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at do they hav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230832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y have to fill in a form and pay a membership fee. Then the leisure centre gives them a membership card that will last for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920" y="5157720"/>
            <a:ext cx="58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 year later, the centre writes to ask them to pay again for a new membership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920" y="3897360"/>
            <a:ext cx="53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the centre has special promotional events on, they send members e-mails to tell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0053" t="15117" r="4283" b="16893"/>
          <a:stretch/>
        </p:blipFill>
        <p:spPr>
          <a:xfrm>
            <a:off x="6372360" y="4076640"/>
            <a:ext cx="266364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227640" y="692280"/>
            <a:ext cx="29527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280" y="7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Join the club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4581360"/>
            <a:ext cx="2857320" cy="1714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920" y="8985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Let’s look at that again, drawing a diagram of what happens to the data in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1905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Here is ou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24382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Here is our member. Anything that is related to our system is called an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xternal entity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nd we draw it like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65760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e draw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to show the links between them, an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rrow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to show which way the data is g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80000" y="3390840"/>
            <a:ext cx="2857680" cy="1333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26920" y="4941720"/>
            <a:ext cx="2857680" cy="1333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843280" y="5013360"/>
            <a:ext cx="2879640" cy="144360"/>
          </a:xfrm>
          <a:prstGeom prst="rightArrow">
            <a:avLst>
              <a:gd name="adj1" fmla="val 38463"/>
              <a:gd name="adj2" fmla="val 2671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ontext diagram (level 0 data flow diagram) 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3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530680" y="1484280"/>
            <a:ext cx="285768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8920" y="89856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Let’s add a bit of detail to t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f we want to design a system, we need to know what the system is going to do to the data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rocess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ose get drawn as rectangles with numbers so that we have something to refer to them 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3354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we need to store the data we draw a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ata stor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se need numbering too, but we add a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D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or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340344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is process number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3080" y="54928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is data store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2497320" cy="1331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5378400"/>
            <a:ext cx="2857320" cy="5716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Level 1 data flow diagram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4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3637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Match the symbol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280" y="7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reating data flow diagram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5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Review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5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omplex data flow diagram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6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4:31:22Z</dcterms:created>
  <dc:creator>Boardworks Ltd</dc:creator>
  <dc:description/>
  <dc:language>en-US</dc:language>
  <cp:lastModifiedBy>stephen.thomas</cp:lastModifiedBy>
  <dcterms:modified xsi:type="dcterms:W3CDTF">2007-02-15T18:04:38Z</dcterms:modified>
  <cp:revision>51</cp:revision>
  <dc:subject>Boardworks KS4 ICT</dc:subject>
  <dc:title>Data Flow Diagrams</dc:title>
</cp:coreProperties>
</file>