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3B58-09DC-4A7E-8DEF-6E2B95CCFC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B3B4-6478-4D62-8FFC-C116056FAA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</a:rPr>
              <a:t>Photo credit: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©2007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4488" r="0" b="0"/>
          <a:stretch/>
        </p:blipFill>
        <p:spPr>
          <a:xfrm>
            <a:off x="971640" y="44280"/>
            <a:ext cx="8064360" cy="54007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0" t="0" r="0" b="15742"/>
          <a:stretch/>
        </p:blipFill>
        <p:spPr>
          <a:xfrm>
            <a:off x="0" y="404640"/>
            <a:ext cx="9144000" cy="57787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-34920" y="-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1547640" y="6154560"/>
            <a:ext cx="395640" cy="3207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5146560" y="5877000"/>
            <a:ext cx="360360" cy="314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1106640" y="5859360"/>
            <a:ext cx="298440" cy="3272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581800" y="58705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Teacher’s notes included in the Note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60360" y="587052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Flash activity. These activities are not edi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979640" y="61866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Web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8800" y="55166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66"/>
                </a:solidFill>
                <a:latin typeface="Arial"/>
                <a:ea typeface="Arial"/>
              </a:rPr>
              <a:t>Icons k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16520" y="5538960"/>
            <a:ext cx="50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For more detailed instructions, see the </a:t>
            </a:r>
            <a:r>
              <a:rPr b="1" i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Getting Started</a:t>
            </a: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851F-EDA4-40C0-84A0-BCAC2EE14566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9A63-03D9-4A78-8FED-A09688CED31C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097680"/>
            <a:ext cx="63828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7200" y="3030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Flow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5600" y="385596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0091"/>
                </a:solidFill>
                <a:latin typeface="Arial"/>
              </a:rPr>
              <a:t>ICT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ore matching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95280" y="1873080"/>
          <a:ext cx="8496360" cy="4077000"/>
        </p:xfrm>
        <a:graphic>
          <a:graphicData uri="http://schemas.openxmlformats.org/drawingml/2006/table">
            <a:tbl>
              <a:tblPr/>
              <a:tblGrid>
                <a:gridCol w="1150920"/>
                <a:gridCol w="1585800"/>
                <a:gridCol w="1295640"/>
                <a:gridCol w="2160360"/>
                <a:gridCol w="1150920"/>
                <a:gridCol w="11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membership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 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1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event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2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ise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 merge event details and name, send to 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 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Inputs, outputs and process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" y="898560"/>
            <a:ext cx="816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 at this table. Data flow diagrams convey all the sam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ormation, but in a way that is much easier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8240" y="6111720"/>
            <a:ext cx="76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What other advantages do data flow diagram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50920" y="2249640"/>
          <a:ext cx="8713800" cy="3771720"/>
        </p:xfrm>
        <a:graphic>
          <a:graphicData uri="http://schemas.openxmlformats.org/drawingml/2006/table">
            <a:tbl>
              <a:tblPr/>
              <a:tblGrid>
                <a:gridCol w="1173240"/>
                <a:gridCol w="1566720"/>
                <a:gridCol w="1568520"/>
                <a:gridCol w="1452600"/>
                <a:gridCol w="1682640"/>
                <a:gridCol w="127008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nd overdue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Today’s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Search for members who joined a year ag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ship reminder names and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3 – overdues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Names and addresses, reminder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ized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58920" y="89856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table describes the data inputs, outputs and processing for the next two operations: finding overdue members and sending out a reminder letter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1520" y="6140520"/>
            <a:ext cx="76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How could you make this into a data flow dia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embership renewa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55087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e a data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1280" y="71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898560"/>
            <a:ext cx="864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flow diagrams are a useful way to show the movement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agrams are constructed with external entities, process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data 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rows show the way that data moves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s show the data that is being 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have a number of small diagrams, you can create on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r diagram by combining the duplicate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an also denote duplicate entries by adding a line to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5877000"/>
            <a:ext cx="971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arning objectiv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2008080"/>
            <a:ext cx="63374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nderstand that data flow diagrams show the flow 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identify the main elements in a dataflow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understand data flow diagrams and construct your own dia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666756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2480" y="66531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1D7D-9880-4446-A3C6-775F77570888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228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89856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new leisure centre has just opened and lots of people are eager to jo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773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do they hav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23083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y have to fill in a form and pay a membership fee. Then the leisure centre gives them a membership card that will last for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5157720"/>
            <a:ext cx="58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year later, the centre writes to ask them to pay again for a new membership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897360"/>
            <a:ext cx="53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centre has special promotional events on, they send members e-mails to tell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0053" t="15117" r="4283" b="16893"/>
          <a:stretch/>
        </p:blipFill>
        <p:spPr>
          <a:xfrm>
            <a:off x="6372360" y="4076640"/>
            <a:ext cx="266364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27640" y="692280"/>
            <a:ext cx="29527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Join the club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4581360"/>
            <a:ext cx="285732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8985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look at that again, drawing a diagram of what happens to the data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1905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24382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member. Anything that is related to our system is called an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ternal entit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d we draw it lik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65760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 draw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the links between them,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rrow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which way the data is g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80000" y="3390840"/>
            <a:ext cx="2857680" cy="133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6920" y="4941720"/>
            <a:ext cx="2857680" cy="1333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43280" y="5013360"/>
            <a:ext cx="2879640" cy="144360"/>
          </a:xfrm>
          <a:prstGeom prst="rightArrow">
            <a:avLst>
              <a:gd name="adj1" fmla="val 38463"/>
              <a:gd name="adj2" fmla="val 2671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ntext diagram (level 0 data flow diagram) 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3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30680" y="148428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898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add a bit of detail to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we want to design a system, we need to know what the system is going to do to the dat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roces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ose get drawn as rectangles with numbers so that we have something to refer to them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335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we need to store the data we draw a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ata stor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se need numbering too, but we add a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340344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process number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3080" y="54928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data stor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2497320" cy="133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5378400"/>
            <a:ext cx="2857320" cy="571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vel 1 data 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363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atch the symbo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ing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Review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mplex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4:31:22Z</dcterms:created>
  <dc:creator>Boardworks Ltd</dc:creator>
  <dc:description/>
  <dc:language>en-US</dc:language>
  <cp:lastModifiedBy>stephen.thomas</cp:lastModifiedBy>
  <dcterms:modified xsi:type="dcterms:W3CDTF">2007-02-15T18:04:38Z</dcterms:modified>
  <cp:revision>51</cp:revision>
  <dc:subject>Boardworks KS4 ICT</dc:subject>
  <dc:title>Data Flow Diagrams</dc:title>
</cp:coreProperties>
</file>