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563-13F8-447B-91DB-B7C1BF63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E19-5E35-4739-A6FB-A55FE2D2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55F-94DA-48BD-ACAB-1BD5C985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3BE-F6AD-4ADD-BA7C-77CE32A8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8824-7653-44C9-9251-B2F466F0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D2B5-9F33-45CB-9098-BD46D04C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C125-CA5D-4F4F-8D42-23FC6C70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F7FA-ECBA-4BD3-A86E-F2192053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AF3A-2F07-47A5-A14B-7B07833A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C6EE-8761-4059-8314-350BB84E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C7AA-2FAA-4FC9-A1C5-F0A938C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5C5-0ED5-4028-8C57-929B8D05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C74E-EB17-46AC-9F7C-C411FFE0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5C13-D96E-4E7F-A2B5-2B3B6A78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C109-C51E-45A4-9D58-8A455F45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54D9-1329-400F-87A1-08EC770F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CFBC-C2A0-4EBE-B623-7A48EB61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197-24CB-4A40-B841-8DF4C356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B21-74EB-4579-BC8C-C22CD8C1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62B-3A98-42EB-A202-BD092B1F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B1D0-4B1A-41B2-96F7-067F4B09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469-6678-495F-A3B1-1D16BCA4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F5F-7D9F-467B-9702-32E0538B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09E-9455-4164-92EF-4A7C964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3590-2F4F-43B2-8337-8456139FA1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9D04-84B0-45AB-BE03-ED72C33100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2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Computerised translators enable users to type in words in their native tongue and vast dictionaries respond with translations in the chosen langu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y are relatively cheap to buy and portable or alternatively you can access on the interne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How people use compu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15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exting has grown rapidly and can be used as an alternative to speaking in order to confirm meetings, arrange delivery and communicate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PDAs and other devices are used in addition to or as replacements for paper diaries and enable remote access to the internet and documents such as spreadsheets and database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Emails have now replaced memos and in some cases formal letter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404640"/>
            <a:ext cx="8153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ortable music has developed with the use of MP3 players and iPod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X-box and play stations have taken gaming to another level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dverse effects of this are the reduction in verbal and face to face communication and the opportunities for employees to hide behind a computer rather than give verbal instructions to criticism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me would say that professionalism is being lost through the widespread use of emails, as there is no universal protocol for email language and layout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sychological and Sociolog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97000"/>
            <a:ext cx="8153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re has become less variety of work in some environme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Robots used in manufacturing leads to less specialised work being done manually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Deskilling can lead to workers feeling less value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Automated machinery has taken away the need for specialist trades and has reduced costs considerab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69228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Some trades are in danger of dying out: traditional furniture making, stained glass making, dress making and tailoring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 division of labour and technology development have led to the reduction of the scope of an individuals work to one or a few specialised task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Work becomes fragmented and individuals lose the integrated skills and comprehensive knowledge o he craftspers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2:14:58Z</dcterms:created>
  <dc:creator>IT Support</dc:creator>
  <dc:description/>
  <dc:language>en-US</dc:language>
  <cp:lastModifiedBy>IT Support</cp:lastModifiedBy>
  <dcterms:modified xsi:type="dcterms:W3CDTF">2009-01-24T12:44:04Z</dcterms:modified>
  <cp:revision>6</cp:revision>
  <dc:subject/>
  <dc:title>Culture</dc:title>
</cp:coreProperties>
</file>