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A3F2-599F-4AD5-94EC-35C2A9F7B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A054-6DA7-4D84-9003-18A5C951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FA83-56A1-40A5-B235-5B399716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BF89-8C65-4D39-8072-3F3CAD8D0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0FFD-E631-486E-B25C-BE9C081A4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5875-358B-461B-8F50-2957A2D5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FD65-CD88-4DBD-8B67-C0C25B2A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8A4E-A129-4833-9129-27D82FE3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109B-9A99-4308-81F6-19EAA3A1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D1F2-77AE-40BA-A0A2-0743139C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F33A-176E-4339-A7B6-A2D24AF2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21FA-8011-4D18-B3E7-29D79529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3E41-38B5-4567-B1CF-41861934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E531-994C-4186-90C1-379C0E7E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DDA8-D671-4039-A1CC-87B37E65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C759-4A57-4D59-A2AD-AAC92FAA0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9A20-4018-4AC9-8A11-053E4B47E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0F40-A5A2-406B-AE13-838E4FE3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D726-C0A2-4330-9188-7E24F1A6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C9E9-414D-44F9-88A4-010881E8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3BBA-7436-4711-9A46-5C85A90C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5F12-9A32-4358-B3BF-686C207C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BBB2-701B-4BB9-AA0C-D7885978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8D54-A11C-49DB-9276-3A30F0EB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2278-8481-47FE-BDCE-158DFA33D1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04EB-E4F1-49F8-9385-E2FC88E375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200" spc="-1" strike="noStrike">
                <a:solidFill>
                  <a:srgbClr val="ffffff"/>
                </a:solidFill>
                <a:latin typeface="Times New Roman"/>
              </a:rPr>
              <a:t>Culture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91920"/>
            <a:ext cx="8153280" cy="51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Computerised translators enable users to type in words in their native tongue and vast dictionaries respond with translations in the chosen languag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They are relatively cheap to buy and portable or alternatively you can access on the internet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How people use comput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268280"/>
            <a:ext cx="81532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Texting has grown rapidly and can be used as an alternative to speaking in order to confirm meetings, arrange delivery and communicate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PDAs and other devices are used in addition to or as replacements for paper diaries and enable remote access to the internet and documents such as spreadsheets and databases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Emails have now replaced memos and in some cases formal letters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3520" y="404640"/>
            <a:ext cx="81532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Portable music has developed with the use of MP3 players and iPods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X-box and play stations have taken gaming to another level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Adverse effects of this are the reduction in verbal and face to face communication and the opportunities for employees to hide behind a computer rather than give verbal instructions to criticism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Some would say that professionalism is being lost through the widespread use of emails, as there is no universal protocol for email language and layout.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Psychological and Sociologic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197000"/>
            <a:ext cx="8153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There has become less variety of work in some environment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Robots used in manufacturing leads to less specialised work being done manually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Deskilling can lead to workers feeling less valued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Automated machinery has taken away the need for specialist trades and has reduced costs considerab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3520" y="692280"/>
            <a:ext cx="8153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Some trades are in danger of dying out: traditional furniture making, stained glass making, dress making and tailoring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The division of labour and technology development have led to the reduction of the scope of an individuals work to one or a few specialised tasks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Work becomes fragmented and individuals lose the integrated skills and comprehensive knowledge o he craftsperson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2:14:58Z</dcterms:created>
  <dc:creator>IT Support</dc:creator>
  <dc:description/>
  <dc:language>en-US</dc:language>
  <cp:lastModifiedBy>IT Support</cp:lastModifiedBy>
  <dcterms:modified xsi:type="dcterms:W3CDTF">2009-01-24T12:44:04Z</dcterms:modified>
  <cp:revision>6</cp:revision>
  <dc:subject/>
  <dc:title>Culture</dc:title>
</cp:coreProperties>
</file>