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AA3-D58D-4BFB-83F6-EDBD82A6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D5EB-5270-40A4-9580-92AF5F1A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B74-196D-45BB-97D4-42536A8D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779-A903-4B21-A91F-4D46E578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7A5F-10FF-4F6E-9689-490181E0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DF89-CE0F-4DBB-AA7D-126EDCEC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8A9A-E132-4766-AE3B-DFCB547A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5A40-5EF1-4853-9941-5412BE64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9E55-F6B7-4A9B-92C0-1E71C43A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1778-297B-4659-B6A7-713222C0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56ED-C165-4C16-87F6-B6727F43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B63-8987-4EB9-B4C1-1F21E032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1BB8-0F32-4A13-A32A-3D04A74B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0ACA-9167-4E12-8A8D-6FDBDE75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A6CE-1882-4B96-9C7F-52C05186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E01E-0445-4A54-A102-6E288F5F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7335-D01A-4CD5-848A-5CE08FE3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A27-DF8B-4ABE-8EA5-75564391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95A-C8C5-4C86-8961-DFA43E1E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3DE-BD96-4D2D-A656-D343C32A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DCC-AA19-4544-98F1-A0790D40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9B9-3E4D-4461-934E-3DED04EB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104-8FE3-4304-8072-16AA5AE3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0C9-49AD-49C9-9F26-08CF7063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A45F-A85C-482E-9347-9B3AA853AC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75C4-C856-43B3-BE80-C75CC1CDC3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200" spc="-1" strike="noStrike">
                <a:solidFill>
                  <a:srgbClr val="ffffff"/>
                </a:solidFill>
                <a:latin typeface="Times New Roman"/>
              </a:rPr>
              <a:t>Cultur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91920"/>
            <a:ext cx="815328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Computerised translators enable users to type in words in their native tongue and vast dictionaries respond with translations in the chosen languag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They are relatively cheap to buy and portable or alternatively you can access on the internet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How people use comput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8153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Texting has grown rapidly and can be used as an alternative to speaking in order to confirm meetings, arrange delivery and communicate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PDAs and other devices are used in addition to or as replacements for paper diaries and enable remote access to the internet and documents such as spreadsheets and database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Emails have now replaced memos and in some cases formal letter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404640"/>
            <a:ext cx="81532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ortable music has developed with the use of MP3 players and iPod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X-box and play stations have taken gaming to another level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dverse effects of this are the reduction in verbal and face to face communication and the opportunities for employees to hide behind a computer rather than give verbal instructions to criticism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ome would say that professionalism is being lost through the widespread use of emails, as there is no universal protocol for email language and layout.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sychological and Sociologic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97000"/>
            <a:ext cx="8153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There has become less variety of work in some environment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Robots used in manufacturing leads to less specialised work being done manually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Deskilling can lead to workers feeling less valued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Automated machinery has taken away the need for specialist trades and has reduced costs considerab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692280"/>
            <a:ext cx="8153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Some trades are in danger of dying out: traditional furniture making, stained glass making, dress making and tailoring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The division of labour and technology development have led to the reduction of the scope of an individuals work to one or a few specialised task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Arial"/>
              </a:rPr>
              <a:t>Work becomes fragmented and individuals lose the integrated skills and comprehensive knowledge o he craftspers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2:14:58Z</dcterms:created>
  <dc:creator>IT Support</dc:creator>
  <dc:description/>
  <dc:language>en-US</dc:language>
  <cp:lastModifiedBy>IT Support</cp:lastModifiedBy>
  <dcterms:modified xsi:type="dcterms:W3CDTF">2009-01-24T12:44:04Z</dcterms:modified>
  <cp:revision>6</cp:revision>
  <dc:subject/>
  <dc:title>Culture</dc:title>
</cp:coreProperties>
</file>