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9E0-C0BE-4222-BC1E-9F298072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7B7-BFEA-4B87-AB1F-96CD218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19A-F79F-453E-B707-8575162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174-BDB6-4C54-AC57-ACCA40F0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AE60-B7E2-4380-B6EC-7F00A9D0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2269-9622-485E-B4C7-E737EB1C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0EB7-0706-475E-B9DF-2E99CDE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22D7-68B1-4468-82A4-F2382504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6C07-927B-4D71-9CC6-14B065D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DBE3-CFBD-483C-A8CA-01E965F5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138D-8E1E-4A86-8F0C-20A6F9C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0B7-2731-4F52-897F-640FBCA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D923-E68F-4662-BB14-30A0141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FE30-682B-4113-A969-57B23424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D734-1D81-4C8A-895A-289488C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2E4-5994-4D2B-8752-3971B31E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1B56-75A8-44DB-8185-CFA32D28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F38-F86A-4476-806E-136EA6F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D8E-B3FC-4B27-AA7D-FA710665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F92-D733-4BDD-AF7E-CD3CDBA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64D-8008-4E30-8EA4-6827793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DAC-5169-4021-A621-F8E880B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78B-7831-40FC-B857-DEC3D39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BC6-C588-424A-8060-0C0D68B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143-9BFA-4467-93B0-89693164BA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EC42-FAC9-4B6F-90DF-2D6D725A6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Computerised translators enable users to type in words in their native tongue and vast dictionaries respond with translations in the chosen langu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y are relatively cheap to buy and portable or alternatively you can access on the interne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How people use 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exting has grown rapidly and can be used as an alternative to speaking in order to confirm meetings, arrange delivery and communicat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PDAs and other devices are used in addition to or as replacements for paper diaries and enable remote access to the internet and documents such as spreadsheets and databas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Emails have now replaced memos and in some cases formal letter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404640"/>
            <a:ext cx="815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rtable music has developed with the use of MP3 players and iPod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X-box and play stations have taken gaming to another level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verse effects of this are the reduction in verbal and face to face communication and the opportunities for employees to hide behind a computer rather than give verbal instructions to criticis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me would say that professionalism is being lost through the widespread use of emails, as there is no universal protocol for email language and layout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sychological and Sociolog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8153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re has become less variety of work in some environm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Robots used in manufacturing leads to less specialised work being done manual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Deskilling can lead to workers feeling less valu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Automated machinery has taken away the need for specialist trades and has reduced costs considerab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69228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Some trades are in danger of dying out: traditional furniture making, stained glass making, dress making and tailoring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 division of labour and technology development have led to the reduction of the scope of an individuals work to one or a few specialised task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Work becomes fragmented and individuals lose the integrated skills and comprehensive knowledge o he craftspers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14:58Z</dcterms:created>
  <dc:creator>IT Support</dc:creator>
  <dc:description/>
  <dc:language>en-US</dc:language>
  <cp:lastModifiedBy>IT Support</cp:lastModifiedBy>
  <dcterms:modified xsi:type="dcterms:W3CDTF">2009-01-24T12:44:04Z</dcterms:modified>
  <cp:revision>6</cp:revision>
  <dc:subject/>
  <dc:title>Culture</dc:title>
</cp:coreProperties>
</file>