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5A5-0F50-48B0-974C-0BB3201D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C1A-5FA5-476A-8180-26AE43BF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649-0FFD-432D-923A-E52C4B4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6DC-4547-4006-9E62-FA24E3BA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4AA3-6CA7-4851-A4E4-886EC72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CAA-1913-4090-9BE2-C950C154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B65-3008-4045-948B-29C27A8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1B5D-6A30-409B-B0F5-85EC3788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7516-C7F3-4EA7-A5B0-18B235A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856-7FC8-4998-94DD-B4E4592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BEF0-EBFF-4E20-80C9-0099A0B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016-1561-4461-8341-2361B2E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62AC-F8E5-4402-ADAD-F0CFA106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61B-34A1-4559-8F28-E841BAC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13B-5676-4505-B8DE-8CC77D9B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2CD5-5FC7-4AE3-AF85-2D9F9696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BEA-8D97-4C2B-95EF-907C43CC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1C8-AF15-428B-B646-98465092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847-F47E-4060-9FE7-2336F78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B5E-19D6-4BF1-9255-F75BFB1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C39-B731-45F9-9355-A5DA48B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FFD-5435-4F80-BA3F-A48A3BB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50C-63F5-4AB9-B037-FC4DB1D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66F-A8BB-4989-B02E-548EAD4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C903-475A-418D-98D0-AE1E2FEEC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9C51-8B82-470D-AB91-0C1020C04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9D4-7042-4CD8-B80C-9362AA796E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AC5-125E-4062-9A1A-A0BCE76443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a restriction by which a new system must be able to cope with suffici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139-44BB-4898-851C-3D79D39119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important constraint to think about when developing a new system i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sts are often difficult to estimate accur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any real life situations, people often are overly optim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137-2847-45D0-8A88-245D6675B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s need to include hardware, software and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ther costs which are not so obvious – any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(changing over the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31E-7B7B-4D0E-A272-0DFC438D3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forget many of the costs will be balanced out (and then some more) if the system is a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taff should b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84D-F43D-43C2-BB3E-A41F2EF9FD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D0F-259C-4E94-A0C3-8A36B661C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9-21T14:30:47Z</dcterms:modified>
  <cp:revision>37</cp:revision>
  <dc:subject/>
  <dc:title>Computer Platforms Week 1</dc:title>
</cp:coreProperties>
</file>