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4B9-85CA-484C-94B5-1B526D83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DA6-04AD-4F2A-B133-44FBA6BF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0A4-25E5-4D55-9732-DF7E563B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C6A-559B-4CF9-99DC-53945399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8414-9D88-4890-BDB0-9E869DA3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C0F9-F86D-4754-AE62-7CFCB18A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D0A3-3561-4AEE-A706-60DBAD49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474B-AD7D-4B7A-934B-7AA8F560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654E-8EF7-45B4-AE7A-C7FA5337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8242-6947-4673-8CFE-9B8BD481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3CE2-06DC-4069-AE76-40C716EB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90C-7F95-4C4A-BD06-C887E6DD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B3CC-75EB-41E2-A318-4443062B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1DB3-DF23-48B1-A3CE-592398DB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9859-55DA-42F8-8972-CD723102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FBC8-B77A-435D-8FC9-41354FD2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EC42-DC70-462B-BB38-E12701D6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DF2-46E4-4F59-A4D9-10C4B0BD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7C3-F471-4456-BD80-0A640EFD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DFA-70A3-438A-9EE3-2B93FFFC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3EB-5A77-4D66-BB12-1125CD68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D10-9B06-4EAD-9214-F8CF6ABA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60C-F2C6-4D2D-ACC9-013D1993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4F2-9B52-4A6A-9EDC-9846FC30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1B26-FC1D-4B73-A8D2-B341DA8F3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8137-4AB1-4E4A-BEE4-A36972289B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C485-CBAE-4FBC-88B3-3A751E45693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what constraints can be imposed on the development of a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91A-5345-4BE2-A9DF-13533522E4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s to a restriction by which a new system must be able to cope with sufficien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BD8-F589-4BA0-8402-1B0D48E454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st important constraint to think about when developing a new system is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osts are often difficult to estimate accurat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many real life situations, people often are overly optim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1C7-C7E2-4F71-8B80-93F482D44F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s need to include hardware, software and development co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other costs which are not so obvious – any ide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e w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(changing over the syst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6B6-C8E6-418E-8AF8-95340C43F7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don’t forget many of the costs will be balanced out (and then some more) if the system is a su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staff should be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3562-EBCE-4393-8EB9-F4255866DA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what constraints can be imposed on the development of a new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197-2EB1-4C65-90BD-3B48D66B16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9-09-21T14:30:47Z</dcterms:modified>
  <cp:revision>37</cp:revision>
  <dc:subject/>
  <dc:title>Computer Platforms Week 1</dc:title>
</cp:coreProperties>
</file>