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09F-B3E7-498D-B1F2-CA461D33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391-6850-46E1-AAA7-8B4A4C26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8E9-8CC0-419D-929D-40D67FFD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BFE-5AAE-47E7-9260-7D811891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B91D-C7FD-422E-974C-36C82D9D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8986-ADBE-4D72-BC7C-15C16E0D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7E55-849C-44C0-B2B7-25D7DCB8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5FC0-B583-44C8-8009-3E8C8405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12AC-1160-46A1-A8AD-A3621C91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22D1-2E28-4F7D-92E0-9B03D372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2A61-4B6E-4472-8C0E-0F1162AB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C5E-AF6E-4206-925D-36E7E342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E0FB-0795-4D2F-8D65-E2C4D0AC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7CEA-ACAA-4A40-8DA3-592DF5D7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9BB2-C674-46EA-BCB8-92071A65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2C35-9C2F-48CA-AF89-B319281A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D2DB-C80C-4E76-8F8D-DF424AA2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978-A170-4DFD-9818-754D3F13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6AA-2392-46F8-B26E-007952F8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03A-ECEA-43E5-937E-9E994A48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18A-4682-48D6-AC60-96789956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549-5EE2-492A-BC1C-74784C3B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8B5-4B70-4807-A1CD-2A304B4D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8AD-C293-40FD-B169-0E09424C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6E0E-CA44-4FEB-A78E-AB41959EA7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112C-55F5-4CFB-A144-C76E086CB8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FE50-58BD-469E-A30B-C68B608BFC8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what constraints can be imposed on the development of a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A22-24F5-4555-9360-436EC39C72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s to a restriction by which a new system must be able to cope with sufficien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53B-15EB-473C-B71D-B76BAF4A78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most important constraint to think about when developing a new system is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osts are often difficult to estimate accurat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many real life situations, people often are overly optim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AA4-AF52-4E56-BF5C-B251D108B0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sts need to include hardware, software and development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other costs which are not so obvious – any ide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e w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(changing over the sys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572-470B-4FC2-A10D-5DE884D3AE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don’t forget many of the costs will be balanced out (and then some more) if the system is a su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staff should be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986-459C-4D0F-B0B7-FE16B69ABA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what constraints can be imposed on the development of a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A34-A6B2-4BC5-B80F-A2E755C992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9-09-21T14:30:47Z</dcterms:modified>
  <cp:revision>37</cp:revision>
  <dc:subject/>
  <dc:title>Computer Platforms Week 1</dc:title>
</cp:coreProperties>
</file>