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EC0-DF02-4593-9CCC-4255BD6A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FC7-77F6-48FA-A2CB-A3FEDDF7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414-E3AD-4644-A182-78597B8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CF0-C98A-49D9-AA8C-E1D1A429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6072-FD7C-4D6E-91A2-E69B669C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326-879F-4199-8EF6-9699F084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5381-9079-4FD9-A971-901CEFC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6406-527F-4F57-BFBB-AF96437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624A-BC5C-412A-B165-089B6618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82C-6AEB-4496-8EEE-25F2A8D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018A-5C3E-40F9-BDB8-30E0DCBC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AD62-804B-421B-B1F5-DF91F97B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2BB1-45D2-4179-880F-C7709F80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C3BE-F8BC-44B3-B1C7-7D29410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C9E-5BD4-4674-A9CE-C0F1EF6E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1649-D0EE-443C-AC99-046EE224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AC8F-DA5B-45FC-8DF3-5AC30A9D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B0B-B558-4303-96DC-17051DF4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343-4FA4-4747-85BF-A7D7D5AE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1E1-3BC9-41C2-8147-F65513A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34A-798F-48AD-A9D6-7CDC7B71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1AF-61FC-468C-B096-3251FEF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314-0B11-42F7-B6B8-D033DAE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D0F-AC5C-476B-A8F6-8122823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EFF1-25C6-4CDC-ACE1-6D52653BA4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EF1B-74C9-46AA-A4F6-78617EB7B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7127-1760-42C2-86C6-799A0511F27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E63-623F-469E-A08A-A4DEA2534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a restriction by which a new system must be able to cope with suffici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FA5-683A-49AE-B151-39F511E77C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important constraint to think about when developing a new system i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sts are often difficult to estimate accur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any real life situations, people often are overly optim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70-AE59-466D-A6EE-716B64C6FB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s need to include hardware, software and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ther costs which are not so obvious – any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(changing over the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DB7-A314-4689-9A3B-3AA0010946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forget many of the costs will be balanced out (and then some more) if the system is a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taff should b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5BE5-7CA4-442D-83F0-FA8F3A4C4A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057-C1CB-4F37-B901-334DAFCFA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9-21T14:30:47Z</dcterms:modified>
  <cp:revision>37</cp:revision>
  <dc:subject/>
  <dc:title>Computer Platforms Week 1</dc:title>
</cp:coreProperties>
</file>