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070-B354-4B1C-AA0E-59CBBB02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E72-6B9F-450B-BCB0-FA56EEBA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099-298C-4509-9678-3C7B6EDB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AA4-5037-451A-B239-E82638BF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75E5-958F-4F6B-842E-DB9325F3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4D93-C837-45CF-8A39-3339C7F9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9933-7541-4845-A967-18EF8486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8734-479C-4D7A-868B-96EFE503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3508-FBCE-4DE2-9FAB-10C16B47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A8FC-CAAF-468F-B6D7-DF9BA823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DE03-7A58-451C-A10E-E03DA74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47F-B9B7-4D8D-BB89-5B36DC5E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699C-1AB2-4555-BFE6-F72DD1DD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904E-2F50-493E-BFCF-F9B32CE8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E6A7-4752-4B26-808B-96EC3FF1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BED7-3666-430A-9B43-6CDB5AE6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0D2A-0C96-491D-9A50-6322FD40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D77-9F97-48C2-A632-B01135F1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D34-C4CE-4A2C-B653-05DD732B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D61-469D-4BBB-BFF6-4FDDC8A8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63A-87CC-4F57-8282-1DFF44A5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A7A-2B80-4A51-852E-8958F39B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767-EA8C-4F10-AFD4-55C2DDE0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3BF-CDC0-4B9B-9016-FFBB104F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7A2A-0ABB-4FE3-BE45-4DCCAF633B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C3B4-F3D9-4C8F-882B-5FFE783F49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TEC NATIONAL DIPLO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92E2-050B-4AEC-BEF4-14A4CC7659C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DFE-CB83-4A86-AB80-151A7D10C7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ts and by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uter only understands the numb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rue or false, or whether a swit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ll those 1s and 0s 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dig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ade up of 8 bits) is enough computer memory to store a single character of data (e.g. the letter 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 a byte is known as a nibble (made up of 4 b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de, for instance, the letter F is 70 and has a bit pattern of 01000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033-2243-414A-8385-BEC5FCDF70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4360" y="1268280"/>
          <a:ext cx="2693880" cy="54072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219240"/>
                <a:gridCol w="615960"/>
                <a:gridCol w="639720"/>
              </a:tblGrid>
              <a:tr h="642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II for Capital Let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778200" y="15969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ica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ndard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de fo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formatio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terchange (ask-ee) is a code which represents English characters as numbers. Each letter is assigned a number. For example, A = 6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4149720"/>
            <a:ext cx="46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puters use ASCII codes. This makes it possible to transfer data from one computer to another by changing the ASCII code into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patte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9F6-26A9-4AFC-8F3D-C0DA863DA8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e write numbers in the decimal system, we write them in columns. Each column is ten times bigger than the one before (right to lef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276640"/>
          <a:ext cx="8516880" cy="1266840"/>
        </p:xfrm>
        <a:graphic>
          <a:graphicData uri="http://schemas.openxmlformats.org/drawingml/2006/table">
            <a:tbl>
              <a:tblPr/>
              <a:tblGrid>
                <a:gridCol w="1297080"/>
                <a:gridCol w="1150920"/>
                <a:gridCol w="1352520"/>
                <a:gridCol w="1243080"/>
                <a:gridCol w="919080"/>
                <a:gridCol w="1157400"/>
                <a:gridCol w="715680"/>
                <a:gridCol w="68112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95280" y="364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1000 plus 10 = 10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47840" y="4221000"/>
          <a:ext cx="8516880" cy="1216080"/>
        </p:xfrm>
        <a:graphic>
          <a:graphicData uri="http://schemas.openxmlformats.org/drawingml/2006/table">
            <a:tbl>
              <a:tblPr/>
              <a:tblGrid>
                <a:gridCol w="1415880"/>
                <a:gridCol w="1208160"/>
                <a:gridCol w="1176120"/>
                <a:gridCol w="1243080"/>
                <a:gridCol w="919440"/>
                <a:gridCol w="1157040"/>
                <a:gridCol w="716040"/>
                <a:gridCol w="681120"/>
              </a:tblGrid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24000" y="558972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0000 plus 1000 plus 10 = 11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B68-7E11-41F4-97F8-D88A79F21A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620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verything is based on 2s, not 10s, so each column is twice as big as the one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989000"/>
          <a:ext cx="8496000" cy="117468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2400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binary is 8 plus 2 = 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4076640"/>
          <a:ext cx="8496000" cy="118080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363240" y="55641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6 plus 8 plus 2 = 2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59C-E3CF-4520-8F7A-FB248B3870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have a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E06-D2E9-497B-A0C6-A91E7E7852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8985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mputer data is stored in binary for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not only includes text, but images, sounds and movies as w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920" y="2276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complex the data, the more memory is used to store it.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58920" y="3213000"/>
            <a:ext cx="3382920" cy="1911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60720" y="5229360"/>
            <a:ext cx="35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does not take up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memor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06680" y="5564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005440" y="3213000"/>
            <a:ext cx="3382920" cy="2003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AF5-5EDF-4BEA-8B47-C8EC4AC0CC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iscusse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E49-C2DA-49E2-B444-2B53E6CD4C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10-03-09T12:02:09Z</dcterms:modified>
  <cp:revision>21</cp:revision>
  <dc:subject/>
  <dc:title>Computer Platforms Week 1</dc:title>
</cp:coreProperties>
</file>