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FEF-1E51-4F9C-B42A-990D0431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339-A8EB-4630-B272-8085010A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B0B-D38A-4E8E-B72B-1007BBFF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111-6934-4F2C-9812-84A50C37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353D-07F1-4C6E-B794-C3D87DAC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5D64-5632-4195-B131-D0782A80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5301-A3D2-41B7-BD75-02ADC375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AF0C-3C0D-4967-B6B8-1B8E3396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98BA-8FB7-4D77-8C54-10DAFB65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0B97-EABB-49CF-A978-C7307516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ECF6-372C-49B0-81B7-0DCDE580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96F-BC50-4272-AA0E-1DB6E7D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1FB5-C5EA-4931-8683-6E69CC1C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14F-CE75-43EB-80CB-AA2296A1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47E4-3A2A-4711-B703-57F2BBD7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E90B-3138-4644-B4A4-36B5CA45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BAED-649A-4929-A00F-3C8A0648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594-745D-4595-A338-379EECEB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E4E-F83D-4F33-9C06-77140F7E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480-C2EB-42E6-90A4-FC2B4C96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91F-0594-4E59-BC99-00EC820D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7A0-5DB4-40F0-80AF-F70D7FF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147-BCB5-400B-BCC8-AE898BE5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255-F47C-4441-B76E-169C30C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3ABF-5C51-4785-8B0A-101C886EA7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D344-403C-4FD2-9BF7-1440955A61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TEC NATIONAL DIPL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9C38-064D-4F14-9D8B-EC58785AA60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900-56F3-4CB4-BB5D-225656463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s and by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 only understands the numb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rue or false, or whether a swit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ose 1s and 0s 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de up of 8 bits) is enough computer memory to store a single character of data (e.g. the letter 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 a byte is known as a nibble (made up of 4 b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de, for instance, the letter F is 70 and has a bit pattern of 01000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742-B472-44D1-88DB-CD1AD720DC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1268280"/>
          <a:ext cx="2693880" cy="54072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219240"/>
                <a:gridCol w="615960"/>
                <a:gridCol w="639720"/>
              </a:tblGrid>
              <a:tr h="642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II for Capital Let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778200" y="15969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ica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ndard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de f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formati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terchange (ask-ee) is a code which represents English characters as numbers. Each letter is assigned a number. For example, A = 6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4149720"/>
            <a:ext cx="46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puters use ASCII codes. This makes it possible to transfer data from one computer to another by changing the ASCII code into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patte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AC0-4042-4ED5-94D5-5DD8FD9B6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write numbers in the decimal system, we write them in columns. Each column is ten times bigger than the one before (right to lef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76640"/>
          <a:ext cx="8516880" cy="1266840"/>
        </p:xfrm>
        <a:graphic>
          <a:graphicData uri="http://schemas.openxmlformats.org/drawingml/2006/table">
            <a:tbl>
              <a:tblPr/>
              <a:tblGrid>
                <a:gridCol w="1297080"/>
                <a:gridCol w="1150920"/>
                <a:gridCol w="1352520"/>
                <a:gridCol w="1243080"/>
                <a:gridCol w="919080"/>
                <a:gridCol w="1157400"/>
                <a:gridCol w="715680"/>
                <a:gridCol w="68112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95280" y="364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1000 plus 10 = 10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7840" y="4221000"/>
          <a:ext cx="8516880" cy="1216080"/>
        </p:xfrm>
        <a:graphic>
          <a:graphicData uri="http://schemas.openxmlformats.org/drawingml/2006/table">
            <a:tbl>
              <a:tblPr/>
              <a:tblGrid>
                <a:gridCol w="1415880"/>
                <a:gridCol w="1208160"/>
                <a:gridCol w="1176120"/>
                <a:gridCol w="1243080"/>
                <a:gridCol w="919440"/>
                <a:gridCol w="1157040"/>
                <a:gridCol w="716040"/>
                <a:gridCol w="681120"/>
              </a:tblGrid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24000" y="55897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0000 plus 1000 plus 10 = 11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585-DE8D-4EE0-A165-FEC1978C79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62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verything is based on 2s, not 10s, so each column is twice as big as the one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989000"/>
          <a:ext cx="8496000" cy="117468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2400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binary is 8 plus 2 = 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4076640"/>
          <a:ext cx="8496000" cy="118080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363240" y="55641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6 plus 8 plus 2 = 2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F05-BF3C-45EC-A8F3-41A9E525D2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have a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D78-E580-49CA-90CC-D299EBE699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8985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puter data is stored in binary for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not only includes text, but images, sounds and movies as w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920" y="227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complex the data, the more memory is used to store it.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8920" y="3213000"/>
            <a:ext cx="3382920" cy="191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60720" y="522936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oes not take up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memor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06680" y="5564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005440" y="3213000"/>
            <a:ext cx="3382920" cy="2003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86A-E70A-4C79-9F52-C7A71A4DB3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E76-DB6E-4CA0-AE73-75036DD06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10-03-09T12:02:09Z</dcterms:modified>
  <cp:revision>21</cp:revision>
  <dc:subject/>
  <dc:title>Computer Platforms Week 1</dc:title>
</cp:coreProperties>
</file>