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B99-5C96-45A1-BB43-23DA94E4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CEC-B556-448D-BCA3-DA0FF4BC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FC7-43B3-4C8B-97C6-9F56DA7A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CE5-069A-4175-95D8-F41C368E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12DC-F6C6-4700-BAB9-103715FF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E209-84DF-4FB5-8484-0F421EEB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E883-9A5E-4AB8-8D77-470F6A64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CED0-84BE-4C69-AFB0-6F43764C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5937-B683-4683-9503-F9E814F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B79-2B3B-4349-952F-856C9DF0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5BA4-7118-4606-B60C-A8E04D4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B319-569C-4AA0-9CDA-8696E208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6E80-5C9C-4E1E-B97E-C45A417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362E-C53A-4A19-A423-178E3FA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4521-4447-4B71-864E-F6C4B5B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74F8-8CC4-40EF-8BF1-D3B61B84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D559-90E3-470A-8A93-160F8610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76B-D3EE-41C8-B826-3D5E782C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606-A042-440F-94FB-CBB0932A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DDA-58AD-4348-BBB7-712F3DB4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DA1-106C-474D-A884-C63350AF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A43-9FB4-477C-A8DE-449D77AB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6C6-4F71-43A6-9AE9-7102F937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FB7-3C28-4821-8CBF-86AC9123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107C-ABB8-44C7-ACEF-6FE995F4FC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F163-855D-47BD-844B-CE3CD2946A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TEC NATIONAL DIPLOM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n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FB1D-7BC6-43D1-8C1B-8A9D9EEDBA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ble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93D-6FDC-46C0-89F6-1265D4493F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ts and by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 only understands the numbe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true or false, or whether a swit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ll those 1s and 0s 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de up of 8 bits) is enough computer memory to store a single character of data (e.g. the letter 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 a byte is known as a nibble (made up of 4 bi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de, for instance, the letter F is 70 and has a bit pattern of 01000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2BD-4FDB-4D9D-8B08-DF7A80A2F9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1268280"/>
          <a:ext cx="2693880" cy="54072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219240"/>
                <a:gridCol w="615960"/>
                <a:gridCol w="639720"/>
              </a:tblGrid>
              <a:tr h="6426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 for Capital Le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3778200" y="15969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ndard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d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formation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terchange (ask-ee) is a code which represents English characters as numbers. Each letter is assigned a number. For example, A = 6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4149720"/>
            <a:ext cx="46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puters use ASCII codes. This makes it possible to transfer data from one computer to another by changing the ASCII code int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patte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4DF-22E2-40F6-8C24-B89368EBF6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052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e write numbers in the decimal system, we write them in columns. Each column is ten times bigger than the one before (right to lef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2276640"/>
          <a:ext cx="8516880" cy="1266840"/>
        </p:xfrm>
        <a:graphic>
          <a:graphicData uri="http://schemas.openxmlformats.org/drawingml/2006/table">
            <a:tbl>
              <a:tblPr/>
              <a:tblGrid>
                <a:gridCol w="1297080"/>
                <a:gridCol w="1150920"/>
                <a:gridCol w="1352520"/>
                <a:gridCol w="1243080"/>
                <a:gridCol w="919080"/>
                <a:gridCol w="1157400"/>
                <a:gridCol w="715680"/>
                <a:gridCol w="68112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95280" y="3645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1000 plus 10 = 10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7840" y="4221000"/>
          <a:ext cx="8516880" cy="1216080"/>
        </p:xfrm>
        <a:graphic>
          <a:graphicData uri="http://schemas.openxmlformats.org/drawingml/2006/table">
            <a:tbl>
              <a:tblPr/>
              <a:tblGrid>
                <a:gridCol w="1415880"/>
                <a:gridCol w="1208160"/>
                <a:gridCol w="1176120"/>
                <a:gridCol w="1243080"/>
                <a:gridCol w="919440"/>
                <a:gridCol w="1157040"/>
                <a:gridCol w="716040"/>
                <a:gridCol w="681120"/>
              </a:tblGrid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 of 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24000" y="5589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0000 plus 1000 plus 10 = 11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4BF-4A9E-40F4-86B7-3BBF150C68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620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ary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verything is based on 2s, not 10s, so each column is twice as big as the one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989000"/>
          <a:ext cx="8496000" cy="117468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324000" y="335772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binary is 8 plus 2 = 10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4076640"/>
          <a:ext cx="8496000" cy="1180800"/>
        </p:xfrm>
        <a:graphic>
          <a:graphicData uri="http://schemas.openxmlformats.org/drawingml/2006/table">
            <a:tbl>
              <a:tblPr/>
              <a:tblGrid>
                <a:gridCol w="1412640"/>
                <a:gridCol w="1204920"/>
                <a:gridCol w="1173240"/>
                <a:gridCol w="1239840"/>
                <a:gridCol w="917640"/>
                <a:gridCol w="966600"/>
                <a:gridCol w="976320"/>
                <a:gridCol w="6048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363240" y="55641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0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16 plus 8 plus 2 = 2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B6F-A52E-42D8-95B2-F10CB2C516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have a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08F-E6E3-4B4C-BAC9-16A1935B96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data stored?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8985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mputer data is stored in binary for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not only includes text, but images, sounds and movies as w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920" y="227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complex the data, the more memory is used to store it.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8920" y="3213000"/>
            <a:ext cx="3382920" cy="1911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60720" y="5229360"/>
            <a:ext cx="35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does not take up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memor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06680" y="5564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005440" y="3213000"/>
            <a:ext cx="3382920" cy="2003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BB7-7DBD-423C-8442-FE5421F48E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how data is sto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binary system to represent ASCII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ING - COMPUTER PLATFOR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899-EB02-4196-B693-9004C5718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10-03-09T12:02:09Z</dcterms:modified>
  <cp:revision>21</cp:revision>
  <dc:subject/>
  <dc:title>Computer Platforms Week 1</dc:title>
</cp:coreProperties>
</file>