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C8758-6CCE-4E94-842F-5FAC5EFB3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BF52E-7693-4C6D-AE0C-114A6AC72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55911-A8EC-4A9C-8400-966E55F46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5CA4C-02BB-4599-97EA-D1FFB8A59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1A72D-7267-4563-81CB-428251AAE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E846F-B844-499A-8968-4F8B72C0F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DEC5A-0848-464D-8CFB-70E123BDC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37E5D-7BD6-4286-8B0F-9FAA9808F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7A0D7-2F4C-4C70-9CF0-2745562AC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345E5-39AB-4F9D-9917-DAB7E0927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EDEEB-4971-4C99-A476-3E9D3813E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E5658-AC52-469E-BB4F-461296B14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6CE9-AB41-4AE6-853D-F9006EBDC0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haviour Mode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565360"/>
            <a:ext cx="6400800" cy="201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 are a number of models that predict the way in which an interface or user will beha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uxton’s three state model</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model is concerned with the pressure and dexterity with which users make movements using mice and touchpad'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nterface will need to be responsive whether the command is via the mouse, a touchpad on a laptop or a roller button in the keyboar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uiard’s Model</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uiard’s model of bimanual skill relates to the preferred method of interacting with computers and input devic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designing your interface you must consider the ease of use and you must not rely on the user always inputting data or mouse actions using a preferred h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ositioning on the interface must also be accessible and logically laid out if used by a left handed pers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uiard’s model identifies that users with two hands are unlikely to be able carry out similar actions to the same degree of effectiveness with either h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sk</a:t>
            </a:r>
            <a:endParaRPr b="0" lang="en-US" sz="4400" spc="-1" strike="noStrike">
              <a:solidFill>
                <a:srgbClr val="000000"/>
              </a:solidFill>
              <a:latin typeface="Arial"/>
            </a:endParaRPr>
          </a:p>
        </p:txBody>
      </p:sp>
      <p:sp>
        <p:nvSpPr>
          <p:cNvPr id="66" name="PlaceHolder 2"/>
          <p:cNvSpPr>
            <a:spLocks noGrp="1"/>
          </p:cNvSpPr>
          <p:nvPr>
            <p:ph/>
          </p:nvPr>
        </p:nvSpPr>
        <p:spPr>
          <a:xfrm>
            <a:off x="1835280" y="1600200"/>
            <a:ext cx="518472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earch the aforementioned behaviour models, taking notes, to consolidate your own understan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dictive Modelling</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dictive modelling is a way of pre-empting what will happen without having to carry out research and delay the introduction of the interface while lots of people test it ou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predictive model is an equation or calculation used to forecast an ev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Stroke level model (KL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LM recognises very low level actions. The model breaks down each sequence of operations into individual actions, such as hitting keys on the keyboard, clicking on the mouse, pointing the mouse , moving between using the mouse and the keyboard again. Each action is assigned a time in order to calculate how the system will respo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TP) Throughpu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P relates to the productivity of the computer. Throughout measures include the amount or speed of processing in response to a comm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ed process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ponse ti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tts’ Law</a:t>
            </a:r>
            <a:endParaRPr b="0" lang="en-US" sz="4400" spc="-1" strike="noStrike">
              <a:solidFill>
                <a:srgbClr val="000000"/>
              </a:solidFill>
              <a:latin typeface="Arial"/>
            </a:endParaRPr>
          </a:p>
        </p:txBody>
      </p:sp>
      <p:sp>
        <p:nvSpPr>
          <p:cNvPr id="50" name="PlaceHolder 2"/>
          <p:cNvSpPr>
            <a:spLocks noGrp="1"/>
          </p:cNvSpPr>
          <p:nvPr>
            <p:ph/>
          </p:nvPr>
        </p:nvSpPr>
        <p:spPr>
          <a:xfrm>
            <a:off x="468360" y="1413000"/>
            <a:ext cx="8229600" cy="518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tts’ law is a method for calculating throughput in advance for any system design by predicting humans movement and motion based on time and distance, called psychomotor behaviou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was developed in 1954 to counteract the assumption that the time taken to travel from A to B is based on the distance between two poi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tts’ law identified that time depends upon the size of the object to be moved and the size of the object with which to move i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time will vary according to the user, the location of an icon, menu or GUI, the click of the mouse or hitting a key and even the pressure appli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criptive modelling</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y action mod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xton's three state mod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uiard’s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action model ( KAM )</a:t>
            </a:r>
            <a:endParaRPr b="0" lang="en-US" sz="4400" spc="-1" strike="noStrike">
              <a:solidFill>
                <a:srgbClr val="000000"/>
              </a:solidFill>
              <a:latin typeface="Arial"/>
            </a:endParaRPr>
          </a:p>
        </p:txBody>
      </p:sp>
      <p:sp>
        <p:nvSpPr>
          <p:cNvPr id="55"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AM identifies the need to evaluate how the user will expect the computer to behave or react and how this may be different from how the computer actually reacts to command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g: a new user may find it difficult to log on using a password and username. A user may get frustrated when they think they have selected “Shift F” but the file menu appears because they have accidentally hit “Alt 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ther feedback examples include the depression and suppression of buttons on dialog boxes and invitations or steering to the next most likely command by highlighting a butt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4859280" y="3429000"/>
            <a:ext cx="2486160" cy="2314440"/>
          </a:xfrm>
          <a:prstGeom prst="rect">
            <a:avLst/>
          </a:prstGeom>
          <a:ln w="0">
            <a:noFill/>
          </a:ln>
        </p:spPr>
      </p:pic>
      <p:sp>
        <p:nvSpPr>
          <p:cNvPr id="58" name=""/>
          <p:cNvSpPr/>
          <p:nvPr/>
        </p:nvSpPr>
        <p:spPr>
          <a:xfrm flipH="1">
            <a:off x="7093080" y="5516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443640" y="5877000"/>
            <a:ext cx="230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 the highlight around this butt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17:33:15Z</dcterms:created>
  <dc:creator>IT Support</dc:creator>
  <dc:description/>
  <dc:language>en-US</dc:language>
  <cp:lastModifiedBy>IT Support</cp:lastModifiedBy>
  <dcterms:modified xsi:type="dcterms:W3CDTF">2009-01-25T19:09:09Z</dcterms:modified>
  <cp:revision>6</cp:revision>
  <dc:subject/>
  <dc:title>Behaviour Models</dc:title>
</cp:coreProperties>
</file>