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BA538-ECE5-4625-9153-E1BD2A0F1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C6261-B9A6-446A-B8B4-F5B5B8AFF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EBA27-475B-4AB6-B59B-FDDF228EF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E03D4-5A9C-4F1E-A258-8074A2580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2BE31-DAD8-48CA-B181-E0FF99BA1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EB82C-56F8-4EEE-97A9-29993DC5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DE70E-987C-4B9C-B625-47968B848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6CDA9-2284-49ED-812C-0075C1B5D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B5921-3F98-4DE8-95C4-B6E36746F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0D3BE-501E-4CFD-96EA-FCFA1E97A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F994-0B24-4811-9725-458E251B5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6F25-31C5-4B09-860B-F87B8E7A0E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EAD9-43EA-4EDB-9A05-B734035F5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haviour Mode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65360"/>
            <a:ext cx="640080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a number of models that predict the way in which an interface or user will beh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xton’s three state mode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odel is concerned with the pressure and dexterity with which users make movements using mice and touchpa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rface will need to be responsive whether the command is via the mouse, a touchpad on a laptop or a roller button in the keyboar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uiard’s Model</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of bimanual skill relates to the preferred method of interacting with computers and input devi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designing your interface you must consider the ease of use and you must not rely on the user always inputting data or mouse actions using a preferred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sitioning on the interface must also be accessible and logically laid out if used by a left handed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identifies that users with two hands are unlikely to be able carry out similar actions to the same degree of effectiveness with either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66" name="PlaceHolder 2"/>
          <p:cNvSpPr>
            <a:spLocks noGrp="1"/>
          </p:cNvSpPr>
          <p:nvPr>
            <p:ph/>
          </p:nvPr>
        </p:nvSpPr>
        <p:spPr>
          <a:xfrm>
            <a:off x="1835280" y="1600200"/>
            <a:ext cx="51847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the aforementioned behaviour models, taking notes, to consolidate your own understa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dictive Modell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tive modelling is a way of pre-empting what will happen without having to carry out research and delay the introduction of the interface while lots of people test it 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redictive model is an equation or calculation used to forecast an ev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Stroke level model (KL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LM recognises very low level actions. The model breaks down each sequence of operations into individual actions, such as hitting keys on the keyboard, clicking on the mouse, pointing the mouse , moving between using the mouse and the keyboard again. Each action is assigned a time in order to calculate how the system will respo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P) Throughpu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P relates to the productivity of the computer. Throughout measures include the amount or speed of processing in response to a comm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ed proces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pons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tts’ Law</a:t>
            </a:r>
            <a:endParaRPr b="0" lang="en-US" sz="4400" spc="-1" strike="noStrike">
              <a:solidFill>
                <a:srgbClr val="000000"/>
              </a:solidFill>
              <a:latin typeface="Arial"/>
            </a:endParaRPr>
          </a:p>
        </p:txBody>
      </p:sp>
      <p:sp>
        <p:nvSpPr>
          <p:cNvPr id="5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s a method for calculating throughput in advance for any system design by predicting humans movement and motion based on time and distance, called psychomotor behavi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as developed in 1954 to counteract the assumption that the time taken to travel from A to B is based on the distance between two poi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dentified that time depends upon the size of the object to be moved and the size of the object with which to move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ime will vary according to the user, the location of an icon, menu or GUI, the click of the mouse or hitting a key and even the pressure appli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criptive modell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y action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xton's three state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action model ( KAM )</a:t>
            </a:r>
            <a:endParaRPr b="0" lang="en-US" sz="4400" spc="-1" strike="noStrike">
              <a:solidFill>
                <a:srgbClr val="000000"/>
              </a:solidFill>
              <a:latin typeface="Arial"/>
            </a:endParaRPr>
          </a:p>
        </p:txBody>
      </p:sp>
      <p:sp>
        <p:nvSpPr>
          <p:cNvPr id="5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AM identifies the need to evaluate how the user will expect the computer to behave or react and how this may be different from how the computer actually reacts to command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 new user may find it difficult to log on using a password and username. A user may get frustrated when they think they have selected “Shift F” but the file menu appears because they have accidentally hit “Alt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feedback examples include the depression and suppression of buttons on dialog boxes and invitations or steering to the next most likely command by highlighting a butt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4859280" y="3429000"/>
            <a:ext cx="2486160" cy="2314440"/>
          </a:xfrm>
          <a:prstGeom prst="rect">
            <a:avLst/>
          </a:prstGeom>
          <a:ln w="0">
            <a:noFill/>
          </a:ln>
        </p:spPr>
      </p:pic>
      <p:sp>
        <p:nvSpPr>
          <p:cNvPr id="58" name=""/>
          <p:cNvSpPr/>
          <p:nvPr/>
        </p:nvSpPr>
        <p:spPr>
          <a:xfrm flipH="1">
            <a:off x="7093080" y="5516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43640" y="587700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highlight around this butt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7:33:15Z</dcterms:created>
  <dc:creator>IT Support</dc:creator>
  <dc:description/>
  <dc:language>en-US</dc:language>
  <cp:lastModifiedBy>IT Support</cp:lastModifiedBy>
  <dcterms:modified xsi:type="dcterms:W3CDTF">2009-01-25T19:09:09Z</dcterms:modified>
  <cp:revision>6</cp:revision>
  <dc:subject/>
  <dc:title>Behaviour Models</dc:title>
</cp:coreProperties>
</file>